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DA53-C0F7-4A17-9483-76E84799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9E29-4F56-4461-903B-9FB4F5A0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2A17-AD68-423B-A6E8-10E457DE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8320-F53A-49CA-8916-CD26EE8C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B336-3C5B-4385-9711-EA5A9285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5056-3063-4D3E-B3F9-6EB91638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617C-0DC1-4D15-92A2-30F1C671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B9A6-6B3E-4CA8-9361-58AC2A6B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3031-EE8E-4D42-8972-25EE7E64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8FB3-7F7F-4C46-BF9A-56CF244C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F0E7-E414-4A43-B0D3-E3874209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044A-57AD-42E1-BCE4-3F7B13A0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8B28-2E19-40C9-ACAA-B4426115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7B60-1021-43D1-B60F-2D79F1BD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901F-C9D2-464B-9C26-6B8F37AF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CCCC-9BFB-45C7-9680-C582EB4F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1B9C-91B3-4E0F-963E-1A7EF34E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3C50B-F59E-4EF7-80DE-374CE7E9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6DE17-78CB-483A-8145-0556150D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46D51-E02C-487C-AA26-A32ABC8F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5C7FC-A584-45B1-85B2-2BF82441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B922C-67AB-4986-ADD3-93056CC8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484C-A03C-4639-8161-5351143B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1DA91-818D-442D-9677-B52260B6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51CB4-A35C-49DA-99AF-14C49DDA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852BF-6984-498E-AEE6-D6FB07FC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11951-9666-41CD-A0AF-B8896275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04C23-ACAD-4FDD-8B9C-E4E138BA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8FDC6-4D57-41B6-B590-7B12157C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8C569-1C7B-42EF-8927-25928DD4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553D-2AA2-4D94-83E9-6227CDDA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1AB-CD14-4967-A7CC-9B94AE6E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4F4F-381D-464A-AC96-FA581D9C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4723-62FA-4B5B-85A1-7CC830CF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F777-BCEC-4E12-B084-3166A991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317-EFEA-4F3A-B5BE-60585E01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C7C8-B07F-4E66-89A4-59DD169B1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3BCC-97C1-49A8-8650-4AB6DC8F2A6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3DE7-9AF5-43B0-8631-CCCDFBE4221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6.xml"/><Relationship Id="rId14" Type="http://schemas.openxmlformats.org/officeDocument/2006/relationships/slide" Target="slide20.xml"/><Relationship Id="rId15" Type="http://schemas.openxmlformats.org/officeDocument/2006/relationships/slide" Target="slide20.xml"/><Relationship Id="rId16" Type="http://schemas.openxmlformats.org/officeDocument/2006/relationships/slide" Target="slide20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slide" Target="slide21.xml"/><Relationship Id="rId22" Type="http://schemas.openxmlformats.org/officeDocument/2006/relationships/slide" Target="slide27.xml"/><Relationship Id="rId23" Type="http://schemas.openxmlformats.org/officeDocument/2006/relationships/slide" Target="slide27.xml"/><Relationship Id="rId24" Type="http://schemas.openxmlformats.org/officeDocument/2006/relationships/slide" Target="slide27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29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0.xml"/><Relationship Id="rId31" Type="http://schemas.openxmlformats.org/officeDocument/2006/relationships/slide" Target="slide36.xml"/><Relationship Id="rId32" Type="http://schemas.openxmlformats.org/officeDocument/2006/relationships/slide" Target="slide36.xml"/><Relationship Id="rId33" Type="http://schemas.openxmlformats.org/officeDocument/2006/relationships/slide" Target="slide36.xml"/><Relationship Id="rId34" Type="http://schemas.openxmlformats.org/officeDocument/2006/relationships/slide" Target="slide36.xml"/><Relationship Id="rId35" Type="http://schemas.openxmlformats.org/officeDocument/2006/relationships/slide" Target="slide39.xml"/><Relationship Id="rId36" Type="http://schemas.openxmlformats.org/officeDocument/2006/relationships/slide" Target="slide39.xml"/><Relationship Id="rId37" Type="http://schemas.openxmlformats.org/officeDocument/2006/relationships/slide" Target="slide39.xml"/><Relationship Id="rId38" Type="http://schemas.openxmlformats.org/officeDocument/2006/relationships/slide" Target="slide39.xml"/><Relationship Id="rId39" Type="http://schemas.openxmlformats.org/officeDocument/2006/relationships/slide" Target="slide46.xml"/><Relationship Id="rId40" Type="http://schemas.openxmlformats.org/officeDocument/2006/relationships/slide" Target="slide46.xml"/><Relationship Id="rId41" Type="http://schemas.openxmlformats.org/officeDocument/2006/relationships/slide" Target="slide46.xml"/><Relationship Id="rId42" Type="http://schemas.openxmlformats.org/officeDocument/2006/relationships/slide" Target="slide46.xml"/><Relationship Id="rId43" Type="http://schemas.openxmlformats.org/officeDocument/2006/relationships/slide" Target="slide48.xml"/><Relationship Id="rId44" Type="http://schemas.openxmlformats.org/officeDocument/2006/relationships/slide" Target="slide48.xml"/><Relationship Id="rId45" Type="http://schemas.openxmlformats.org/officeDocument/2006/relationships/slide" Target="slide48.xml"/><Relationship Id="rId46" Type="http://schemas.openxmlformats.org/officeDocument/2006/relationships/slide" Target="slide48.xml"/><Relationship Id="rId47" Type="http://schemas.openxmlformats.org/officeDocument/2006/relationships/slide" Target="slide49.xml"/><Relationship Id="rId48" Type="http://schemas.openxmlformats.org/officeDocument/2006/relationships/slide" Target="slide49.xml"/><Relationship Id="rId49" Type="http://schemas.openxmlformats.org/officeDocument/2006/relationships/slide" Target="slide49.xml"/><Relationship Id="rId50" Type="http://schemas.openxmlformats.org/officeDocument/2006/relationships/slide" Target="slide49.xml"/><Relationship Id="rId51" Type="http://schemas.openxmlformats.org/officeDocument/2006/relationships/slide" Target="slide50.xml"/><Relationship Id="rId52" Type="http://schemas.openxmlformats.org/officeDocument/2006/relationships/slide" Target="slide50.xml"/><Relationship Id="rId53" Type="http://schemas.openxmlformats.org/officeDocument/2006/relationships/slide" Target="slide56.xml"/><Relationship Id="rId54" Type="http://schemas.openxmlformats.org/officeDocument/2006/relationships/slide" Target="slide56.xml"/><Relationship Id="rId55" Type="http://schemas.openxmlformats.org/officeDocument/2006/relationships/slide" Target="slide56.xml"/><Relationship Id="rId56" Type="http://schemas.openxmlformats.org/officeDocument/2006/relationships/slide" Target="slide56.xml"/><Relationship Id="rId57" Type="http://schemas.openxmlformats.org/officeDocument/2006/relationships/slide" Target="slide64.xml"/><Relationship Id="rId58" Type="http://schemas.openxmlformats.org/officeDocument/2006/relationships/slide" Target="slide64.xml"/><Relationship Id="rId59" Type="http://schemas.openxmlformats.org/officeDocument/2006/relationships/slide" Target="slide66.xml"/><Relationship Id="rId60" Type="http://schemas.openxmlformats.org/officeDocument/2006/relationships/slide" Target="slide66.xml"/><Relationship Id="rId61" Type="http://schemas.openxmlformats.org/officeDocument/2006/relationships/slide" Target="slide66.xml"/><Relationship Id="rId62" Type="http://schemas.openxmlformats.org/officeDocument/2006/relationships/slide" Target="slide66.xml"/><Relationship Id="rId63" Type="http://schemas.openxmlformats.org/officeDocument/2006/relationships/slide" Target="slide66.xml"/><Relationship Id="rId64" Type="http://schemas.openxmlformats.org/officeDocument/2006/relationships/slide" Target="slide67.xml"/><Relationship Id="rId65" Type="http://schemas.openxmlformats.org/officeDocument/2006/relationships/slide" Target="slide67.xml"/><Relationship Id="rId66" Type="http://schemas.openxmlformats.org/officeDocument/2006/relationships/slide" Target="slide70.xml"/><Relationship Id="rId67" Type="http://schemas.openxmlformats.org/officeDocument/2006/relationships/slide" Target="slide70.xml"/><Relationship Id="rId68" Type="http://schemas.openxmlformats.org/officeDocument/2006/relationships/slide" Target="slide70.xml"/><Relationship Id="rId69" Type="http://schemas.openxmlformats.org/officeDocument/2006/relationships/slide" Target="slide70.xml"/><Relationship Id="rId70" Type="http://schemas.openxmlformats.org/officeDocument/2006/relationships/slide" Target="slide70.xml"/><Relationship Id="rId71" Type="http://schemas.openxmlformats.org/officeDocument/2006/relationships/slide" Target="slide70.xml"/><Relationship Id="rId72" Type="http://schemas.openxmlformats.org/officeDocument/2006/relationships/slide" Target="slide70.xml"/><Relationship Id="rId73" Type="http://schemas.openxmlformats.org/officeDocument/2006/relationships/slide" Target="slide70.xml"/><Relationship Id="rId74" Type="http://schemas.openxmlformats.org/officeDocument/2006/relationships/slide" Target="slide70.xml"/><Relationship Id="rId75" Type="http://schemas.openxmlformats.org/officeDocument/2006/relationships/slide" Target="slide70.xml"/><Relationship Id="rId76" Type="http://schemas.openxmlformats.org/officeDocument/2006/relationships/slide" Target="slide72.xml"/><Relationship Id="rId77" Type="http://schemas.openxmlformats.org/officeDocument/2006/relationships/slide" Target="slide72.xml"/><Relationship Id="rId78" Type="http://schemas.openxmlformats.org/officeDocument/2006/relationships/slide" Target="slide72.xml"/><Relationship Id="rId79" Type="http://schemas.openxmlformats.org/officeDocument/2006/relationships/slide" Target="slide74.xml"/><Relationship Id="rId80" Type="http://schemas.openxmlformats.org/officeDocument/2006/relationships/slide" Target="slide74.xml"/><Relationship Id="rId81" Type="http://schemas.openxmlformats.org/officeDocument/2006/relationships/slide" Target="slide74.xml"/><Relationship Id="rId82" Type="http://schemas.openxmlformats.org/officeDocument/2006/relationships/slide" Target="slide74.xml"/><Relationship Id="rId83" Type="http://schemas.openxmlformats.org/officeDocument/2006/relationships/slide" Target="slide76.xml"/><Relationship Id="rId84" Type="http://schemas.openxmlformats.org/officeDocument/2006/relationships/slide" Target="slide76.xml"/><Relationship Id="rId85" Type="http://schemas.openxmlformats.org/officeDocument/2006/relationships/slide" Target="slide76.xml"/><Relationship Id="rId86" Type="http://schemas.openxmlformats.org/officeDocument/2006/relationships/slide" Target="slide76.xml"/><Relationship Id="rId87" Type="http://schemas.openxmlformats.org/officeDocument/2006/relationships/slide" Target="slide81.xml"/><Relationship Id="rId88" Type="http://schemas.openxmlformats.org/officeDocument/2006/relationships/slide" Target="slide81.xml"/><Relationship Id="rId89" Type="http://schemas.openxmlformats.org/officeDocument/2006/relationships/slide" Target="slide81.xml"/><Relationship Id="rId90" Type="http://schemas.openxmlformats.org/officeDocument/2006/relationships/slide" Target="slide81.xml"/><Relationship Id="rId91" Type="http://schemas.openxmlformats.org/officeDocument/2006/relationships/slide" Target="slide83.xml"/><Relationship Id="rId92" Type="http://schemas.openxmlformats.org/officeDocument/2006/relationships/slide" Target="slide83.xml"/><Relationship Id="rId93" Type="http://schemas.openxmlformats.org/officeDocument/2006/relationships/slide" Target="slide83.xml"/><Relationship Id="rId94" Type="http://schemas.openxmlformats.org/officeDocument/2006/relationships/slide" Target="slide83.xml"/><Relationship Id="rId95" Type="http://schemas.openxmlformats.org/officeDocument/2006/relationships/slide" Target="slide85.xml"/><Relationship Id="rId96" Type="http://schemas.openxmlformats.org/officeDocument/2006/relationships/slide" Target="slide85.xml"/><Relationship Id="rId97" Type="http://schemas.openxmlformats.org/officeDocument/2006/relationships/slide" Target="slide85.xml"/><Relationship Id="rId98" Type="http://schemas.openxmlformats.org/officeDocument/2006/relationships/slide" Target="slide85.xml"/><Relationship Id="rId99" Type="http://schemas.openxmlformats.org/officeDocument/2006/relationships/slide" Target="slide88.xml"/><Relationship Id="rId100" Type="http://schemas.openxmlformats.org/officeDocument/2006/relationships/slide" Target="slide88.xml"/><Relationship Id="rId101" Type="http://schemas.openxmlformats.org/officeDocument/2006/relationships/slide" Target="slide88.xml"/><Relationship Id="rId102" Type="http://schemas.openxmlformats.org/officeDocument/2006/relationships/slide" Target="slide88.xml"/><Relationship Id="rId103" Type="http://schemas.openxmlformats.org/officeDocument/2006/relationships/slide" Target="slide90.xml"/><Relationship Id="rId104" Type="http://schemas.openxmlformats.org/officeDocument/2006/relationships/slide" Target="slide90.xml"/><Relationship Id="rId105" Type="http://schemas.openxmlformats.org/officeDocument/2006/relationships/slide" Target="slide90.xml"/><Relationship Id="rId106" Type="http://schemas.openxmlformats.org/officeDocument/2006/relationships/slide" Target="slide90.xml"/><Relationship Id="rId107" Type="http://schemas.openxmlformats.org/officeDocument/2006/relationships/slide" Target="slide92.xml"/><Relationship Id="rId108" Type="http://schemas.openxmlformats.org/officeDocument/2006/relationships/slide" Target="slide92.xml"/><Relationship Id="rId109" Type="http://schemas.openxmlformats.org/officeDocument/2006/relationships/slide" Target="slide92.xml"/><Relationship Id="rId110" Type="http://schemas.openxmlformats.org/officeDocument/2006/relationships/slide" Target="slide92.xml"/><Relationship Id="rId111" Type="http://schemas.openxmlformats.org/officeDocument/2006/relationships/slide" Target="slide95.xml"/><Relationship Id="rId112" Type="http://schemas.openxmlformats.org/officeDocument/2006/relationships/slide" Target="slide95.xml"/><Relationship Id="rId113" Type="http://schemas.openxmlformats.org/officeDocument/2006/relationships/slide" Target="slide95.xml"/><Relationship Id="rId114" Type="http://schemas.openxmlformats.org/officeDocument/2006/relationships/slide" Target="slide95.xml"/><Relationship Id="rId115" Type="http://schemas.openxmlformats.org/officeDocument/2006/relationships/slide" Target="slide95.xml"/><Relationship Id="rId116" Type="http://schemas.openxmlformats.org/officeDocument/2006/relationships/slide" Target="slide98.xml"/><Relationship Id="rId117" Type="http://schemas.openxmlformats.org/officeDocument/2006/relationships/slide" Target="slide98.xml"/><Relationship Id="rId118" Type="http://schemas.openxmlformats.org/officeDocument/2006/relationships/slide" Target="slide98.xml"/><Relationship Id="rId119" Type="http://schemas.openxmlformats.org/officeDocument/2006/relationships/slide" Target="slide98.xml"/><Relationship Id="rId120" Type="http://schemas.openxmlformats.org/officeDocument/2006/relationships/slide" Target="slide98.xml"/><Relationship Id="rId121" Type="http://schemas.openxmlformats.org/officeDocument/2006/relationships/slide" Target="slide104.xml"/><Relationship Id="rId122" Type="http://schemas.openxmlformats.org/officeDocument/2006/relationships/slide" Target="slide104.xml"/><Relationship Id="rId123" Type="http://schemas.openxmlformats.org/officeDocument/2006/relationships/slide" Target="slide104.xml"/><Relationship Id="rId124" Type="http://schemas.openxmlformats.org/officeDocument/2006/relationships/slide" Target="slide104.xml"/><Relationship Id="rId125" Type="http://schemas.openxmlformats.org/officeDocument/2006/relationships/slide" Target="slide104.xml"/><Relationship Id="rId126" Type="http://schemas.openxmlformats.org/officeDocument/2006/relationships/slide" Target="slide110.xml"/><Relationship Id="rId127" Type="http://schemas.openxmlformats.org/officeDocument/2006/relationships/slide" Target="slide110.xml"/><Relationship Id="rId128" Type="http://schemas.openxmlformats.org/officeDocument/2006/relationships/slide" Target="slide124.xml"/><Relationship Id="rId129" Type="http://schemas.openxmlformats.org/officeDocument/2006/relationships/slide" Target="slide124.xml"/><Relationship Id="rId130" Type="http://schemas.openxmlformats.org/officeDocument/2006/relationships/slide" Target="slide134.xml"/><Relationship Id="rId131" Type="http://schemas.openxmlformats.org/officeDocument/2006/relationships/slide" Target="slide134.xml"/><Relationship Id="rId132" Type="http://schemas.openxmlformats.org/officeDocument/2006/relationships/slide" Target="slide134.xml"/><Relationship Id="rId133" Type="http://schemas.openxmlformats.org/officeDocument/2006/relationships/slide" Target="slide135.xml"/><Relationship Id="rId134" Type="http://schemas.openxmlformats.org/officeDocument/2006/relationships/slide" Target="slide135.xml"/><Relationship Id="rId135" Type="http://schemas.openxmlformats.org/officeDocument/2006/relationships/slide" Target="slide146.xml"/><Relationship Id="rId136" Type="http://schemas.openxmlformats.org/officeDocument/2006/relationships/slide" Target="slide146.xml"/><Relationship Id="rId137" Type="http://schemas.openxmlformats.org/officeDocument/2006/relationships/slide" Target="slide149.xml"/><Relationship Id="rId138" Type="http://schemas.openxmlformats.org/officeDocument/2006/relationships/slide" Target="slide149.xml"/><Relationship Id="rId139" Type="http://schemas.openxmlformats.org/officeDocument/2006/relationships/slide" Target="slide153.xml"/><Relationship Id="rId140" Type="http://schemas.openxmlformats.org/officeDocument/2006/relationships/slide" Target="slide153.xml"/><Relationship Id="rId141" Type="http://schemas.openxmlformats.org/officeDocument/2006/relationships/slide" Target="slide163.xml"/><Relationship Id="rId142" Type="http://schemas.openxmlformats.org/officeDocument/2006/relationships/slide" Target="slide163.xml"/><Relationship Id="rId143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نواع الجُم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mple Senten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بسي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مركب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x Senten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معقدة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imple Sentenc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بسيط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ي الجملة التي تحتوي على فعل واحد فقط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ثا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bo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o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iding a bicyc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بسيط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boy riding a bicyc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ركب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جملة التي تتركب من جملتين بسيطتين لهما صلة ببعضهما البعض ولكل منهما معنى مستقل حيث يتم ربطهما بحرف عطف مثل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/ but /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nd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واو العطف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لهما علاقة بين بعضهم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med did his homework. Anas helped h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med did his homework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as helped h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ركب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لكن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عن  شيئين مختلفين أو متناقض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aled is rich.   He is un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aled is rich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 is un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                       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أو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يكون فيهما خي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play football.   We can watch T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play football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e can watch T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lex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عق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جملة التي تحتوي على أكثر من فعل واحد و مركبة من جملتين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أساس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وهي ثلاثة أنواع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ordinate Cla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ثانو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Noun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أسمية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djectival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وصفية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dverbial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ظرفية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ause &amp; Phrase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جملة و شبه الجمل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lause is a combination of words containing a verb and has a complete mea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جملة هي مجموعة كلمات تحتوي على فعل و لها معنى تام. مثال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saw the man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o was carrying a stick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hrase is a combination of words forming part of the sentence but without a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شبه الجملة عبارة عن مجموعة كلمات تكون جزءاً من الجملة بدون فعل. مثال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saw the man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arrying a stick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B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كون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كفعل رئيسي ومساعد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111320" y="2951280"/>
          <a:ext cx="7310520" cy="2928960"/>
        </p:xfrm>
        <a:graphic>
          <a:graphicData uri="http://schemas.openxmlformats.org/drawingml/2006/table">
            <a:tbl>
              <a:tblPr/>
              <a:tblGrid>
                <a:gridCol w="1633320"/>
                <a:gridCol w="1555920"/>
                <a:gridCol w="1787400"/>
                <a:gridCol w="233388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, They, Y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B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كون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مث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pup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grpSp>
          <p:nvGrpSpPr>
            <p:cNvPr id="238" name=""/>
            <p:cNvGrpSpPr/>
            <p:nvPr/>
          </p:nvGrpSpPr>
          <p:grpSpPr>
            <a:xfrm>
              <a:off x="3657600" y="6248520"/>
              <a:ext cx="2514600" cy="380880"/>
              <a:chOff x="3657600" y="6248520"/>
              <a:chExt cx="2514600" cy="380880"/>
            </a:xfrm>
          </p:grpSpPr>
          <p:sp>
            <p:nvSpPr>
              <p:cNvPr id="239" name="">
                <a:hlinkClick r:id="" action="ppaction://hlinkshowjump?jump=firstslide"/>
              </p:cNvPr>
              <p:cNvSpPr/>
              <p:nvPr/>
            </p:nvSpPr>
            <p:spPr>
              <a:xfrm>
                <a:off x="4267080" y="6248520"/>
                <a:ext cx="1295640" cy="380880"/>
              </a:xfrm>
              <a:custGeom>
                <a:avLst/>
                <a:gdLst>
                  <a:gd name="textAreaLeft" fmla="*/ 24480 w 1295640"/>
                  <a:gd name="textAreaRight" fmla="*/ 1271160 w 129564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73428" h="21600">
                    <a:moveTo>
                      <a:pt x="0" y="0"/>
                    </a:moveTo>
                    <a:lnTo>
                      <a:pt x="73428" y="0"/>
                    </a:lnTo>
                    <a:lnTo>
                      <a:pt x="73428" y="21600"/>
                    </a:lnTo>
                    <a:lnTo>
                      <a:pt x="0" y="21600"/>
                    </a:lnTo>
                    <a:close/>
                  </a:path>
                  <a:path fill="lightenLess" w="73428" h="21600">
                    <a:moveTo>
                      <a:pt x="0" y="0"/>
                    </a:moveTo>
                    <a:lnTo>
                      <a:pt x="73428" y="0"/>
                    </a:lnTo>
                    <a:lnTo>
                      <a:pt x="72028" y="1400"/>
                    </a:lnTo>
                    <a:lnTo>
                      <a:pt x="1400" y="1400"/>
                    </a:lnTo>
                    <a:close/>
                  </a:path>
                  <a:path fill="darken" w="73428" h="21600">
                    <a:moveTo>
                      <a:pt x="73428" y="0"/>
                    </a:moveTo>
                    <a:lnTo>
                      <a:pt x="73428" y="21600"/>
                    </a:lnTo>
                    <a:lnTo>
                      <a:pt x="72028" y="20200"/>
                    </a:lnTo>
                    <a:lnTo>
                      <a:pt x="72028" y="1400"/>
                    </a:lnTo>
                    <a:close/>
                  </a:path>
                  <a:path fill="darkenLess" w="73428" h="21600">
                    <a:moveTo>
                      <a:pt x="73428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72028" y="20200"/>
                    </a:lnTo>
                    <a:close/>
                  </a:path>
                  <a:path fill="lighten" w="73428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73428" h="21600">
                    <a:moveTo>
                      <a:pt x="36714" y="3837"/>
                    </a:moveTo>
                    <a:lnTo>
                      <a:pt x="39290" y="6448"/>
                    </a:lnTo>
                    <a:lnTo>
                      <a:pt x="39290" y="4707"/>
                    </a:lnTo>
                    <a:lnTo>
                      <a:pt x="41066" y="4707"/>
                    </a:lnTo>
                    <a:lnTo>
                      <a:pt x="41066" y="8224"/>
                    </a:lnTo>
                    <a:lnTo>
                      <a:pt x="43677" y="10800"/>
                    </a:lnTo>
                    <a:lnTo>
                      <a:pt x="42023" y="10800"/>
                    </a:lnTo>
                    <a:lnTo>
                      <a:pt x="42023" y="17989"/>
                    </a:lnTo>
                    <a:lnTo>
                      <a:pt x="31405" y="17989"/>
                    </a:lnTo>
                    <a:lnTo>
                      <a:pt x="31405" y="10800"/>
                    </a:lnTo>
                    <a:lnTo>
                      <a:pt x="29751" y="10800"/>
                    </a:lnTo>
                    <a:close/>
                  </a:path>
                  <a:path fill="darkenLess" w="73428" h="21600">
                    <a:moveTo>
                      <a:pt x="39290" y="6448"/>
                    </a:moveTo>
                    <a:lnTo>
                      <a:pt x="39290" y="4707"/>
                    </a:lnTo>
                    <a:lnTo>
                      <a:pt x="41066" y="4707"/>
                    </a:lnTo>
                    <a:lnTo>
                      <a:pt x="41066" y="8224"/>
                    </a:lnTo>
                    <a:close/>
                  </a:path>
                  <a:path fill="darkenLess" w="73428" h="21600">
                    <a:moveTo>
                      <a:pt x="35791" y="14299"/>
                    </a:moveTo>
                    <a:lnTo>
                      <a:pt x="37636" y="14299"/>
                    </a:lnTo>
                    <a:lnTo>
                      <a:pt x="37636" y="17989"/>
                    </a:lnTo>
                    <a:lnTo>
                      <a:pt x="42023" y="17989"/>
                    </a:lnTo>
                    <a:lnTo>
                      <a:pt x="42023" y="10800"/>
                    </a:lnTo>
                    <a:lnTo>
                      <a:pt x="31405" y="10800"/>
                    </a:lnTo>
                    <a:lnTo>
                      <a:pt x="31405" y="17989"/>
                    </a:lnTo>
                    <a:lnTo>
                      <a:pt x="35791" y="17989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عودة إلى القائمة الرئيسية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>
                <a:hlinkClick r:id="" action="ppaction://hlinkshowjump?jump=nextslide"/>
              </p:cNvPr>
              <p:cNvSpPr/>
              <p:nvPr/>
            </p:nvSpPr>
            <p:spPr>
              <a:xfrm>
                <a:off x="571500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التالي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>
                <a:hlinkClick r:id="" action="ppaction://hlinkshowjump?jump=previousslide"/>
              </p:cNvPr>
              <p:cNvSpPr/>
              <p:nvPr/>
            </p:nvSpPr>
            <p:spPr>
              <a:xfrm>
                <a:off x="365760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10800"/>
                    </a:moveTo>
                    <a:lnTo>
                      <a:pt x="19969" y="3794"/>
                    </a:lnTo>
                    <a:lnTo>
                      <a:pt x="19969" y="17806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الساب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gative Sentences with the verb to B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منفية بالفعل ”يكون“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make negative statements with the verb to BE by using the word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fter the verb to 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كون جمل منفية مع فعل (يكون) بوضع كلم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بعده 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76520" y="4038480"/>
          <a:ext cx="5333400" cy="2071440"/>
        </p:xfrm>
        <a:graphic>
          <a:graphicData uri="http://schemas.openxmlformats.org/drawingml/2006/table">
            <a:tbl>
              <a:tblPr/>
              <a:tblGrid>
                <a:gridCol w="2666880"/>
                <a:gridCol w="2666520"/>
              </a:tblGrid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t ho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 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t ho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king Questions with the verb to BE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تكوين السؤال مع فعل ”يكون“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” or “No” questions and short 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ئلة ب(نعم) و (لا) و الإجابات مختصرة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447920" y="3048120"/>
          <a:ext cx="7162560" cy="3119400"/>
        </p:xfrm>
        <a:graphic>
          <a:graphicData uri="http://schemas.openxmlformats.org/drawingml/2006/table">
            <a:tbl>
              <a:tblPr/>
              <a:tblGrid>
                <a:gridCol w="1433520"/>
                <a:gridCol w="1430280"/>
                <a:gridCol w="1434960"/>
                <a:gridCol w="1430280"/>
                <a:gridCol w="1433520"/>
              </a:tblGrid>
              <a:tr h="76464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” or “No” ques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ئلة إجابتها بـ نعم و ل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Answ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ec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كم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 + Subject + 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+ Subject + Be + 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teach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am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am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bo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school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we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were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b2b2b2"/>
                </a:solidFill>
                <a:latin typeface="Arial"/>
              </a:rPr>
              <a:t>تعلم مع معين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oeen@hotmail.co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82656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ff0000"/>
                </a:solidFill>
                <a:uFillTx/>
                <a:latin typeface="Arial"/>
              </a:rPr>
              <a:t>هذه المادة وغيرها هي نتاج ما جمعته من عدد من المواقع والكتب وغيرها ، وليست من تأليفي أو إعداد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ff0000"/>
                </a:solidFill>
                <a:uFillTx/>
                <a:latin typeface="Arial"/>
              </a:rPr>
              <a:t>إنني أقوم بنشرها ليستفيد أكبر عدد من الأشخاص منها وذلك في خطوة أولى مني لعمل شيء تجاه حالة غير مرضية بلغها أبناء مجتمعاتنا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DO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عم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كفعل رئيسي وفعل مساعد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122480" y="2774880"/>
          <a:ext cx="7378200" cy="2401560"/>
        </p:xfrm>
        <a:graphic>
          <a:graphicData uri="http://schemas.openxmlformats.org/drawingml/2006/table">
            <a:tbl>
              <a:tblPr/>
              <a:tblGrid>
                <a:gridCol w="1648440"/>
                <a:gridCol w="1570320"/>
                <a:gridCol w="1804320"/>
                <a:gridCol w="2355120"/>
              </a:tblGrid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you, we, 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1066680" y="533412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HA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ملك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ستخدم كفعل رئيسي وفعل مساعد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039680" y="2859120"/>
          <a:ext cx="7378560" cy="2323800"/>
        </p:xfrm>
        <a:graphic>
          <a:graphicData uri="http://schemas.openxmlformats.org/drawingml/2006/table">
            <a:tbl>
              <a:tblPr/>
              <a:tblGrid>
                <a:gridCol w="1648440"/>
                <a:gridCol w="1570320"/>
                <a:gridCol w="1804320"/>
                <a:gridCol w="2355480"/>
              </a:tblGrid>
              <a:tr h="91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you, we, 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1143000" y="533412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gative Sentences with verb to HAVE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 a main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 الجمل المنفية مع فعل ”يملك“ كفعل رئيسي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2019240"/>
          <a:ext cx="8229240" cy="3187440"/>
        </p:xfrm>
        <a:graphic>
          <a:graphicData uri="http://schemas.openxmlformats.org/drawingml/2006/table">
            <a:tbl>
              <a:tblPr/>
              <a:tblGrid>
                <a:gridCol w="1645200"/>
                <a:gridCol w="1647000"/>
                <a:gridCol w="1644840"/>
                <a:gridCol w="1647360"/>
                <a:gridCol w="164484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/does/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mp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تكمل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ew watch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eakfast this morning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ing Questions with the verb to HAVE as a main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تكوين السؤال مع فعل ”يملك“ كفعل رئيسي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914400" y="2057400"/>
          <a:ext cx="7924680" cy="4149720"/>
        </p:xfrm>
        <a:graphic>
          <a:graphicData uri="http://schemas.openxmlformats.org/drawingml/2006/table">
            <a:tbl>
              <a:tblPr/>
              <a:tblGrid>
                <a:gridCol w="1219320"/>
                <a:gridCol w="1143000"/>
                <a:gridCol w="914400"/>
                <a:gridCol w="1371600"/>
                <a:gridCol w="1752480"/>
                <a:gridCol w="1523880"/>
              </a:tblGrid>
              <a:tr h="723600"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” or “No”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ئلة إجابتها بـ نعم و ل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Answ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ec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كم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 + Subject + 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+ Subject + 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do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do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ew watc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doe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does 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eakfast this morning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di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did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erb to HAVE as a helping verb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فعل ”يملك “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كفعل مساعد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b to have is used as a helping verb to form the perfect ten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فعل يملك كفعل مساعد ليكون زمن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ahoma"/>
              </a:rPr>
              <a:t> المضارع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لتا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ved here for two yea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el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ust finished his wor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434340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gative Sentences with verb to HAVE as a helping verb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الجمل المنفية مع فعل ”يملك“ كفعل مساعد</a:t>
            </a:r>
            <a:br>
              <a:rPr sz="2800"/>
            </a:b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تكوين نفي مع فعل يملك نضع       بعد هذا الفع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أمثل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e lived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e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ved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328920" y="1981080"/>
            <a:ext cx="7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ing Questions with verb to HAVE as a helping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تكوين السؤال مع فعل ”يملك“ كفعل مساعد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” or “No” questions and short 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ئلة بـ نعم و لا و الإجابات مختصر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تكوين سؤال مع فعل يملك كفعل مساعد نقدم هذا الفعل على الفاع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ثا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 li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li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s,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         No,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GRAMMAR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6000" spc="-1" strike="noStrike">
                <a:solidFill>
                  <a:srgbClr val="ffff00"/>
                </a:solidFill>
                <a:latin typeface="Arial"/>
              </a:rPr>
              <a:t>قواعد اللغــــــــــة الإنجليزية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تم تحميل هذا الملف من إقلاع سوفت http://www.eqla3-sof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in Menu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 القائمة الرئيسية</a:t>
            </a: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24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English Alphabetic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الأبجدية الإنجليزي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Parts of Speech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7" action="ppaction://hlinksldjump"/>
              </a:rPr>
              <a:t>أقسام الكل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8" action="ppaction://hlinksldjump"/>
              </a:rPr>
              <a:t>Sentences 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9" action="ppaction://hlinksldjump"/>
              </a:rPr>
              <a:t>أنواع الجُم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0" action="ppaction://hlinksldjump"/>
              </a:rPr>
              <a:t>Verb to BE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" action="ppaction://hlinksldjump"/>
              </a:rPr>
              <a:t>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" action="ppaction://hlinksldjump"/>
              </a:rPr>
              <a:t>فعل ”يكو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4" action="ppaction://hlinksldjump"/>
              </a:rPr>
              <a:t>Verb to DO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5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6" action="ppaction://hlinksldjump"/>
              </a:rPr>
              <a:t>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7" action="ppaction://hlinksldjump"/>
              </a:rPr>
              <a:t>فعل ”يعم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8" action="ppaction://hlinksldjump"/>
              </a:rPr>
              <a:t>Verb to HAVE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9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0" action="ppaction://hlinksldjump"/>
              </a:rPr>
              <a:t> 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1" action="ppaction://hlinksldjump"/>
              </a:rPr>
              <a:t>فعل ”يمل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2" action="ppaction://hlinksldjump"/>
              </a:rPr>
              <a:t>Noun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3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4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5" action="ppaction://hlinksldjump"/>
              </a:rPr>
              <a:t>الأسماء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6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7" action="ppaction://hlinksldjump"/>
              </a:rPr>
              <a:t>Countable Nouns 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cs typeface="Tahoma"/>
                <a:hlinkClick r:id="rId28" action="ppaction://hlinksldjump"/>
              </a:rPr>
              <a:t>الأسماء المعدود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9" action="ppaction://hlinksldjump"/>
              </a:rPr>
              <a:t>Spelling Rules for Plurals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0" action="ppaction://hlinksldjump"/>
              </a:rPr>
              <a:t>قواعد إملاء الجمع</a:t>
            </a:r>
            <a:r>
              <a:rPr b="0" lang="ar-SA" sz="1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1" action="ppaction://hlinksldjump"/>
              </a:rPr>
              <a:t>Uncountable 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2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4" action="ppaction://hlinksldjump"/>
              </a:rPr>
              <a:t>الأسماء الغير المعدود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5" action="ppaction://hlinksldjump"/>
              </a:rPr>
              <a:t>Definite &amp; Indefinite Article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6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7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8" action="ppaction://hlinksldjump"/>
              </a:rPr>
              <a:t>أدوات التعريف و النكر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39" action="ppaction://hlinksldjump"/>
              </a:rPr>
              <a:t>Pronoun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40" action="ppaction://hlinksldjump"/>
              </a:rPr>
              <a:t>الضمائر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1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2" action="ppaction://hlinksldjump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3" action="ppaction://hlinksldjump"/>
              </a:rPr>
              <a:t>Object Pro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4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6" action="ppaction://hlinksldjump"/>
              </a:rPr>
              <a:t>ضمائر المفعول به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7" action="ppaction://hlinksldjump"/>
              </a:rPr>
              <a:t>Reflexive Pro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8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50" action="ppaction://hlinksldjump"/>
              </a:rPr>
              <a:t>ضمائر الانعكاسي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51" action="ppaction://hlinksldjump"/>
              </a:rPr>
              <a:t>Relative Pronouns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52" action="ppaction://hlinksldjump"/>
              </a:rPr>
              <a:t>ضمائر الوص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3" action="ppaction://hlinksldjump"/>
              </a:rPr>
              <a:t>Making Question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4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5" action="ppaction://hlinksldjump"/>
              </a:rPr>
              <a:t>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6" action="ppaction://hlinksldjump"/>
              </a:rPr>
              <a:t>تكوين الأسئل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7" action="ppaction://hlinksldjump"/>
              </a:rPr>
              <a:t>استعمالات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8" action="ppaction://hlinksldjump"/>
              </a:rPr>
              <a:t>  How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9" action="ppaction://hlinksldjump"/>
              </a:rPr>
              <a:t>some/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0" action="ppaction://hlinksldjump"/>
              </a:rPr>
              <a:t>بعض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1" action="ppaction://hlinksldjump"/>
              </a:rPr>
              <a:t>   any/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2" action="ppaction://hlinksldjump"/>
              </a:rPr>
              <a:t>أي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3" action="ppaction://hlinksldjump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4" action="ppaction://hlinksldjump"/>
              </a:rPr>
              <a:t>Making Negative 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5" action="ppaction://hlinksldjump"/>
              </a:rPr>
              <a:t>تكوين النف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6" action="ppaction://hlinksldjump"/>
              </a:rPr>
              <a:t>TENSE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7" action="ppaction://hlinksldjump"/>
              </a:rPr>
              <a:t> 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8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9" action="ppaction://hlinksldjump"/>
              </a:rPr>
              <a:t>الأزمن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70" action="ppaction://hlinksldjump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1" action="ppaction://hlinksldjump"/>
              </a:rPr>
              <a:t>Present Simple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2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4" action="ppaction://hlinksldjump"/>
              </a:rPr>
              <a:t>المضارع البسيط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5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6" action="ppaction://hlinksldjump"/>
              </a:rPr>
              <a:t>Past Simple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7" action="ppaction://hlinksldjump"/>
              </a:rPr>
              <a:t>الماضي البسيط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8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9" action="ppaction://hlinksldjump"/>
              </a:rPr>
              <a:t>Future Simple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0" action="ppaction://hlinksldjump"/>
              </a:rPr>
              <a:t>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1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2" action="ppaction://hlinksldjump"/>
              </a:rPr>
              <a:t>المستقبل البسيط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3" action="ppaction://hlinksldjump"/>
              </a:rPr>
              <a:t>Present Continuous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4" action="ppaction://hlinksldjump"/>
              </a:rPr>
              <a:t>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6" action="ppaction://hlinksldjump"/>
              </a:rPr>
              <a:t>المضارع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6920" y="190512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7" action="ppaction://hlinksldjump"/>
              </a:rPr>
              <a:t>Past Continuous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8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0" action="ppaction://hlinksldjump"/>
              </a:rPr>
              <a:t>الماضي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1" action="ppaction://hlinksldjump"/>
              </a:rPr>
              <a:t>Future Continuous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2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4" action="ppaction://hlinksldjump"/>
              </a:rPr>
              <a:t>المستقبل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5" action="ppaction://hlinksldjump"/>
              </a:rPr>
              <a:t>Present Perfect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6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7" action="ppaction://hlinksldjump"/>
              </a:rPr>
              <a:t>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8" action="ppaction://hlinksldjump"/>
              </a:rPr>
              <a:t>المضارع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9" action="ppaction://hlinksldjump"/>
              </a:rPr>
              <a:t>Past Perfect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0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1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2" action="ppaction://hlinksldjump"/>
              </a:rPr>
              <a:t>الماضي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3" action="ppaction://hlinksldjump"/>
              </a:rPr>
              <a:t>Future Perfect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4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6" action="ppaction://hlinksldjump"/>
              </a:rPr>
              <a:t>المستقبل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7" action="ppaction://hlinksldjump"/>
              </a:rPr>
              <a:t>Present Perfect Continuous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8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10" action="ppaction://hlinksldjump"/>
              </a:rPr>
              <a:t>المضارع التام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1" action="ppaction://hlinksldjump"/>
              </a:rPr>
              <a:t>Imperative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2" action="ppaction://hlinksldjump"/>
              </a:rPr>
              <a:t>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3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4" action="ppaction://hlinksldjump"/>
              </a:rPr>
              <a:t>صيغة الأمر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5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6" action="ppaction://hlinksldjump"/>
              </a:rPr>
              <a:t>Modal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7" action="ppaction://hlinksldjump"/>
              </a:rPr>
              <a:t>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8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9" action="ppaction://hlinksldjump"/>
              </a:rPr>
              <a:t>الأفعال الناقص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0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1" action="ppaction://hlinksldjump"/>
              </a:rPr>
              <a:t>Comparing Adjective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2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3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4" action="ppaction://hlinksldjump"/>
              </a:rPr>
              <a:t>مقارنة الصفات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5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6" action="ppaction://hlinksldjump"/>
              </a:rPr>
              <a:t>Adverb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7" action="ppaction://hlinksldjump"/>
              </a:rPr>
              <a:t>الظروف الأحوال</a:t>
            </a:r>
            <a:r>
              <a:rPr b="0" lang="ar-SA" sz="1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8" action="ppaction://hlinksldjump"/>
              </a:rPr>
              <a:t>Active &amp; Passive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9" action="ppaction://hlinksldjump"/>
              </a:rPr>
              <a:t>المبني للمعلوم و المبني للمجهو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0" action="ppaction://hlinksldjump"/>
              </a:rPr>
              <a:t>Transitive &amp; Intransitive Verb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1" action="ppaction://hlinksldjump"/>
              </a:rPr>
              <a:t>الأفعال اللازمة و الأفعال المتعدي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2" action="ppaction://hlinksldjump"/>
              </a:rPr>
              <a:t>...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3" action="ppaction://hlinksldjump"/>
              </a:rPr>
              <a:t>Preposition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4" action="ppaction://hlinksldjump"/>
              </a:rPr>
              <a:t>حروف الج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5" action="ppaction://hlinksldjump"/>
              </a:rPr>
              <a:t>Question-Tag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6" action="ppaction://hlinksldjump"/>
              </a:rPr>
              <a:t>الأسئلة المذيل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7" action="ppaction://hlinksldjump"/>
              </a:rPr>
              <a:t>Conditional “if” ”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8" action="ppaction://hlinksldjump"/>
              </a:rPr>
              <a:t>لو“ الشرطي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9" action="ppaction://hlinksldjump"/>
              </a:rPr>
              <a:t>Reported Speech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40" action="ppaction://hlinksldjump"/>
              </a:rPr>
              <a:t>الكلام المنقو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41" action="ppaction://hlinksldjump"/>
              </a:rPr>
              <a:t>Countries and Nationalitie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42" action="ppaction://hlinksldjump"/>
              </a:rPr>
              <a:t>البلدان و الجنسيات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تم تحميل هذا الملف من إقلاع سوفت http://www.eqla3-sof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glish Alphabetic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الأبجدية الإنجليزية</a:t>
            </a: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apital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أبجدية الإنجليزية الكبير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mall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أبجدية الإنجليزية الصغير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onsonant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حروف الساكن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Vowels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حروف المتحرك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47920" y="2286000"/>
          <a:ext cx="7076880" cy="485640"/>
        </p:xfrm>
        <a:graphic>
          <a:graphicData uri="http://schemas.openxmlformats.org/drawingml/2006/table">
            <a:tbl>
              <a:tblPr/>
              <a:tblGrid>
                <a:gridCol w="544320"/>
                <a:gridCol w="544320"/>
                <a:gridCol w="544680"/>
                <a:gridCol w="542880"/>
                <a:gridCol w="544680"/>
                <a:gridCol w="546120"/>
                <a:gridCol w="542880"/>
                <a:gridCol w="544320"/>
                <a:gridCol w="544680"/>
                <a:gridCol w="544320"/>
                <a:gridCol w="542880"/>
                <a:gridCol w="544680"/>
                <a:gridCol w="54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447920" y="3352680"/>
          <a:ext cx="7076880" cy="485640"/>
        </p:xfrm>
        <a:graphic>
          <a:graphicData uri="http://schemas.openxmlformats.org/drawingml/2006/table">
            <a:tbl>
              <a:tblPr/>
              <a:tblGrid>
                <a:gridCol w="544320"/>
                <a:gridCol w="544320"/>
                <a:gridCol w="544680"/>
                <a:gridCol w="542880"/>
                <a:gridCol w="544680"/>
                <a:gridCol w="546120"/>
                <a:gridCol w="542880"/>
                <a:gridCol w="544320"/>
                <a:gridCol w="544680"/>
                <a:gridCol w="544320"/>
                <a:gridCol w="542880"/>
                <a:gridCol w="544680"/>
                <a:gridCol w="54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447920" y="4343400"/>
          <a:ext cx="5756040" cy="243000"/>
        </p:xfrm>
        <a:graphic>
          <a:graphicData uri="http://schemas.openxmlformats.org/drawingml/2006/table">
            <a:tbl>
              <a:tblPr/>
              <a:tblGrid>
                <a:gridCol w="274680"/>
                <a:gridCol w="258480"/>
                <a:gridCol w="292320"/>
                <a:gridCol w="276120"/>
                <a:gridCol w="276120"/>
                <a:gridCol w="255600"/>
                <a:gridCol w="274680"/>
                <a:gridCol w="274680"/>
                <a:gridCol w="274680"/>
                <a:gridCol w="274680"/>
                <a:gridCol w="274680"/>
                <a:gridCol w="274680"/>
                <a:gridCol w="274320"/>
                <a:gridCol w="274680"/>
                <a:gridCol w="274680"/>
                <a:gridCol w="274680"/>
                <a:gridCol w="276120"/>
                <a:gridCol w="274680"/>
                <a:gridCol w="274680"/>
                <a:gridCol w="274680"/>
                <a:gridCol w="27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447920" y="5105520"/>
          <a:ext cx="1377720" cy="242640"/>
        </p:xfrm>
        <a:graphic>
          <a:graphicData uri="http://schemas.openxmlformats.org/drawingml/2006/table">
            <a:tbl>
              <a:tblPr/>
              <a:tblGrid>
                <a:gridCol w="274680"/>
                <a:gridCol w="258480"/>
                <a:gridCol w="292320"/>
                <a:gridCol w="276120"/>
                <a:gridCol w="27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8" name="">
              <a:hlinkClick r:id="rId1" action="ppaction://hlinksldjump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1" name=""/>
          <p:cNvGraphicFramePr/>
          <p:nvPr/>
        </p:nvGraphicFramePr>
        <p:xfrm>
          <a:off x="533520" y="1828800"/>
          <a:ext cx="8153280" cy="4059360"/>
        </p:xfrm>
        <a:graphic>
          <a:graphicData uri="http://schemas.openxmlformats.org/drawingml/2006/table">
            <a:tbl>
              <a:tblPr/>
              <a:tblGrid>
                <a:gridCol w="1647720"/>
                <a:gridCol w="3211560"/>
                <a:gridCol w="329400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اس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, 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nou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ي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ما يدل على اسم أو يحل محل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he, she, it, etc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……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r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ما يدل على حدوث شيء في وقت م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y, played, will p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jective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صف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كلمة تصف الاسم وتكون قبل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ic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n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رجل غني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حظ أن الصفة هنا سبقت الاسم الموصوف بعكس اللغة العربية التي تكون فيها الصفة بعد الاسم الموصو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ver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كلمة تصف الفعل أو تزيد الصفة وضوحا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write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ickly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مد يكتب بسرع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8" name=""/>
          <p:cNvGraphicFramePr/>
          <p:nvPr/>
        </p:nvGraphicFramePr>
        <p:xfrm>
          <a:off x="457200" y="1600200"/>
          <a:ext cx="8229240" cy="3384360"/>
        </p:xfrm>
        <a:graphic>
          <a:graphicData uri="http://schemas.openxmlformats.org/drawingml/2006/table">
            <a:tbl>
              <a:tblPr/>
              <a:tblGrid>
                <a:gridCol w="1662840"/>
                <a:gridCol w="3241800"/>
                <a:gridCol w="332460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posi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الج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كلمة تأتي مع الاسم أو الضمير لتبين علاقته بكلمة أخر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goe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o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مد يذهب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لى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مدرس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traveled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y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م سافروا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ب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طائ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junc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العط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كلمة تصل ما بين كلمة و كلمة أو جملة وجملة 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hmad visited us yesterday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علي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و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أحمد زارونا أم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jec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تعج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أصوات أو صيحات تعبر عن التعج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la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! She di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ا للأسف ! لقد ماتت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457200" y="1600200"/>
          <a:ext cx="8229240" cy="3580920"/>
        </p:xfrm>
        <a:graphic>
          <a:graphicData uri="http://schemas.openxmlformats.org/drawingml/2006/table">
            <a:tbl>
              <a:tblPr/>
              <a:tblGrid>
                <a:gridCol w="1662480"/>
                <a:gridCol w="3242160"/>
                <a:gridCol w="33246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96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rti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دا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ناك ثلاث أدوات في اللغة الإنجليزية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, an, t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قبل الاسم النكرة الذي يبدأ بحرف ساك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ا كتاب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قبل الاسم النكرة الذي يبدأ بحرف </a:t>
                      </a: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  <a:cs typeface="Tahoma"/>
                        </a:rPr>
                        <a:t>متحرك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ppl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ه تفاح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    للتعري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 I bought yesterday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ا هو الكتاب الذي اشتريته أم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4268880" y="3352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1480" y="39625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37040" y="4572000"/>
            <a:ext cx="52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2b2b2"/>
                </a:solidFill>
                <a:latin typeface="Arial"/>
              </a:rPr>
              <a:t>ملاحظة 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جدير بالذكر أن الجملة الإنجليزية لابد وأن تحتوي على فعل خلاف اللغة العربية التي قد تكون فيها الجملة اسمية أي بدون فعل مثل :(علي طبيب) ولو أردنا ترجمتها إلى الإنجليزية حرفيا نقول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i docto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هذه جملة إنجليزية خاطئة لعدم احتوائها على فعل والصحيح أن نضع لها فعل فتصبح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 do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657600" y="6248520"/>
            <a:ext cx="1905120" cy="380880"/>
            <a:chOff x="3657600" y="6248520"/>
            <a:chExt cx="1905120" cy="380880"/>
          </a:xfrm>
        </p:grpSpPr>
        <p:sp>
          <p:nvSpPr>
            <p:cNvPr id="18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4:44Z</dcterms:created>
  <dc:creator>user</dc:creator>
  <dc:description/>
  <dc:language>en-US</dc:language>
  <cp:lastModifiedBy>user</cp:lastModifiedBy>
  <dcterms:modified xsi:type="dcterms:W3CDTF">2007-07-13T00:14:44Z</dcterms:modified>
  <cp:revision>1</cp:revision>
  <dc:subject/>
  <dc:title>الشريحة 1</dc:title>
</cp:coreProperties>
</file>