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7A9A-B1B3-4951-9C3B-E810897D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B5B-27AB-42E5-B3DC-FCBD03B5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30D-8DC1-4E2E-B23A-3139C07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69D-97BB-40CF-801B-E7ECE5B0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382F-AB57-4315-B79B-20FF796F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30EB-E762-4858-9D5D-85B345B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2B2C-0E1E-47B4-8DE4-5ED3F46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01AF-51F8-43E8-A772-F65357BE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9537-DA6D-4088-B8B5-90D9A3E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2A4-9490-4137-8027-C3CF20BC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4DBB-49DD-4939-ADA8-45B8746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DA9-79A6-403D-BB8A-ABFA162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C0BF-DC71-4F06-9D7C-DE21573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A1C1-80EB-4959-A619-8B53DFCE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D38-592F-46E0-8429-EB58A7EE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FF13-9FAB-4C2F-9CE4-57CA821C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E7AF-A663-49A3-A117-A4418462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389F-BE01-4395-BF2A-34737245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20B0-E2F5-4544-A5EB-51FB207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60C1-4865-4D4F-9393-7EADCDB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3AD9-E36C-42A1-882D-9BEAAF15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D854-4824-424C-AA60-948F640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125-9D95-4568-9069-2DDCB9B5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B6F7-1AD9-411F-9E0B-B152FA1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4C10-5BE3-4179-95EF-EB91884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8B23-B75F-446F-BCF3-E30ABD5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7633-DA06-47A8-89EF-0A1F13E9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3A31-87E0-424E-A224-3E80515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8D7F-569F-4D9F-9930-8CCB5659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E0FB3-E08A-4D95-861C-874D6AB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483-7821-4606-B795-8727D33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585-CD10-45F1-A369-845203D4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5C6-3827-496C-A08D-CA47AB8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DFD-3CF4-4BD7-8249-2197B24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8E4-791E-4720-B5CC-CEA6AD1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C86-A0DE-4139-AD55-E627025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4B4D-4D5F-4BED-BD37-39709BFC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985-E618-4EDE-83F4-2DF59138A1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FDB7-F4A0-4F62-848D-FA9637AAD56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0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slide" Target="slide21.xml"/><Relationship Id="rId22" Type="http://schemas.openxmlformats.org/officeDocument/2006/relationships/slide" Target="slide27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0.xml"/><Relationship Id="rId31" Type="http://schemas.openxmlformats.org/officeDocument/2006/relationships/slide" Target="slide36.xml"/><Relationship Id="rId32" Type="http://schemas.openxmlformats.org/officeDocument/2006/relationships/slide" Target="slide36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9.xml"/><Relationship Id="rId36" Type="http://schemas.openxmlformats.org/officeDocument/2006/relationships/slide" Target="slide39.xml"/><Relationship Id="rId37" Type="http://schemas.openxmlformats.org/officeDocument/2006/relationships/slide" Target="slide39.xml"/><Relationship Id="rId38" Type="http://schemas.openxmlformats.org/officeDocument/2006/relationships/slide" Target="slide39.xml"/><Relationship Id="rId39" Type="http://schemas.openxmlformats.org/officeDocument/2006/relationships/slide" Target="slide46.xml"/><Relationship Id="rId40" Type="http://schemas.openxmlformats.org/officeDocument/2006/relationships/slide" Target="slide46.xml"/><Relationship Id="rId41" Type="http://schemas.openxmlformats.org/officeDocument/2006/relationships/slide" Target="slide46.xml"/><Relationship Id="rId42" Type="http://schemas.openxmlformats.org/officeDocument/2006/relationships/slide" Target="slide46.xml"/><Relationship Id="rId43" Type="http://schemas.openxmlformats.org/officeDocument/2006/relationships/slide" Target="slide48.xml"/><Relationship Id="rId44" Type="http://schemas.openxmlformats.org/officeDocument/2006/relationships/slide" Target="slide48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49.xml"/><Relationship Id="rId48" Type="http://schemas.openxmlformats.org/officeDocument/2006/relationships/slide" Target="slide49.xml"/><Relationship Id="rId49" Type="http://schemas.openxmlformats.org/officeDocument/2006/relationships/slide" Target="slide49.xml"/><Relationship Id="rId50" Type="http://schemas.openxmlformats.org/officeDocument/2006/relationships/slide" Target="slide49.xml"/><Relationship Id="rId51" Type="http://schemas.openxmlformats.org/officeDocument/2006/relationships/slide" Target="slide50.xml"/><Relationship Id="rId52" Type="http://schemas.openxmlformats.org/officeDocument/2006/relationships/slide" Target="slide50.xml"/><Relationship Id="rId53" Type="http://schemas.openxmlformats.org/officeDocument/2006/relationships/slide" Target="slide56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64.xml"/><Relationship Id="rId58" Type="http://schemas.openxmlformats.org/officeDocument/2006/relationships/slide" Target="slide64.xml"/><Relationship Id="rId59" Type="http://schemas.openxmlformats.org/officeDocument/2006/relationships/slide" Target="slide66.xml"/><Relationship Id="rId60" Type="http://schemas.openxmlformats.org/officeDocument/2006/relationships/slide" Target="slide66.xml"/><Relationship Id="rId61" Type="http://schemas.openxmlformats.org/officeDocument/2006/relationships/slide" Target="slide66.xml"/><Relationship Id="rId62" Type="http://schemas.openxmlformats.org/officeDocument/2006/relationships/slide" Target="slide66.xml"/><Relationship Id="rId63" Type="http://schemas.openxmlformats.org/officeDocument/2006/relationships/slide" Target="slide66.xml"/><Relationship Id="rId64" Type="http://schemas.openxmlformats.org/officeDocument/2006/relationships/slide" Target="slide67.xml"/><Relationship Id="rId65" Type="http://schemas.openxmlformats.org/officeDocument/2006/relationships/slide" Target="slide67.xml"/><Relationship Id="rId66" Type="http://schemas.openxmlformats.org/officeDocument/2006/relationships/slide" Target="slide70.xml"/><Relationship Id="rId67" Type="http://schemas.openxmlformats.org/officeDocument/2006/relationships/slide" Target="slide70.xml"/><Relationship Id="rId68" Type="http://schemas.openxmlformats.org/officeDocument/2006/relationships/slide" Target="slide70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0.xml"/><Relationship Id="rId72" Type="http://schemas.openxmlformats.org/officeDocument/2006/relationships/slide" Target="slide70.xml"/><Relationship Id="rId73" Type="http://schemas.openxmlformats.org/officeDocument/2006/relationships/slide" Target="slide70.xml"/><Relationship Id="rId74" Type="http://schemas.openxmlformats.org/officeDocument/2006/relationships/slide" Target="slide70.xml"/><Relationship Id="rId75" Type="http://schemas.openxmlformats.org/officeDocument/2006/relationships/slide" Target="slide70.xml"/><Relationship Id="rId76" Type="http://schemas.openxmlformats.org/officeDocument/2006/relationships/slide" Target="slide72.xml"/><Relationship Id="rId77" Type="http://schemas.openxmlformats.org/officeDocument/2006/relationships/slide" Target="slide72.xml"/><Relationship Id="rId78" Type="http://schemas.openxmlformats.org/officeDocument/2006/relationships/slide" Target="slide72.xml"/><Relationship Id="rId79" Type="http://schemas.openxmlformats.org/officeDocument/2006/relationships/slide" Target="slide74.xml"/><Relationship Id="rId80" Type="http://schemas.openxmlformats.org/officeDocument/2006/relationships/slide" Target="slide74.xml"/><Relationship Id="rId81" Type="http://schemas.openxmlformats.org/officeDocument/2006/relationships/slide" Target="slide74.xml"/><Relationship Id="rId82" Type="http://schemas.openxmlformats.org/officeDocument/2006/relationships/slide" Target="slide74.xml"/><Relationship Id="rId83" Type="http://schemas.openxmlformats.org/officeDocument/2006/relationships/slide" Target="slide76.xml"/><Relationship Id="rId84" Type="http://schemas.openxmlformats.org/officeDocument/2006/relationships/slide" Target="slide76.xml"/><Relationship Id="rId85" Type="http://schemas.openxmlformats.org/officeDocument/2006/relationships/slide" Target="slide76.xml"/><Relationship Id="rId86" Type="http://schemas.openxmlformats.org/officeDocument/2006/relationships/slide" Target="slide76.xml"/><Relationship Id="rId87" Type="http://schemas.openxmlformats.org/officeDocument/2006/relationships/slide" Target="slide81.xml"/><Relationship Id="rId88" Type="http://schemas.openxmlformats.org/officeDocument/2006/relationships/slide" Target="slide81.xml"/><Relationship Id="rId89" Type="http://schemas.openxmlformats.org/officeDocument/2006/relationships/slide" Target="slide81.xml"/><Relationship Id="rId90" Type="http://schemas.openxmlformats.org/officeDocument/2006/relationships/slide" Target="slide81.xml"/><Relationship Id="rId91" Type="http://schemas.openxmlformats.org/officeDocument/2006/relationships/slide" Target="slide83.xml"/><Relationship Id="rId92" Type="http://schemas.openxmlformats.org/officeDocument/2006/relationships/slide" Target="slide83.xml"/><Relationship Id="rId93" Type="http://schemas.openxmlformats.org/officeDocument/2006/relationships/slide" Target="slide83.xml"/><Relationship Id="rId94" Type="http://schemas.openxmlformats.org/officeDocument/2006/relationships/slide" Target="slide83.xml"/><Relationship Id="rId95" Type="http://schemas.openxmlformats.org/officeDocument/2006/relationships/slide" Target="slide85.xml"/><Relationship Id="rId96" Type="http://schemas.openxmlformats.org/officeDocument/2006/relationships/slide" Target="slide85.xml"/><Relationship Id="rId97" Type="http://schemas.openxmlformats.org/officeDocument/2006/relationships/slide" Target="slide85.xml"/><Relationship Id="rId98" Type="http://schemas.openxmlformats.org/officeDocument/2006/relationships/slide" Target="slide85.xml"/><Relationship Id="rId99" Type="http://schemas.openxmlformats.org/officeDocument/2006/relationships/slide" Target="slide88.xml"/><Relationship Id="rId100" Type="http://schemas.openxmlformats.org/officeDocument/2006/relationships/slide" Target="slide88.xml"/><Relationship Id="rId101" Type="http://schemas.openxmlformats.org/officeDocument/2006/relationships/slide" Target="slide88.xml"/><Relationship Id="rId102" Type="http://schemas.openxmlformats.org/officeDocument/2006/relationships/slide" Target="slide88.xml"/><Relationship Id="rId103" Type="http://schemas.openxmlformats.org/officeDocument/2006/relationships/slide" Target="slide90.xml"/><Relationship Id="rId104" Type="http://schemas.openxmlformats.org/officeDocument/2006/relationships/slide" Target="slide90.xml"/><Relationship Id="rId105" Type="http://schemas.openxmlformats.org/officeDocument/2006/relationships/slide" Target="slide90.xml"/><Relationship Id="rId106" Type="http://schemas.openxmlformats.org/officeDocument/2006/relationships/slide" Target="slide90.xml"/><Relationship Id="rId107" Type="http://schemas.openxmlformats.org/officeDocument/2006/relationships/slide" Target="slide92.xml"/><Relationship Id="rId108" Type="http://schemas.openxmlformats.org/officeDocument/2006/relationships/slide" Target="slide92.xml"/><Relationship Id="rId109" Type="http://schemas.openxmlformats.org/officeDocument/2006/relationships/slide" Target="slide92.xml"/><Relationship Id="rId110" Type="http://schemas.openxmlformats.org/officeDocument/2006/relationships/slide" Target="slide92.xml"/><Relationship Id="rId111" Type="http://schemas.openxmlformats.org/officeDocument/2006/relationships/slide" Target="slide95.xml"/><Relationship Id="rId112" Type="http://schemas.openxmlformats.org/officeDocument/2006/relationships/slide" Target="slide95.xml"/><Relationship Id="rId113" Type="http://schemas.openxmlformats.org/officeDocument/2006/relationships/slide" Target="slide95.xml"/><Relationship Id="rId114" Type="http://schemas.openxmlformats.org/officeDocument/2006/relationships/slide" Target="slide95.xml"/><Relationship Id="rId115" Type="http://schemas.openxmlformats.org/officeDocument/2006/relationships/slide" Target="slide95.xml"/><Relationship Id="rId116" Type="http://schemas.openxmlformats.org/officeDocument/2006/relationships/slide" Target="slide98.xml"/><Relationship Id="rId117" Type="http://schemas.openxmlformats.org/officeDocument/2006/relationships/slide" Target="slide98.xml"/><Relationship Id="rId118" Type="http://schemas.openxmlformats.org/officeDocument/2006/relationships/slide" Target="slide98.xml"/><Relationship Id="rId119" Type="http://schemas.openxmlformats.org/officeDocument/2006/relationships/slide" Target="slide98.xml"/><Relationship Id="rId120" Type="http://schemas.openxmlformats.org/officeDocument/2006/relationships/slide" Target="slide98.xml"/><Relationship Id="rId121" Type="http://schemas.openxmlformats.org/officeDocument/2006/relationships/slide" Target="slide104.xml"/><Relationship Id="rId122" Type="http://schemas.openxmlformats.org/officeDocument/2006/relationships/slide" Target="slide104.xml"/><Relationship Id="rId123" Type="http://schemas.openxmlformats.org/officeDocument/2006/relationships/slide" Target="slide104.xml"/><Relationship Id="rId124" Type="http://schemas.openxmlformats.org/officeDocument/2006/relationships/slide" Target="slide104.xml"/><Relationship Id="rId125" Type="http://schemas.openxmlformats.org/officeDocument/2006/relationships/slide" Target="slide104.xml"/><Relationship Id="rId126" Type="http://schemas.openxmlformats.org/officeDocument/2006/relationships/slide" Target="slide110.xml"/><Relationship Id="rId127" Type="http://schemas.openxmlformats.org/officeDocument/2006/relationships/slide" Target="slide110.xml"/><Relationship Id="rId128" Type="http://schemas.openxmlformats.org/officeDocument/2006/relationships/slide" Target="slide124.xml"/><Relationship Id="rId129" Type="http://schemas.openxmlformats.org/officeDocument/2006/relationships/slide" Target="slide124.xml"/><Relationship Id="rId130" Type="http://schemas.openxmlformats.org/officeDocument/2006/relationships/slide" Target="slide134.xml"/><Relationship Id="rId131" Type="http://schemas.openxmlformats.org/officeDocument/2006/relationships/slide" Target="slide134.xml"/><Relationship Id="rId132" Type="http://schemas.openxmlformats.org/officeDocument/2006/relationships/slide" Target="slide134.xml"/><Relationship Id="rId133" Type="http://schemas.openxmlformats.org/officeDocument/2006/relationships/slide" Target="slide135.xml"/><Relationship Id="rId134" Type="http://schemas.openxmlformats.org/officeDocument/2006/relationships/slide" Target="slide135.xml"/><Relationship Id="rId135" Type="http://schemas.openxmlformats.org/officeDocument/2006/relationships/slide" Target="slide146.xml"/><Relationship Id="rId136" Type="http://schemas.openxmlformats.org/officeDocument/2006/relationships/slide" Target="slide146.xml"/><Relationship Id="rId137" Type="http://schemas.openxmlformats.org/officeDocument/2006/relationships/slide" Target="slide149.xml"/><Relationship Id="rId138" Type="http://schemas.openxmlformats.org/officeDocument/2006/relationships/slide" Target="slide149.xml"/><Relationship Id="rId139" Type="http://schemas.openxmlformats.org/officeDocument/2006/relationships/slide" Target="slide153.xml"/><Relationship Id="rId140" Type="http://schemas.openxmlformats.org/officeDocument/2006/relationships/slide" Target="slide153.xml"/><Relationship Id="rId141" Type="http://schemas.openxmlformats.org/officeDocument/2006/relationships/slide" Target="slide163.xml"/><Relationship Id="rId142" Type="http://schemas.openxmlformats.org/officeDocument/2006/relationships/slide" Target="slide163.xml"/><Relationship Id="rId14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نواع الجُ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بسي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رك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مل معقدة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mple Sentenc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بسيط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جملة التي تحتوي على فعل واحد فق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بسيط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boy riding a bicy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تركب من جملتين بسيطتين لهما صلة ببعضهما البعض ولكل منهما معنى مستقل حيث يتم ربطهما بحرف عطف مثل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/ but /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d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واو العطف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لهما علاقة بين بعضهم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.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med did his homework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s helped h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ound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ركب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لك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عن  شيئين مختلفين أو متناقض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.  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aled is ric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 is un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                        </a:t>
            </a:r>
            <a:r>
              <a:rPr b="1" lang="ar-SA" sz="2000" spc="-1" strike="noStrike">
                <a:solidFill>
                  <a:srgbClr val="cc3300"/>
                </a:solidFill>
                <a:latin typeface="Arial"/>
              </a:rPr>
              <a:t>أو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:تربط جملتين يكون فيهما خي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.  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كن ربط الجملتين لنكون جملة واحدة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play footbal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e can watch T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lex Sentenc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جمل معق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جملة التي تحتوي على أكثر من فعل واحد و مركبة من جملت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اس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وهي ثلاثة أنواع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ثانو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un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أسمية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jectiv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وصفية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dverbial Claus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جملة ظرفية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ause &amp; Phrase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جملة و شبه الجمل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lause is a combination of words containing a verb and has a complete mea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جملة هي مجموعة كلمات تحتوي على فعل و لها معنى تام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 was 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hrase is a combination of words forming part of the sentence but without a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شبه الجملة عبارة عن مجموعة كلمات تكون جزءاً من الجملة بدون فعل. مثال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saw the man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arrying a stick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11320" y="2951280"/>
          <a:ext cx="7310520" cy="2928960"/>
        </p:xfrm>
        <a:graphic>
          <a:graphicData uri="http://schemas.openxmlformats.org/drawingml/2006/table">
            <a:tbl>
              <a:tblPr/>
              <a:tblGrid>
                <a:gridCol w="1633320"/>
                <a:gridCol w="1555920"/>
                <a:gridCol w="1787400"/>
                <a:gridCol w="233388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, They, Y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B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كون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up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grpSp>
          <p:nvGrpSpPr>
            <p:cNvPr id="238" name=""/>
            <p:cNvGrpSpPr/>
            <p:nvPr/>
          </p:nvGrpSpPr>
          <p:grpSpPr>
            <a:xfrm>
              <a:off x="3657600" y="6248520"/>
              <a:ext cx="2514600" cy="380880"/>
              <a:chOff x="3657600" y="6248520"/>
              <a:chExt cx="2514600" cy="380880"/>
            </a:xfrm>
          </p:grpSpPr>
          <p:sp>
            <p:nvSpPr>
              <p:cNvPr id="239" name="">
                <a:hlinkClick r:id="" action="ppaction://hlinkshowjump?jump=firstslide"/>
              </p:cNvPr>
              <p:cNvSpPr/>
              <p:nvPr/>
            </p:nvSpPr>
            <p:spPr>
              <a:xfrm>
                <a:off x="4267080" y="6248520"/>
                <a:ext cx="1295640" cy="380880"/>
              </a:xfrm>
              <a:custGeom>
                <a:avLst/>
                <a:gdLst>
                  <a:gd name="textAreaLeft" fmla="*/ 24480 w 1295640"/>
                  <a:gd name="textAreaRight" fmla="*/ 1271160 w 129564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3428" y="21600"/>
                    </a:lnTo>
                    <a:lnTo>
                      <a:pt x="0" y="21600"/>
                    </a:lnTo>
                    <a:close/>
                  </a:path>
                  <a:path fill="lightenLess" w="73428" h="21600">
                    <a:moveTo>
                      <a:pt x="0" y="0"/>
                    </a:moveTo>
                    <a:lnTo>
                      <a:pt x="73428" y="0"/>
                    </a:lnTo>
                    <a:lnTo>
                      <a:pt x="72028" y="1400"/>
                    </a:lnTo>
                    <a:lnTo>
                      <a:pt x="1400" y="1400"/>
                    </a:lnTo>
                    <a:close/>
                  </a:path>
                  <a:path fill="darken" w="73428" h="21600">
                    <a:moveTo>
                      <a:pt x="73428" y="0"/>
                    </a:moveTo>
                    <a:lnTo>
                      <a:pt x="73428" y="21600"/>
                    </a:lnTo>
                    <a:lnTo>
                      <a:pt x="72028" y="20200"/>
                    </a:lnTo>
                    <a:lnTo>
                      <a:pt x="72028" y="1400"/>
                    </a:lnTo>
                    <a:close/>
                  </a:path>
                  <a:path fill="darkenLess" w="73428" h="21600">
                    <a:moveTo>
                      <a:pt x="734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72028" y="20200"/>
                    </a:lnTo>
                    <a:close/>
                  </a:path>
                  <a:path fill="lighten" w="734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73428" h="21600">
                    <a:moveTo>
                      <a:pt x="36714" y="3837"/>
                    </a:moveTo>
                    <a:lnTo>
                      <a:pt x="39290" y="6448"/>
                    </a:ln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lnTo>
                      <a:pt x="43677" y="10800"/>
                    </a:lnTo>
                    <a:lnTo>
                      <a:pt x="42023" y="10800"/>
                    </a:lnTo>
                    <a:lnTo>
                      <a:pt x="42023" y="17989"/>
                    </a:lnTo>
                    <a:lnTo>
                      <a:pt x="31405" y="17989"/>
                    </a:lnTo>
                    <a:lnTo>
                      <a:pt x="31405" y="10800"/>
                    </a:lnTo>
                    <a:lnTo>
                      <a:pt x="29751" y="10800"/>
                    </a:lnTo>
                    <a:close/>
                  </a:path>
                  <a:path fill="darkenLess" w="73428" h="21600">
                    <a:moveTo>
                      <a:pt x="39290" y="6448"/>
                    </a:moveTo>
                    <a:lnTo>
                      <a:pt x="39290" y="4707"/>
                    </a:lnTo>
                    <a:lnTo>
                      <a:pt x="41066" y="4707"/>
                    </a:lnTo>
                    <a:lnTo>
                      <a:pt x="41066" y="8224"/>
                    </a:lnTo>
                    <a:close/>
                  </a:path>
                  <a:path fill="darkenLess" w="73428" h="21600">
                    <a:moveTo>
                      <a:pt x="35791" y="14299"/>
                    </a:moveTo>
                    <a:lnTo>
                      <a:pt x="37636" y="14299"/>
                    </a:lnTo>
                    <a:lnTo>
                      <a:pt x="37636" y="17989"/>
                    </a:lnTo>
                    <a:lnTo>
                      <a:pt x="42023" y="17989"/>
                    </a:lnTo>
                    <a:lnTo>
                      <a:pt x="42023" y="10800"/>
                    </a:lnTo>
                    <a:lnTo>
                      <a:pt x="31405" y="10800"/>
                    </a:lnTo>
                    <a:lnTo>
                      <a:pt x="31405" y="17989"/>
                    </a:lnTo>
                    <a:lnTo>
                      <a:pt x="35791" y="17989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عودة إلى القائمة الرئيسية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>
                <a:hlinkClick r:id="" action="ppaction://hlinkshowjump?jump=nextslide"/>
              </p:cNvPr>
              <p:cNvSpPr/>
              <p:nvPr/>
            </p:nvSpPr>
            <p:spPr>
              <a:xfrm>
                <a:off x="57150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3794"/>
                    </a:moveTo>
                    <a:lnTo>
                      <a:pt x="19969" y="10800"/>
                    </a:lnTo>
                    <a:lnTo>
                      <a:pt x="5956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تالي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>
                <a:hlinkClick r:id="" action="ppaction://hlinkshowjump?jump=previousslide"/>
              </p:cNvPr>
              <p:cNvSpPr/>
              <p:nvPr/>
            </p:nvSpPr>
            <p:spPr>
              <a:xfrm>
                <a:off x="3657600" y="6248520"/>
                <a:ext cx="457200" cy="380880"/>
              </a:xfrm>
              <a:custGeom>
                <a:avLst/>
                <a:gdLst>
                  <a:gd name="textAreaLeft" fmla="*/ 24480 w 457200"/>
                  <a:gd name="textAreaRight" fmla="*/ 432720 w 45720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5924" y="21600"/>
                    </a:lnTo>
                    <a:lnTo>
                      <a:pt x="0" y="21600"/>
                    </a:lnTo>
                    <a:close/>
                  </a:path>
                  <a:path fill="lightenLess" w="25924" h="21600">
                    <a:moveTo>
                      <a:pt x="0" y="0"/>
                    </a:moveTo>
                    <a:lnTo>
                      <a:pt x="25924" y="0"/>
                    </a:lnTo>
                    <a:lnTo>
                      <a:pt x="24524" y="1400"/>
                    </a:lnTo>
                    <a:lnTo>
                      <a:pt x="1400" y="1400"/>
                    </a:lnTo>
                    <a:close/>
                  </a:path>
                  <a:path fill="darken" w="25924" h="21600">
                    <a:moveTo>
                      <a:pt x="25924" y="0"/>
                    </a:moveTo>
                    <a:lnTo>
                      <a:pt x="25924" y="21600"/>
                    </a:lnTo>
                    <a:lnTo>
                      <a:pt x="24524" y="20200"/>
                    </a:lnTo>
                    <a:lnTo>
                      <a:pt x="24524" y="1400"/>
                    </a:lnTo>
                    <a:close/>
                  </a:path>
                  <a:path fill="darkenLess" w="25924" h="21600">
                    <a:moveTo>
                      <a:pt x="25924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4524" y="20200"/>
                    </a:lnTo>
                    <a:close/>
                  </a:path>
                  <a:path fill="lighten" w="25924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5924" h="21600">
                    <a:moveTo>
                      <a:pt x="5956" y="10800"/>
                    </a:moveTo>
                    <a:lnTo>
                      <a:pt x="19969" y="3794"/>
                    </a:lnTo>
                    <a:lnTo>
                      <a:pt x="19969" y="17806"/>
                    </a:lnTo>
                    <a:close/>
                  </a:path>
                </a:pathLst>
              </a:custGeom>
              <a:solidFill>
                <a:srgbClr val="010199"/>
              </a:soli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900" spc="-1" strike="noStrike">
                    <a:solidFill>
                      <a:srgbClr val="ffffff"/>
                    </a:solidFill>
                    <a:latin typeface="Tahoma"/>
                  </a:rPr>
                  <a:t>الساب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the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منفية بال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make negative statements with the verb to BE by using the word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fter the verb to 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كون جمل منفية مع فعل (يكون) بوضع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عده 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4038480"/>
          <a:ext cx="5333400" cy="2071440"/>
        </p:xfrm>
        <a:graphic>
          <a:graphicData uri="http://schemas.openxmlformats.org/drawingml/2006/table">
            <a:tbl>
              <a:tblPr/>
              <a:tblGrid>
                <a:gridCol w="2666880"/>
                <a:gridCol w="266652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 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t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ing Questions with the verb to B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تكوين السؤال مع فعل ”يكون“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(نعم) و (لا) و الإجابات مختصرة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47920" y="3048120"/>
          <a:ext cx="7162560" cy="3119400"/>
        </p:xfrm>
        <a:graphic>
          <a:graphicData uri="http://schemas.openxmlformats.org/drawingml/2006/table">
            <a:tbl>
              <a:tblPr/>
              <a:tblGrid>
                <a:gridCol w="1433520"/>
                <a:gridCol w="1430280"/>
                <a:gridCol w="1434960"/>
                <a:gridCol w="1430280"/>
                <a:gridCol w="1433520"/>
              </a:tblGrid>
              <a:tr h="76464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Be +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eac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am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am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b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we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were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b2b2b2"/>
                </a:solidFill>
                <a:latin typeface="Arial"/>
              </a:rPr>
              <a:t>تعلم مع معين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een@hotmail.c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2656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هذه المادة وغيرها هي نتاج ما جمعته من عدد من المواقع والكتب وغيرها ، وليست من تأليفي أو إعدا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0000"/>
                </a:solidFill>
                <a:uFillTx/>
                <a:latin typeface="Arial"/>
              </a:rPr>
              <a:t>إنني أقوم بنشرها ليستفيد أكبر عدد من الأشخاص منها وذلك في خطوة أولى مني لعمل شيء تجاه حالة غير مرضية بلغها أبناء مجتمعاتنا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DO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عم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22480" y="2774880"/>
          <a:ext cx="7378200" cy="240156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1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06668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erb to HA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فعل ”يملك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used as a principal and a helping ver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تخدم كفعل رئيسي وفعل مساعد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39680" y="2859120"/>
          <a:ext cx="7378560" cy="2323800"/>
        </p:xfrm>
        <a:graphic>
          <a:graphicData uri="http://schemas.openxmlformats.org/drawingml/2006/table">
            <a:tbl>
              <a:tblPr/>
              <a:tblGrid>
                <a:gridCol w="1648440"/>
                <a:gridCol w="1570320"/>
                <a:gridCol w="1804320"/>
                <a:gridCol w="2355480"/>
              </a:tblGrid>
              <a:tr h="91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ضار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اض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 partici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م المفعو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you, we, 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1143000" y="533412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ضارع للتعبير عن عادات أو حقائق ثابت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نستخدم صيغة الماضي للتعبير عن شيء حصل وانتهى في الماض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gative Sentences with verb to HAV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 الجمل المنفية مع فعل ”يملك“ كفعل رئيسي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2019240"/>
          <a:ext cx="8229240" cy="3187440"/>
        </p:xfrm>
        <a:graphic>
          <a:graphicData uri="http://schemas.openxmlformats.org/drawingml/2006/table">
            <a:tbl>
              <a:tblPr/>
              <a:tblGrid>
                <a:gridCol w="1645200"/>
                <a:gridCol w="1647000"/>
                <a:gridCol w="1644840"/>
                <a:gridCol w="1647360"/>
                <a:gridCol w="164484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/does/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تكم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the verb to HAVE as a main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رئيسي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14400" y="2057400"/>
          <a:ext cx="7924680" cy="414972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914400"/>
                <a:gridCol w="1371600"/>
                <a:gridCol w="1752480"/>
                <a:gridCol w="1523880"/>
              </a:tblGrid>
              <a:tr h="7236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” or “No”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ئلة إجابتها بـ نعم و 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Answ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اع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كم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+ Subject + do/does/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do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do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ew wat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doe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does n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eakfast this morn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di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did no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فعل ”يملك “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كفعل مساعد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 to have is used as a helping verb to form the perfect ten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ستخدم فعل يملك كفعل مساعد ليكون زم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ahoma"/>
              </a:rPr>
              <a:t> المضارع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تا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two yea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l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ust finished his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3352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1911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7242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343400"/>
            <a:ext cx="7543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gative Sentences with verb to HAVE as a helping verb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الجمل المنفية مع فعل ”يملك“ كفعل مساعد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نفي مع فعل يملك نضع       بعد هذا الف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ved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328920" y="19810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ing Questions with verb to HAVE as a helping ver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تكوين السؤال مع فعل ”يملك“ كفعل مساعد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” or “No” questions and short ans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ئلة بـ نعم و لا و الإجابات مختصر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تكوين سؤال مع فعل يملك كفعل مساعد نقدم هذا الفعل على الفاع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i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re for a lo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       No, they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GRAMMAR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6000" spc="-1" strike="noStrike">
                <a:solidFill>
                  <a:srgbClr val="ffff00"/>
                </a:solidFill>
                <a:latin typeface="Arial"/>
              </a:rPr>
              <a:t>قواعد اللغــــــــــة الإنجليزية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Menu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 القائمة الرئيسية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English Alphabetic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الأبجدية الإنجليز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rts of Speech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أقسام الكل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Sentences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أنواع الجُ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Verb to BE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فعل ”يكو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Verb to DO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فعل ”يعم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Verb to HAVE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 “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فعل ”يمل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Noun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الأسماء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Countable Nouns 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cs typeface="Tahoma"/>
                <a:hlinkClick r:id="rId28" action="ppaction://hlinksldjump"/>
              </a:rPr>
              <a:t>الأسماء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29" action="ppaction://hlinksldjump"/>
              </a:rPr>
              <a:t>Spelling Rules for Plural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0" action="ppaction://hlinksldjump"/>
              </a:rPr>
              <a:t>قواعد إملاء الجمع</a:t>
            </a:r>
            <a:r>
              <a:rPr b="0" lang="ar-SA" sz="1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1" action="ppaction://hlinksldjump"/>
              </a:rPr>
              <a:t>Uncountable 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4" action="ppaction://hlinksldjump"/>
              </a:rPr>
              <a:t>الأسماء الغير المعدود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5" action="ppaction://hlinksldjump"/>
              </a:rPr>
              <a:t>Definite &amp; Indefinite Article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6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38" action="ppaction://hlinksldjump"/>
              </a:rPr>
              <a:t>أدوات التعريف و النكر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39" action="ppaction://hlinksldjump"/>
              </a:rPr>
              <a:t>Pronou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40" action="ppaction://hlinksldjump"/>
              </a:rPr>
              <a:t>الضمائر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1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2" action="ppaction://hlinksldjump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3" action="ppaction://hlinksldjump"/>
              </a:rPr>
              <a:t>Object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6" action="ppaction://hlinksldjump"/>
              </a:rPr>
              <a:t>ضمائر المفعول به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7" action="ppaction://hlinksldjump"/>
              </a:rPr>
              <a:t>Reflexive Pronouns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48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0" action="ppaction://hlinksldjump"/>
              </a:rPr>
              <a:t>ضمائر الانعكاسية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51" action="ppaction://hlinksldjump"/>
              </a:rPr>
              <a:t>Relative Pronouns 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52" action="ppaction://hlinksldjump"/>
              </a:rPr>
              <a:t>ضمائر الوص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3" action="ppaction://hlinksldjump"/>
              </a:rPr>
              <a:t>Making Question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4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5" action="ppaction://hlinksldjump"/>
              </a:rPr>
              <a:t>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6" action="ppaction://hlinksldjump"/>
              </a:rPr>
              <a:t>تكوين الأسئ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57" action="ppaction://hlinksldjump"/>
              </a:rPr>
              <a:t>استعمال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8" action="ppaction://hlinksldjump"/>
              </a:rPr>
              <a:t>  H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59" action="ppaction://hlinksldjump"/>
              </a:rPr>
              <a:t>some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0" action="ppaction://hlinksldjump"/>
              </a:rPr>
              <a:t>بعض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1" action="ppaction://hlinksldjump"/>
              </a:rPr>
              <a:t>   any/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2" action="ppaction://hlinksldjump"/>
              </a:rPr>
              <a:t>أي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3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4" action="ppaction://hlinksldjump"/>
              </a:rPr>
              <a:t>Making Negative 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5" action="ppaction://hlinksldjump"/>
              </a:rPr>
              <a:t>تكوين النف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6" action="ppaction://hlinksldjump"/>
              </a:rPr>
              <a:t>TENS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7" action="ppaction://hlinksldjump"/>
              </a:rPr>
              <a:t> 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6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69" action="ppaction://hlinksldjump"/>
              </a:rPr>
              <a:t>الأزمن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70" action="ppaction://hlinksldjump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1" action="ppaction://hlinksldjump"/>
              </a:rPr>
              <a:t>Presen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2" action="ppaction://hlinksldjump"/>
              </a:rPr>
              <a:t>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4" action="ppaction://hlinksldjump"/>
              </a:rPr>
              <a:t>المضارع البسيط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5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6" action="ppaction://hlinksldjump"/>
              </a:rPr>
              <a:t>Past Simple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77" action="ppaction://hlinksldjump"/>
              </a:rPr>
              <a:t>الماضي البسيط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8" action="ppaction://hlinksldjump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79" action="ppaction://hlinksldjump"/>
              </a:rPr>
              <a:t>Future Simple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0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2" action="ppaction://hlinksldjump"/>
              </a:rPr>
              <a:t>المستقبل البسي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80000"/>
              </a:lnSpc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3" action="ppaction://hlinksldjump"/>
              </a:rPr>
              <a:t>Present Continuous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4" action="ppaction://hlinksldjump"/>
              </a:rPr>
              <a:t> 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6" action="ppaction://hlinksldjump"/>
              </a:rPr>
              <a:t>المضارع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6920" y="19051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7" action="ppaction://hlinksldjump"/>
              </a:rPr>
              <a:t>Past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8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8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0" action="ppaction://hlinksldjump"/>
              </a:rPr>
              <a:t>الماضي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1" action="ppaction://hlinksldjump"/>
              </a:rPr>
              <a:t>Future Continuous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2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3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4" action="ppaction://hlinksldjump"/>
              </a:rPr>
              <a:t>المستقبل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5" action="ppaction://hlinksldjump"/>
              </a:rPr>
              <a:t>Present Perfect Tense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6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7" action="ppaction://hlinksldjump"/>
              </a:rPr>
              <a:t> 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98" action="ppaction://hlinksldjump"/>
              </a:rPr>
              <a:t>المضارع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99" action="ppaction://hlinksldjump"/>
              </a:rPr>
              <a:t>Past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0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1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2" action="ppaction://hlinksldjump"/>
              </a:rPr>
              <a:t>الماضي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3" action="ppaction://hlinksldjump"/>
              </a:rPr>
              <a:t>Future Perfect Tense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4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5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6" action="ppaction://hlinksldjump"/>
              </a:rPr>
              <a:t>المستقبل التا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2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7" action="ppaction://hlinksldjump"/>
              </a:rPr>
              <a:t>Present Perfect Continuous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08" action="ppaction://hlinksldjump"/>
              </a:rPr>
              <a:t>  </a:t>
            </a:r>
            <a:r>
              <a:rPr b="0" lang="en-US" sz="1000" spc="-1" strike="noStrike" u="sng">
                <a:solidFill>
                  <a:srgbClr val="ffffcc"/>
                </a:solidFill>
                <a:uFillTx/>
                <a:latin typeface="Arial"/>
                <a:hlinkClick r:id="rId109" action="ppaction://hlinksldjump"/>
              </a:rPr>
              <a:t> </a:t>
            </a:r>
            <a:r>
              <a:rPr b="0" lang="ar-SA" sz="1000" spc="-1" strike="noStrike" u="sng">
                <a:solidFill>
                  <a:srgbClr val="ffffcc"/>
                </a:solidFill>
                <a:uFillTx/>
                <a:latin typeface="Arial"/>
                <a:hlinkClick r:id="rId110" action="ppaction://hlinksldjump"/>
              </a:rPr>
              <a:t>المضارع التام المستم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1" action="ppaction://hlinksldjump"/>
              </a:rPr>
              <a:t>Imperative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2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4" action="ppaction://hlinksldjump"/>
              </a:rPr>
              <a:t>صيغة الأمر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6" action="ppaction://hlinksldjump"/>
              </a:rPr>
              <a:t>Modal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7" action="ppaction://hlinksldjump"/>
              </a:rPr>
              <a:t>  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18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19" action="ppaction://hlinksldjump"/>
              </a:rPr>
              <a:t>الأفعال الناقص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0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1" action="ppaction://hlinksldjump"/>
              </a:rPr>
              <a:t>Comparing Adjectiv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2" action="ppaction://hlinksldjump"/>
              </a:rPr>
              <a:t> 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3" action="ppaction://hlinksldjump"/>
              </a:rPr>
              <a:t>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4" action="ppaction://hlinksldjump"/>
              </a:rPr>
              <a:t>مقارنة الصفات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5" action="ppaction://hlinksldjump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6" action="ppaction://hlinksldjump"/>
              </a:rPr>
              <a:t>Adverbs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7" action="ppaction://hlinksldjump"/>
              </a:rPr>
              <a:t>الظروف الأحوال</a:t>
            </a:r>
            <a:r>
              <a:rPr b="0" lang="ar-SA" sz="1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28" action="ppaction://hlinksldjump"/>
              </a:rPr>
              <a:t>Active &amp; Passive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29" action="ppaction://hlinksldjump"/>
              </a:rPr>
              <a:t>المبني للمعلوم و المبني للمجه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0" action="ppaction://hlinksldjump"/>
              </a:rPr>
              <a:t>Transitive &amp; Intransitive Verb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1" action="ppaction://hlinksldjump"/>
              </a:rPr>
              <a:t>الأفعال اللازمة و الأفعال المتعدية</a:t>
            </a: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2" action="ppaction://hlinksldjump"/>
              </a:rPr>
              <a:t>...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3" action="ppaction://hlinksldjump"/>
              </a:rPr>
              <a:t>Preposition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4" action="ppaction://hlinksldjump"/>
              </a:rPr>
              <a:t>حروف الج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5" action="ppaction://hlinksldjump"/>
              </a:rPr>
              <a:t>Question-Tags 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6" action="ppaction://hlinksldjump"/>
              </a:rPr>
              <a:t>الأسئلة المذيل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7" action="ppaction://hlinksldjump"/>
              </a:rPr>
              <a:t>Conditional “if” ”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38" action="ppaction://hlinksldjump"/>
              </a:rPr>
              <a:t>لو“ الشرطي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39" action="ppaction://hlinksldjump"/>
              </a:rPr>
              <a:t>Reported Speech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0" action="ppaction://hlinksldjump"/>
              </a:rPr>
              <a:t>الكلام المنقو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cc"/>
                </a:solidFill>
                <a:uFillTx/>
                <a:latin typeface="Arial"/>
                <a:hlinkClick r:id="rId141" action="ppaction://hlinksldjump"/>
              </a:rPr>
              <a:t>Countries and Nationalities </a:t>
            </a:r>
            <a:r>
              <a:rPr b="0" lang="ar-SA" sz="1200" spc="-1" strike="noStrike" u="sng">
                <a:solidFill>
                  <a:srgbClr val="ffffcc"/>
                </a:solidFill>
                <a:uFillTx/>
                <a:latin typeface="Arial"/>
                <a:hlinkClick r:id="rId142" action="ppaction://hlinksldjump"/>
              </a:rPr>
              <a:t>البلدان و الجنسيات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تم تحميل هذا الملف من إقلاع سوفت http://www.eqla3-sof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glish Alphab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أبجدية الإنجليزية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pita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كب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all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أبجدية الإنجليزية الصغير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nsonant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ساكن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 algn="r" rtl="1"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owels Letters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الحروف المتحرك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184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228600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47920" y="3352680"/>
          <a:ext cx="7076880" cy="485640"/>
        </p:xfrm>
        <a:graphic>
          <a:graphicData uri="http://schemas.openxmlformats.org/drawingml/2006/table">
            <a:tbl>
              <a:tblPr/>
              <a:tblGrid>
                <a:gridCol w="544320"/>
                <a:gridCol w="544320"/>
                <a:gridCol w="544680"/>
                <a:gridCol w="542880"/>
                <a:gridCol w="544680"/>
                <a:gridCol w="546120"/>
                <a:gridCol w="542880"/>
                <a:gridCol w="544320"/>
                <a:gridCol w="544680"/>
                <a:gridCol w="544320"/>
                <a:gridCol w="542880"/>
                <a:gridCol w="544680"/>
                <a:gridCol w="54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447920" y="4343400"/>
          <a:ext cx="5756040" cy="24300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  <a:gridCol w="255600"/>
                <a:gridCol w="274680"/>
                <a:gridCol w="274680"/>
                <a:gridCol w="274680"/>
                <a:gridCol w="274680"/>
                <a:gridCol w="274680"/>
                <a:gridCol w="274680"/>
                <a:gridCol w="274320"/>
                <a:gridCol w="274680"/>
                <a:gridCol w="274680"/>
                <a:gridCol w="274680"/>
                <a:gridCol w="276120"/>
                <a:gridCol w="274680"/>
                <a:gridCol w="274680"/>
                <a:gridCol w="27468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105520"/>
          <a:ext cx="1377720" cy="242640"/>
        </p:xfrm>
        <a:graphic>
          <a:graphicData uri="http://schemas.openxmlformats.org/drawingml/2006/table">
            <a:tbl>
              <a:tblPr/>
              <a:tblGrid>
                <a:gridCol w="274680"/>
                <a:gridCol w="258480"/>
                <a:gridCol w="292320"/>
                <a:gridCol w="276120"/>
                <a:gridCol w="2761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8" name="">
              <a:hlinkClick r:id="rId1" action="ppaction://hlinksldjump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533520" y="1828800"/>
          <a:ext cx="8153280" cy="4059360"/>
        </p:xfrm>
        <a:graphic>
          <a:graphicData uri="http://schemas.openxmlformats.org/drawingml/2006/table">
            <a:tbl>
              <a:tblPr/>
              <a:tblGrid>
                <a:gridCol w="1647720"/>
                <a:gridCol w="3211560"/>
                <a:gridCol w="329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2f"/>
                        </a:gs>
                        <a:gs pos="5000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اس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, 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اسم أو يحل مح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he, she, it, etc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……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ما يدل على حدوث شيء في وقت م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, played, will p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اسم وتكون قبل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جل غني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حظ أن الصفة هنا سبقت الاسم الموصوف بعكس اللغة العربية التي تكون فيها الصفة بعد الاسم الموصو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ve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كلمة تصف الفعل أو تزيد الصفة وضوحا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writ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ickly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كتب بسرع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457200" y="1600200"/>
          <a:ext cx="8229240" cy="3384360"/>
        </p:xfrm>
        <a:graphic>
          <a:graphicData uri="http://schemas.openxmlformats.org/drawingml/2006/table">
            <a:tbl>
              <a:tblPr/>
              <a:tblGrid>
                <a:gridCol w="1662840"/>
                <a:gridCol w="3241800"/>
                <a:gridCol w="33246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posi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ج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أتي مع الاسم أو الضمير لتبين علاقته بكلمة أخر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goe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مد يذهب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لى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درس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traveled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y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م سافروا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ب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طائ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jun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العط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كلمة تصل ما بين كلمة و كلمة أو جملة وجملة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ad visited us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لي </a:t>
                      </a:r>
                      <a:r>
                        <a:rPr b="0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و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حمد زارونا أم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jection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حرف 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 عبارة عن أصوات أو صيحات تعبر عن التعج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a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! She di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ا للأسف ! لقد مات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s of Speech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قسام الكلام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57200" y="1600200"/>
          <a:ext cx="8229240" cy="3580920"/>
        </p:xfrm>
        <a:graphic>
          <a:graphicData uri="http://schemas.openxmlformats.org/drawingml/2006/table">
            <a:tbl>
              <a:tblPr/>
              <a:tblGrid>
                <a:gridCol w="1662480"/>
                <a:gridCol w="3242160"/>
                <a:gridCol w="3324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ري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5400000"/>
                    </a:gradFill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i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دا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ناك ثلاث أدوات في اللغة الإنجليزية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an, t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ساك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كتاب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قبل الاسم النكرة الذي يبدأ بحرف </a:t>
                      </a: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  <a:cs typeface="Tahoma"/>
                        </a:rPr>
                        <a:t>متحرك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ه تفاح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        للتعري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is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I bought yesterda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ذا هو الكتاب الذي اشتريته أم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2688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480" y="39625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45720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Arial"/>
              </a:rPr>
              <a:t>ملاحظة 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دير بالذكر أن الجملة الإنجليزية لابد وأن تحتوي على فعل خلاف اللغة العربية التي قد تكون فيها الجملة اسمية أي بدون فعل مثل :(علي طبيب) ولو أردنا ترجمتها إلى الإنجليزية حرفيا نقول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doct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جملة إنجليزية خاطئة لعدم احتوائها على فعل والصحيح أن نضع لها فعل فتصبح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i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57600" y="6248520"/>
            <a:ext cx="1905120" cy="380880"/>
            <a:chOff x="3657600" y="6248520"/>
            <a:chExt cx="1905120" cy="380880"/>
          </a:xfrm>
        </p:grpSpPr>
        <p:sp>
          <p:nvSpPr>
            <p:cNvPr id="1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4:44Z</dcterms:created>
  <dc:creator>user</dc:creator>
  <dc:description/>
  <dc:language>en-US</dc:language>
  <cp:lastModifiedBy>user</cp:lastModifiedBy>
  <dcterms:modified xsi:type="dcterms:W3CDTF">2007-07-13T00:14:44Z</dcterms:modified>
  <cp:revision>1</cp:revision>
  <dc:subject/>
  <dc:title>الشريحة 1</dc:title>
</cp:coreProperties>
</file>