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E32-8418-4D74-A01D-32992A6E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252-514A-4FBF-8155-EBFA86E3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2AF-A1C9-4598-A6D4-065976EC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7C0-EBE1-4288-A2BA-F6FF5E63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E4F9-9A73-416C-855F-7D66FDAF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1485-D586-4E1E-8E70-68FEAB88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570E-4D37-46B5-A68A-399A2335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ADEF-3AFA-4F6E-B890-53115B1D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AADD-1649-46E0-8CA4-AC22C059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DC66-2E91-4DFD-A0DA-91A6C545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3382-13F4-4EB8-80C2-10A28D3A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66B-0A22-4998-812D-7E25D65E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8069-BFF3-4776-9B4F-825AB962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06D4-1182-4AC8-BE1E-387F5086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C10E-7CDA-44D2-BE79-0C8BC08B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018F-42D8-42C2-A4EA-66416C16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6CF3-F5D3-4232-A5A6-5D60C444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0BC45-BD5A-4D56-82DD-350CE4DB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1F3B5-2882-4AB1-869B-BBA3CE12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5DD9-52E4-4941-A643-5E674AF0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CEAB4-86E9-4387-98DE-9745F926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EAD21-20CC-47C7-973E-C746B798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A7B-E9EF-499D-878C-3CFADC09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E1008-B9AC-447F-B746-4FDB7A1B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39BFF-787B-4C40-9F1C-6ED9A95A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5DD9F-EFA3-4933-AD0C-A81083F3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B81D6-DE0F-4789-B78F-9E42A40C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B00CB-FF93-4D72-966D-8C4447F1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60FD4-E3E2-4760-8A64-A5EC7FE7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08F16-1BEE-4DFF-BB9B-A68526A6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A07-4D8B-44FE-AD4A-B7EC87DE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ACF-9958-4FF2-92AB-28A81271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10D-1035-4584-A6E2-C2321552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7AE-7D0A-4AC7-9189-A6D9F013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FBFA-CBC2-40FC-8E18-A936C31A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C835-CD21-46F1-B825-82715488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0E5B-9105-438B-B530-A029B11DB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5D24-F9B5-4283-961E-07D422C9308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E4BF-565C-44EC-9248-FF0D5F20ABE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6.xml"/><Relationship Id="rId14" Type="http://schemas.openxmlformats.org/officeDocument/2006/relationships/slide" Target="slide20.xml"/><Relationship Id="rId15" Type="http://schemas.openxmlformats.org/officeDocument/2006/relationships/slide" Target="slide20.xml"/><Relationship Id="rId16" Type="http://schemas.openxmlformats.org/officeDocument/2006/relationships/slide" Target="slide20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slide" Target="slide21.xml"/><Relationship Id="rId22" Type="http://schemas.openxmlformats.org/officeDocument/2006/relationships/slide" Target="slide27.xml"/><Relationship Id="rId23" Type="http://schemas.openxmlformats.org/officeDocument/2006/relationships/slide" Target="slide27.xml"/><Relationship Id="rId24" Type="http://schemas.openxmlformats.org/officeDocument/2006/relationships/slide" Target="slide27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9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0.xml"/><Relationship Id="rId31" Type="http://schemas.openxmlformats.org/officeDocument/2006/relationships/slide" Target="slide36.xml"/><Relationship Id="rId32" Type="http://schemas.openxmlformats.org/officeDocument/2006/relationships/slide" Target="slide36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9.xml"/><Relationship Id="rId36" Type="http://schemas.openxmlformats.org/officeDocument/2006/relationships/slide" Target="slide39.xml"/><Relationship Id="rId37" Type="http://schemas.openxmlformats.org/officeDocument/2006/relationships/slide" Target="slide39.xml"/><Relationship Id="rId38" Type="http://schemas.openxmlformats.org/officeDocument/2006/relationships/slide" Target="slide39.xml"/><Relationship Id="rId39" Type="http://schemas.openxmlformats.org/officeDocument/2006/relationships/slide" Target="slide46.xml"/><Relationship Id="rId40" Type="http://schemas.openxmlformats.org/officeDocument/2006/relationships/slide" Target="slide46.xml"/><Relationship Id="rId41" Type="http://schemas.openxmlformats.org/officeDocument/2006/relationships/slide" Target="slide46.xml"/><Relationship Id="rId42" Type="http://schemas.openxmlformats.org/officeDocument/2006/relationships/slide" Target="slide46.xml"/><Relationship Id="rId43" Type="http://schemas.openxmlformats.org/officeDocument/2006/relationships/slide" Target="slide48.xml"/><Relationship Id="rId44" Type="http://schemas.openxmlformats.org/officeDocument/2006/relationships/slide" Target="slide48.xml"/><Relationship Id="rId45" Type="http://schemas.openxmlformats.org/officeDocument/2006/relationships/slide" Target="slide48.xml"/><Relationship Id="rId46" Type="http://schemas.openxmlformats.org/officeDocument/2006/relationships/slide" Target="slide48.xml"/><Relationship Id="rId47" Type="http://schemas.openxmlformats.org/officeDocument/2006/relationships/slide" Target="slide49.xml"/><Relationship Id="rId48" Type="http://schemas.openxmlformats.org/officeDocument/2006/relationships/slide" Target="slide49.xml"/><Relationship Id="rId49" Type="http://schemas.openxmlformats.org/officeDocument/2006/relationships/slide" Target="slide49.xml"/><Relationship Id="rId50" Type="http://schemas.openxmlformats.org/officeDocument/2006/relationships/slide" Target="slide49.xml"/><Relationship Id="rId51" Type="http://schemas.openxmlformats.org/officeDocument/2006/relationships/slide" Target="slide50.xml"/><Relationship Id="rId52" Type="http://schemas.openxmlformats.org/officeDocument/2006/relationships/slide" Target="slide50.xml"/><Relationship Id="rId53" Type="http://schemas.openxmlformats.org/officeDocument/2006/relationships/slide" Target="slide56.xml"/><Relationship Id="rId54" Type="http://schemas.openxmlformats.org/officeDocument/2006/relationships/slide" Target="slide56.xml"/><Relationship Id="rId55" Type="http://schemas.openxmlformats.org/officeDocument/2006/relationships/slide" Target="slide56.xml"/><Relationship Id="rId56" Type="http://schemas.openxmlformats.org/officeDocument/2006/relationships/slide" Target="slide56.xml"/><Relationship Id="rId57" Type="http://schemas.openxmlformats.org/officeDocument/2006/relationships/slide" Target="slide64.xml"/><Relationship Id="rId58" Type="http://schemas.openxmlformats.org/officeDocument/2006/relationships/slide" Target="slide64.xml"/><Relationship Id="rId59" Type="http://schemas.openxmlformats.org/officeDocument/2006/relationships/slide" Target="slide66.xml"/><Relationship Id="rId60" Type="http://schemas.openxmlformats.org/officeDocument/2006/relationships/slide" Target="slide66.xml"/><Relationship Id="rId61" Type="http://schemas.openxmlformats.org/officeDocument/2006/relationships/slide" Target="slide66.xml"/><Relationship Id="rId62" Type="http://schemas.openxmlformats.org/officeDocument/2006/relationships/slide" Target="slide66.xml"/><Relationship Id="rId63" Type="http://schemas.openxmlformats.org/officeDocument/2006/relationships/slide" Target="slide66.xml"/><Relationship Id="rId64" Type="http://schemas.openxmlformats.org/officeDocument/2006/relationships/slide" Target="slide67.xml"/><Relationship Id="rId65" Type="http://schemas.openxmlformats.org/officeDocument/2006/relationships/slide" Target="slide67.xml"/><Relationship Id="rId66" Type="http://schemas.openxmlformats.org/officeDocument/2006/relationships/slide" Target="slide70.xml"/><Relationship Id="rId67" Type="http://schemas.openxmlformats.org/officeDocument/2006/relationships/slide" Target="slide70.xml"/><Relationship Id="rId68" Type="http://schemas.openxmlformats.org/officeDocument/2006/relationships/slide" Target="slide70.xml"/><Relationship Id="rId69" Type="http://schemas.openxmlformats.org/officeDocument/2006/relationships/slide" Target="slide70.xml"/><Relationship Id="rId70" Type="http://schemas.openxmlformats.org/officeDocument/2006/relationships/slide" Target="slide70.xml"/><Relationship Id="rId71" Type="http://schemas.openxmlformats.org/officeDocument/2006/relationships/slide" Target="slide70.xml"/><Relationship Id="rId72" Type="http://schemas.openxmlformats.org/officeDocument/2006/relationships/slide" Target="slide70.xml"/><Relationship Id="rId73" Type="http://schemas.openxmlformats.org/officeDocument/2006/relationships/slide" Target="slide70.xml"/><Relationship Id="rId74" Type="http://schemas.openxmlformats.org/officeDocument/2006/relationships/slide" Target="slide70.xml"/><Relationship Id="rId75" Type="http://schemas.openxmlformats.org/officeDocument/2006/relationships/slide" Target="slide70.xml"/><Relationship Id="rId76" Type="http://schemas.openxmlformats.org/officeDocument/2006/relationships/slide" Target="slide72.xml"/><Relationship Id="rId77" Type="http://schemas.openxmlformats.org/officeDocument/2006/relationships/slide" Target="slide72.xml"/><Relationship Id="rId78" Type="http://schemas.openxmlformats.org/officeDocument/2006/relationships/slide" Target="slide72.xml"/><Relationship Id="rId79" Type="http://schemas.openxmlformats.org/officeDocument/2006/relationships/slide" Target="slide74.xml"/><Relationship Id="rId80" Type="http://schemas.openxmlformats.org/officeDocument/2006/relationships/slide" Target="slide74.xml"/><Relationship Id="rId81" Type="http://schemas.openxmlformats.org/officeDocument/2006/relationships/slide" Target="slide74.xml"/><Relationship Id="rId82" Type="http://schemas.openxmlformats.org/officeDocument/2006/relationships/slide" Target="slide74.xml"/><Relationship Id="rId83" Type="http://schemas.openxmlformats.org/officeDocument/2006/relationships/slide" Target="slide76.xml"/><Relationship Id="rId84" Type="http://schemas.openxmlformats.org/officeDocument/2006/relationships/slide" Target="slide76.xml"/><Relationship Id="rId85" Type="http://schemas.openxmlformats.org/officeDocument/2006/relationships/slide" Target="slide76.xml"/><Relationship Id="rId86" Type="http://schemas.openxmlformats.org/officeDocument/2006/relationships/slide" Target="slide76.xml"/><Relationship Id="rId87" Type="http://schemas.openxmlformats.org/officeDocument/2006/relationships/slide" Target="slide81.xml"/><Relationship Id="rId88" Type="http://schemas.openxmlformats.org/officeDocument/2006/relationships/slide" Target="slide81.xml"/><Relationship Id="rId89" Type="http://schemas.openxmlformats.org/officeDocument/2006/relationships/slide" Target="slide81.xml"/><Relationship Id="rId90" Type="http://schemas.openxmlformats.org/officeDocument/2006/relationships/slide" Target="slide81.xml"/><Relationship Id="rId91" Type="http://schemas.openxmlformats.org/officeDocument/2006/relationships/slide" Target="slide83.xml"/><Relationship Id="rId92" Type="http://schemas.openxmlformats.org/officeDocument/2006/relationships/slide" Target="slide83.xml"/><Relationship Id="rId93" Type="http://schemas.openxmlformats.org/officeDocument/2006/relationships/slide" Target="slide83.xml"/><Relationship Id="rId94" Type="http://schemas.openxmlformats.org/officeDocument/2006/relationships/slide" Target="slide83.xml"/><Relationship Id="rId95" Type="http://schemas.openxmlformats.org/officeDocument/2006/relationships/slide" Target="slide85.xml"/><Relationship Id="rId96" Type="http://schemas.openxmlformats.org/officeDocument/2006/relationships/slide" Target="slide85.xml"/><Relationship Id="rId97" Type="http://schemas.openxmlformats.org/officeDocument/2006/relationships/slide" Target="slide85.xml"/><Relationship Id="rId98" Type="http://schemas.openxmlformats.org/officeDocument/2006/relationships/slide" Target="slide85.xml"/><Relationship Id="rId99" Type="http://schemas.openxmlformats.org/officeDocument/2006/relationships/slide" Target="slide88.xml"/><Relationship Id="rId100" Type="http://schemas.openxmlformats.org/officeDocument/2006/relationships/slide" Target="slide88.xml"/><Relationship Id="rId101" Type="http://schemas.openxmlformats.org/officeDocument/2006/relationships/slide" Target="slide88.xml"/><Relationship Id="rId102" Type="http://schemas.openxmlformats.org/officeDocument/2006/relationships/slide" Target="slide88.xml"/><Relationship Id="rId103" Type="http://schemas.openxmlformats.org/officeDocument/2006/relationships/slide" Target="slide90.xml"/><Relationship Id="rId104" Type="http://schemas.openxmlformats.org/officeDocument/2006/relationships/slide" Target="slide90.xml"/><Relationship Id="rId105" Type="http://schemas.openxmlformats.org/officeDocument/2006/relationships/slide" Target="slide90.xml"/><Relationship Id="rId106" Type="http://schemas.openxmlformats.org/officeDocument/2006/relationships/slide" Target="slide90.xml"/><Relationship Id="rId107" Type="http://schemas.openxmlformats.org/officeDocument/2006/relationships/slide" Target="slide92.xml"/><Relationship Id="rId108" Type="http://schemas.openxmlformats.org/officeDocument/2006/relationships/slide" Target="slide92.xml"/><Relationship Id="rId109" Type="http://schemas.openxmlformats.org/officeDocument/2006/relationships/slide" Target="slide92.xml"/><Relationship Id="rId110" Type="http://schemas.openxmlformats.org/officeDocument/2006/relationships/slide" Target="slide92.xml"/><Relationship Id="rId111" Type="http://schemas.openxmlformats.org/officeDocument/2006/relationships/slide" Target="slide95.xml"/><Relationship Id="rId112" Type="http://schemas.openxmlformats.org/officeDocument/2006/relationships/slide" Target="slide95.xml"/><Relationship Id="rId113" Type="http://schemas.openxmlformats.org/officeDocument/2006/relationships/slide" Target="slide95.xml"/><Relationship Id="rId114" Type="http://schemas.openxmlformats.org/officeDocument/2006/relationships/slide" Target="slide95.xml"/><Relationship Id="rId115" Type="http://schemas.openxmlformats.org/officeDocument/2006/relationships/slide" Target="slide95.xml"/><Relationship Id="rId116" Type="http://schemas.openxmlformats.org/officeDocument/2006/relationships/slide" Target="slide98.xml"/><Relationship Id="rId117" Type="http://schemas.openxmlformats.org/officeDocument/2006/relationships/slide" Target="slide98.xml"/><Relationship Id="rId118" Type="http://schemas.openxmlformats.org/officeDocument/2006/relationships/slide" Target="slide98.xml"/><Relationship Id="rId119" Type="http://schemas.openxmlformats.org/officeDocument/2006/relationships/slide" Target="slide98.xml"/><Relationship Id="rId120" Type="http://schemas.openxmlformats.org/officeDocument/2006/relationships/slide" Target="slide98.xml"/><Relationship Id="rId121" Type="http://schemas.openxmlformats.org/officeDocument/2006/relationships/slide" Target="slide104.xml"/><Relationship Id="rId122" Type="http://schemas.openxmlformats.org/officeDocument/2006/relationships/slide" Target="slide104.xml"/><Relationship Id="rId123" Type="http://schemas.openxmlformats.org/officeDocument/2006/relationships/slide" Target="slide104.xml"/><Relationship Id="rId124" Type="http://schemas.openxmlformats.org/officeDocument/2006/relationships/slide" Target="slide104.xml"/><Relationship Id="rId125" Type="http://schemas.openxmlformats.org/officeDocument/2006/relationships/slide" Target="slide104.xml"/><Relationship Id="rId126" Type="http://schemas.openxmlformats.org/officeDocument/2006/relationships/slide" Target="slide110.xml"/><Relationship Id="rId127" Type="http://schemas.openxmlformats.org/officeDocument/2006/relationships/slide" Target="slide110.xml"/><Relationship Id="rId128" Type="http://schemas.openxmlformats.org/officeDocument/2006/relationships/slide" Target="slide124.xml"/><Relationship Id="rId129" Type="http://schemas.openxmlformats.org/officeDocument/2006/relationships/slide" Target="slide124.xml"/><Relationship Id="rId130" Type="http://schemas.openxmlformats.org/officeDocument/2006/relationships/slide" Target="slide134.xml"/><Relationship Id="rId131" Type="http://schemas.openxmlformats.org/officeDocument/2006/relationships/slide" Target="slide134.xml"/><Relationship Id="rId132" Type="http://schemas.openxmlformats.org/officeDocument/2006/relationships/slide" Target="slide134.xml"/><Relationship Id="rId133" Type="http://schemas.openxmlformats.org/officeDocument/2006/relationships/slide" Target="slide135.xml"/><Relationship Id="rId134" Type="http://schemas.openxmlformats.org/officeDocument/2006/relationships/slide" Target="slide135.xml"/><Relationship Id="rId135" Type="http://schemas.openxmlformats.org/officeDocument/2006/relationships/slide" Target="slide146.xml"/><Relationship Id="rId136" Type="http://schemas.openxmlformats.org/officeDocument/2006/relationships/slide" Target="slide146.xml"/><Relationship Id="rId137" Type="http://schemas.openxmlformats.org/officeDocument/2006/relationships/slide" Target="slide149.xml"/><Relationship Id="rId138" Type="http://schemas.openxmlformats.org/officeDocument/2006/relationships/slide" Target="slide149.xml"/><Relationship Id="rId139" Type="http://schemas.openxmlformats.org/officeDocument/2006/relationships/slide" Target="slide153.xml"/><Relationship Id="rId140" Type="http://schemas.openxmlformats.org/officeDocument/2006/relationships/slide" Target="slide153.xml"/><Relationship Id="rId141" Type="http://schemas.openxmlformats.org/officeDocument/2006/relationships/slide" Target="slide163.xml"/><Relationship Id="rId142" Type="http://schemas.openxmlformats.org/officeDocument/2006/relationships/slide" Target="slide163.xml"/><Relationship Id="rId14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نواع الجُ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بسي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رك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عقدة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بسيط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ي الجملة التي تحتوي على فعل واحد فقط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بسيط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تركب من جملتين بسيطتين لهما صلة ببعضهما البعض ولكل منهما معنى مستقل حيث يتم ربطهما بحرف عطف مثل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/ but /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nd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واو العطف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لهما علاقة بين بعضهم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.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لك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عن  شيئين مختلفين أو متناقض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.  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                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أو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يكون فيهما خي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.  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عق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حتوي على أكثر من فعل واحد و مركبة من جملتين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اس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وهي ثلاثة أنواع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ordinate Cla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ثانو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u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مية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jectiv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وصفية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verbi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ظرفية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ause &amp; Phrase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جملة و شبه الجمل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lause is a combination of words containing a verb and has a complete mea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جملة هي مجموعة كلمات تحتوي على فعل و لها معنى تام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 was 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hrase is a combination of words forming part of the sentence but without a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شبه الجملة عبارة عن مجموعة كلمات تكون جزءاً من الجملة بدون فعل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111320" y="2951280"/>
          <a:ext cx="7310520" cy="2928960"/>
        </p:xfrm>
        <a:graphic>
          <a:graphicData uri="http://schemas.openxmlformats.org/drawingml/2006/table">
            <a:tbl>
              <a:tblPr/>
              <a:tblGrid>
                <a:gridCol w="1633320"/>
                <a:gridCol w="1555920"/>
                <a:gridCol w="1787400"/>
                <a:gridCol w="233388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, They, 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ث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up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grpSp>
          <p:nvGrpSpPr>
            <p:cNvPr id="238" name=""/>
            <p:cNvGrpSpPr/>
            <p:nvPr/>
          </p:nvGrpSpPr>
          <p:grpSpPr>
            <a:xfrm>
              <a:off x="3657600" y="6248520"/>
              <a:ext cx="2514600" cy="380880"/>
              <a:chOff x="3657600" y="6248520"/>
              <a:chExt cx="2514600" cy="380880"/>
            </a:xfrm>
          </p:grpSpPr>
          <p:sp>
            <p:nvSpPr>
              <p:cNvPr id="239" name="">
                <a:hlinkClick r:id="" action="ppaction://hlinkshowjump?jump=firstslide"/>
              </p:cNvPr>
              <p:cNvSpPr/>
              <p:nvPr/>
            </p:nvSpPr>
            <p:spPr>
              <a:xfrm>
                <a:off x="4267080" y="6248520"/>
                <a:ext cx="1295640" cy="380880"/>
              </a:xfrm>
              <a:custGeom>
                <a:avLst/>
                <a:gdLst>
                  <a:gd name="textAreaLeft" fmla="*/ 24480 w 1295640"/>
                  <a:gd name="textAreaRight" fmla="*/ 1271160 w 129564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3428" y="21600"/>
                    </a:lnTo>
                    <a:lnTo>
                      <a:pt x="0" y="21600"/>
                    </a:lnTo>
                    <a:close/>
                  </a:path>
                  <a:path fill="lightenLess"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2028" y="1400"/>
                    </a:lnTo>
                    <a:lnTo>
                      <a:pt x="1400" y="1400"/>
                    </a:lnTo>
                    <a:close/>
                  </a:path>
                  <a:path fill="darken" w="73428" h="21600">
                    <a:moveTo>
                      <a:pt x="73428" y="0"/>
                    </a:moveTo>
                    <a:lnTo>
                      <a:pt x="73428" y="21600"/>
                    </a:lnTo>
                    <a:lnTo>
                      <a:pt x="72028" y="20200"/>
                    </a:lnTo>
                    <a:lnTo>
                      <a:pt x="72028" y="1400"/>
                    </a:lnTo>
                    <a:close/>
                  </a:path>
                  <a:path fill="darkenLess" w="73428" h="21600">
                    <a:moveTo>
                      <a:pt x="73428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72028" y="20200"/>
                    </a:lnTo>
                    <a:close/>
                  </a:path>
                  <a:path fill="lighten" w="73428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73428" h="21600">
                    <a:moveTo>
                      <a:pt x="36714" y="3837"/>
                    </a:moveTo>
                    <a:lnTo>
                      <a:pt x="39290" y="6448"/>
                    </a:ln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lnTo>
                      <a:pt x="43677" y="10800"/>
                    </a:lnTo>
                    <a:lnTo>
                      <a:pt x="42023" y="10800"/>
                    </a:lnTo>
                    <a:lnTo>
                      <a:pt x="42023" y="17989"/>
                    </a:lnTo>
                    <a:lnTo>
                      <a:pt x="31405" y="17989"/>
                    </a:lnTo>
                    <a:lnTo>
                      <a:pt x="31405" y="10800"/>
                    </a:lnTo>
                    <a:lnTo>
                      <a:pt x="29751" y="10800"/>
                    </a:lnTo>
                    <a:close/>
                  </a:path>
                  <a:path fill="darkenLess" w="73428" h="21600">
                    <a:moveTo>
                      <a:pt x="39290" y="6448"/>
                    </a:move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close/>
                  </a:path>
                  <a:path fill="darkenLess" w="73428" h="21600">
                    <a:moveTo>
                      <a:pt x="35791" y="14299"/>
                    </a:moveTo>
                    <a:lnTo>
                      <a:pt x="37636" y="14299"/>
                    </a:lnTo>
                    <a:lnTo>
                      <a:pt x="37636" y="17989"/>
                    </a:lnTo>
                    <a:lnTo>
                      <a:pt x="42023" y="17989"/>
                    </a:lnTo>
                    <a:lnTo>
                      <a:pt x="42023" y="10800"/>
                    </a:lnTo>
                    <a:lnTo>
                      <a:pt x="31405" y="10800"/>
                    </a:lnTo>
                    <a:lnTo>
                      <a:pt x="31405" y="17989"/>
                    </a:lnTo>
                    <a:lnTo>
                      <a:pt x="35791" y="17989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عودة إلى القائمة الرئيسية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>
                <a:hlinkClick r:id="" action="ppaction://hlinkshowjump?jump=nextslide"/>
              </p:cNvPr>
              <p:cNvSpPr/>
              <p:nvPr/>
            </p:nvSpPr>
            <p:spPr>
              <a:xfrm>
                <a:off x="57150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تالي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>
                <a:hlinkClick r:id="" action="ppaction://hlinkshowjump?jump=previousslide"/>
              </p:cNvPr>
              <p:cNvSpPr/>
              <p:nvPr/>
            </p:nvSpPr>
            <p:spPr>
              <a:xfrm>
                <a:off x="36576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10800"/>
                    </a:moveTo>
                    <a:lnTo>
                      <a:pt x="19969" y="3794"/>
                    </a:lnTo>
                    <a:lnTo>
                      <a:pt x="19969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ساب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the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منفية بال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make negative statements with the verb to BE by using the word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fter the verb to 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كون جمل منفية مع فعل (يكون) بوضع كل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بعده 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4038480"/>
          <a:ext cx="5333400" cy="2071440"/>
        </p:xfrm>
        <a:graphic>
          <a:graphicData uri="http://schemas.openxmlformats.org/drawingml/2006/table">
            <a:tbl>
              <a:tblPr/>
              <a:tblGrid>
                <a:gridCol w="2666880"/>
                <a:gridCol w="2666520"/>
              </a:tblGrid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 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king Questions with the verb to B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تكوين السؤال مع 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(نعم) و (لا) و الإجابات مختصرة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447920" y="3048120"/>
          <a:ext cx="7162560" cy="3119400"/>
        </p:xfrm>
        <a:graphic>
          <a:graphicData uri="http://schemas.openxmlformats.org/drawingml/2006/table">
            <a:tbl>
              <a:tblPr/>
              <a:tblGrid>
                <a:gridCol w="1433520"/>
                <a:gridCol w="1430280"/>
                <a:gridCol w="1434960"/>
                <a:gridCol w="1430280"/>
                <a:gridCol w="1433520"/>
              </a:tblGrid>
              <a:tr h="76464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Be +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teac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am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am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bo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we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were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b2b2b2"/>
                </a:solidFill>
                <a:latin typeface="Arial"/>
              </a:rPr>
              <a:t>تعلم مع معين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oeen@hotmail.co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2656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هذه المادة وغيرها هي نتاج ما جمعته من عدد من المواقع والكتب وغيرها ، وليست من تأليفي أو إعداد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إنني أقوم بنشرها ليستفيد أكبر عدد من الأشخاص منها وذلك في خطوة أولى مني لعمل شيء تجاه حالة غير مرضية بلغها أبناء مجتمعاتنا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DO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ع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22480" y="2774880"/>
          <a:ext cx="7378200" cy="240156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12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106668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HA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ملك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039680" y="2859120"/>
          <a:ext cx="7378560" cy="232380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480"/>
              </a:tblGrid>
              <a:tr h="91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114300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gative Sentences with verb to HAV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 الجمل المنفية مع فعل ”يملك“ كفعل رئيسي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2019240"/>
          <a:ext cx="8229240" cy="3187440"/>
        </p:xfrm>
        <a:graphic>
          <a:graphicData uri="http://schemas.openxmlformats.org/drawingml/2006/table">
            <a:tbl>
              <a:tblPr/>
              <a:tblGrid>
                <a:gridCol w="1645200"/>
                <a:gridCol w="1647000"/>
                <a:gridCol w="1644840"/>
                <a:gridCol w="1647360"/>
                <a:gridCol w="164484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/does/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تكمل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the verb to HAVE 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رئيسي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914400" y="2057400"/>
          <a:ext cx="7924680" cy="414972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914400"/>
                <a:gridCol w="1371600"/>
                <a:gridCol w="1752480"/>
                <a:gridCol w="1523880"/>
              </a:tblGrid>
              <a:tr h="72360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do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do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doe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does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di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did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فعل ”يملك “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كفعل مساعد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b to have is used as a helping verb to form the perfect ten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فعل يملك كفعل مساعد ليكون زمن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ahoma"/>
              </a:rPr>
              <a:t> المضارع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تا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two yea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el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ust finished his wor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434340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الجمل المنفية مع فعل ”يملك“ كفعل مساعد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نفي مع فعل يملك نضع       بعد هذا الف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أمثل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328920" y="198108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verb to HAVE as a helping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مساعد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ـ نعم و لا و الإجابات مختصر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سؤال مع فعل يملك كفعل مساعد نقدم هذا الفعل على الفا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       No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GRAMMAR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ffff00"/>
                </a:solidFill>
                <a:latin typeface="Arial"/>
              </a:rPr>
              <a:t>قواعد اللغــــــــــة الإنجليزية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in Menu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 القائمة الرئيسية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24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English Alphabetic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الأبجدية الإنجليز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Parts of Speech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أقسام الكل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Sentences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أنواع الجُ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Verb to BE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" action="ppaction://hlinksldjump"/>
              </a:rPr>
              <a:t>فعل ”يكو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" action="ppaction://hlinksldjump"/>
              </a:rPr>
              <a:t>Verb to DO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6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7" action="ppaction://hlinksldjump"/>
              </a:rPr>
              <a:t>فعل ”يع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8" action="ppaction://hlinksldjump"/>
              </a:rPr>
              <a:t>Verb to HAVE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9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0" action="ppaction://hlinksldjump"/>
              </a:rPr>
              <a:t> 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1" action="ppaction://hlinksldjump"/>
              </a:rPr>
              <a:t>فعل ”يمل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2" action="ppaction://hlinksldjump"/>
              </a:rPr>
              <a:t>Noun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3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4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5" action="ppaction://hlinksldjump"/>
              </a:rPr>
              <a:t>الأسماء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7" action="ppaction://hlinksldjump"/>
              </a:rPr>
              <a:t>Countable Nouns 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cs typeface="Tahoma"/>
                <a:hlinkClick r:id="rId28" action="ppaction://hlinksldjump"/>
              </a:rPr>
              <a:t>الأسماء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9" action="ppaction://hlinksldjump"/>
              </a:rPr>
              <a:t>Spelling Rules for Plural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0" action="ppaction://hlinksldjump"/>
              </a:rPr>
              <a:t>قواعد إملاء الجمع</a:t>
            </a:r>
            <a:r>
              <a:rPr b="0" lang="ar-SA" sz="1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1" action="ppaction://hlinksldjump"/>
              </a:rPr>
              <a:t>Uncountable 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4" action="ppaction://hlinksldjump"/>
              </a:rPr>
              <a:t>الأسماء الغير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5" action="ppaction://hlinksldjump"/>
              </a:rPr>
              <a:t>Definite &amp; Indefinite Article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6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7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8" action="ppaction://hlinksldjump"/>
              </a:rPr>
              <a:t>أدوات التعريف و النكر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9" action="ppaction://hlinksldjump"/>
              </a:rPr>
              <a:t>Pronou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40" action="ppaction://hlinksldjump"/>
              </a:rPr>
              <a:t>الضمائر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1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2" action="ppaction://hlinksldjump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3" action="ppaction://hlinksldjump"/>
              </a:rPr>
              <a:t>Object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4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6" action="ppaction://hlinksldjump"/>
              </a:rPr>
              <a:t>ضمائر المفعول به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7" action="ppaction://hlinksldjump"/>
              </a:rPr>
              <a:t>Reflexive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8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0" action="ppaction://hlinksldjump"/>
              </a:rPr>
              <a:t>ضمائر الانعكاسي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51" action="ppaction://hlinksldjump"/>
              </a:rPr>
              <a:t>Relative Pronoun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2" action="ppaction://hlinksldjump"/>
              </a:rPr>
              <a:t>ضمائر الوص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3" action="ppaction://hlinksldjump"/>
              </a:rPr>
              <a:t>Making Questio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4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5" action="ppaction://hlinksldjump"/>
              </a:rPr>
              <a:t>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6" action="ppaction://hlinksldjump"/>
              </a:rPr>
              <a:t>تكوين الأسئ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7" action="ppaction://hlinksldjump"/>
              </a:rPr>
              <a:t>استعمال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8" action="ppaction://hlinksldjump"/>
              </a:rPr>
              <a:t>  H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9" action="ppaction://hlinksldjump"/>
              </a:rPr>
              <a:t>some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0" action="ppaction://hlinksldjump"/>
              </a:rPr>
              <a:t>بعض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1" action="ppaction://hlinksldjump"/>
              </a:rPr>
              <a:t>   any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2" action="ppaction://hlinksldjump"/>
              </a:rPr>
              <a:t>أي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3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4" action="ppaction://hlinksldjump"/>
              </a:rPr>
              <a:t>Making Negative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5" action="ppaction://hlinksldjump"/>
              </a:rPr>
              <a:t>تكوين النف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6" action="ppaction://hlinksldjump"/>
              </a:rPr>
              <a:t>TENS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7" action="ppaction://hlinksldjump"/>
              </a:rPr>
              <a:t> 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9" action="ppaction://hlinksldjump"/>
              </a:rPr>
              <a:t>الأزمن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70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1" action="ppaction://hlinksldjump"/>
              </a:rPr>
              <a:t>Presen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4" action="ppaction://hlinksldjump"/>
              </a:rPr>
              <a:t>المضارع البسيط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5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6" action="ppaction://hlinksldjump"/>
              </a:rPr>
              <a:t>Pas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7" action="ppaction://hlinksldjump"/>
              </a:rPr>
              <a:t>الماضي البسيط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8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9" action="ppaction://hlinksldjump"/>
              </a:rPr>
              <a:t>Future Simple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0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2" action="ppaction://hlinksldjump"/>
              </a:rPr>
              <a:t>المستقبل البسيط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3" action="ppaction://hlinksldjump"/>
              </a:rPr>
              <a:t>Present Continuous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4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6" action="ppaction://hlinksldjump"/>
              </a:rPr>
              <a:t>المضارع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6920" y="190512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7" action="ppaction://hlinksldjump"/>
              </a:rPr>
              <a:t>Past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0" action="ppaction://hlinksldjump"/>
              </a:rPr>
              <a:t>الماضي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1" action="ppaction://hlinksldjump"/>
              </a:rPr>
              <a:t>Future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2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4" action="ppaction://hlinksldjump"/>
              </a:rPr>
              <a:t>المستقبل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5" action="ppaction://hlinksldjump"/>
              </a:rPr>
              <a:t>Present Perfect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6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7" action="ppaction://hlinksldjump"/>
              </a:rPr>
              <a:t>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8" action="ppaction://hlinksldjump"/>
              </a:rPr>
              <a:t>المضارع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9" action="ppaction://hlinksldjump"/>
              </a:rPr>
              <a:t>Past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0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2" action="ppaction://hlinksldjump"/>
              </a:rPr>
              <a:t>الماضي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3" action="ppaction://hlinksldjump"/>
              </a:rPr>
              <a:t>Future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4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6" action="ppaction://hlinksldjump"/>
              </a:rPr>
              <a:t>المستقبل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7" action="ppaction://hlinksldjump"/>
              </a:rPr>
              <a:t>Present Perfect Continuous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10" action="ppaction://hlinksldjump"/>
              </a:rPr>
              <a:t>المضارع التام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1" action="ppaction://hlinksldjump"/>
              </a:rPr>
              <a:t>Imperativ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2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4" action="ppaction://hlinksldjump"/>
              </a:rPr>
              <a:t>صيغة الأمر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6" action="ppaction://hlinksldjump"/>
              </a:rPr>
              <a:t>Modal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7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9" action="ppaction://hlinksldjump"/>
              </a:rPr>
              <a:t>الأفعال الناقص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0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1" action="ppaction://hlinksldjump"/>
              </a:rPr>
              <a:t>Comparing Adjectiv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2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4" action="ppaction://hlinksldjump"/>
              </a:rPr>
              <a:t>مقارنة الصف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6" action="ppaction://hlinksldjump"/>
              </a:rPr>
              <a:t>Adverb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7" action="ppaction://hlinksldjump"/>
              </a:rPr>
              <a:t>الظروف الأحوال</a:t>
            </a:r>
            <a:r>
              <a:rPr b="0" lang="ar-SA" sz="1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8" action="ppaction://hlinksldjump"/>
              </a:rPr>
              <a:t>Active &amp; Passive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9" action="ppaction://hlinksldjump"/>
              </a:rPr>
              <a:t>المبني للمعلوم و المبني للمجه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0" action="ppaction://hlinksldjump"/>
              </a:rPr>
              <a:t>Transitive &amp; Intransitive Verb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1" action="ppaction://hlinksldjump"/>
              </a:rPr>
              <a:t>الأفعال اللازمة و الأفعال المتعد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2" action="ppaction://hlinksldjump"/>
              </a:rPr>
              <a:t>...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3" action="ppaction://hlinksldjump"/>
              </a:rPr>
              <a:t>Preposition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4" action="ppaction://hlinksldjump"/>
              </a:rPr>
              <a:t>حروف الج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5" action="ppaction://hlinksldjump"/>
              </a:rPr>
              <a:t>Question-Tag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6" action="ppaction://hlinksldjump"/>
              </a:rPr>
              <a:t>الأسئلة المذي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7" action="ppaction://hlinksldjump"/>
              </a:rPr>
              <a:t>Conditional “if” ”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8" action="ppaction://hlinksldjump"/>
              </a:rPr>
              <a:t>لو“ الشرطي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9" action="ppaction://hlinksldjump"/>
              </a:rPr>
              <a:t>Reported Speech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0" action="ppaction://hlinksldjump"/>
              </a:rPr>
              <a:t>الكلام المنق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1" action="ppaction://hlinksldjump"/>
              </a:rPr>
              <a:t>Countries and Nationaliti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2" action="ppaction://hlinksldjump"/>
              </a:rPr>
              <a:t>البلدان و الجنسيات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glish Alphabetic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أبجدية الإنجليزية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apita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كب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mal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صغ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onsonant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ساكن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Vowels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متحرك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47920" y="228600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447920" y="335268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447920" y="4343400"/>
          <a:ext cx="5756040" cy="24300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  <a:gridCol w="255600"/>
                <a:gridCol w="274680"/>
                <a:gridCol w="274680"/>
                <a:gridCol w="274680"/>
                <a:gridCol w="274680"/>
                <a:gridCol w="274680"/>
                <a:gridCol w="274680"/>
                <a:gridCol w="274320"/>
                <a:gridCol w="274680"/>
                <a:gridCol w="274680"/>
                <a:gridCol w="274680"/>
                <a:gridCol w="276120"/>
                <a:gridCol w="274680"/>
                <a:gridCol w="274680"/>
                <a:gridCol w="27468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447920" y="5105520"/>
          <a:ext cx="1377720" cy="24264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8" name="">
              <a:hlinkClick r:id="rId1" action="ppaction://hlinksldjump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1" name=""/>
          <p:cNvGraphicFramePr/>
          <p:nvPr/>
        </p:nvGraphicFramePr>
        <p:xfrm>
          <a:off x="533520" y="1828800"/>
          <a:ext cx="8153280" cy="4059360"/>
        </p:xfrm>
        <a:graphic>
          <a:graphicData uri="http://schemas.openxmlformats.org/drawingml/2006/table">
            <a:tbl>
              <a:tblPr/>
              <a:tblGrid>
                <a:gridCol w="1647720"/>
                <a:gridCol w="3211560"/>
                <a:gridCol w="3294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اس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, 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اسم أو يحل مح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he, she, it, etc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……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حدوث شيء في وقت م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y, played, will p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jective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صف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اسم وتكون قب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i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جل غن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حظ أن الصفة هنا سبقت الاسم الموصوف بعكس اللغة العربية التي تكون فيها الصفة بعد الاسم الموصو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فعل أو تزيد الصفة وضوحا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writ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ickly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كتب بسرع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8" name=""/>
          <p:cNvGraphicFramePr/>
          <p:nvPr/>
        </p:nvGraphicFramePr>
        <p:xfrm>
          <a:off x="457200" y="1600200"/>
          <a:ext cx="8229240" cy="3384360"/>
        </p:xfrm>
        <a:graphic>
          <a:graphicData uri="http://schemas.openxmlformats.org/drawingml/2006/table">
            <a:tbl>
              <a:tblPr/>
              <a:tblGrid>
                <a:gridCol w="1662840"/>
                <a:gridCol w="3241800"/>
                <a:gridCol w="332460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posi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ج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أتي مع الاسم أو الضمير لتبين علاقته بكلمة أخر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go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o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ذهب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لى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درس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traveled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y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م سافروا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ب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طائ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jun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عط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صل ما بين كلمة و كلمة أو جملة وجملة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ad visited us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لي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و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حمد زارونا أم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je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أصوات أو صيحات تعبر عن ال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a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! She di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ا للأسف ! لقد ماتت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457200" y="1600200"/>
          <a:ext cx="8229240" cy="3580920"/>
        </p:xfrm>
        <a:graphic>
          <a:graphicData uri="http://schemas.openxmlformats.org/drawingml/2006/table">
            <a:tbl>
              <a:tblPr/>
              <a:tblGrid>
                <a:gridCol w="1662480"/>
                <a:gridCol w="3242160"/>
                <a:gridCol w="33246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96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ti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دا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ناك ثلاث أدوات في اللغة الإنجليزية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, an, 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ساك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كتاب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</a:t>
                      </a: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  <a:cs typeface="Tahoma"/>
                        </a:rPr>
                        <a:t>متحرك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ه تفاح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    للتعري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I bought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هو الكتاب الذي اشتريته أم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26888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480" y="39625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7040" y="4572000"/>
            <a:ext cx="5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ملاحظة 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جدير بالذكر أن الجملة الإنجليزية لابد وأن تحتوي على فعل خلاف اللغة العربية التي قد تكون فيها الجملة اسمية أي بدون فعل مثل :(علي طبيب) ولو أردنا ترجمتها إلى الإنجليزية حرفيا نقول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docto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هذه جملة إنجليزية خاطئة لعدم احتوائها على فعل والصحيح أن نضع لها فعل فتصبح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 do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657600" y="6248520"/>
            <a:ext cx="1905120" cy="380880"/>
            <a:chOff x="3657600" y="6248520"/>
            <a:chExt cx="1905120" cy="380880"/>
          </a:xfrm>
        </p:grpSpPr>
        <p:sp>
          <p:nvSpPr>
            <p:cNvPr id="18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4:44Z</dcterms:created>
  <dc:creator>user</dc:creator>
  <dc:description/>
  <dc:language>en-US</dc:language>
  <cp:lastModifiedBy>user</cp:lastModifiedBy>
  <dcterms:modified xsi:type="dcterms:W3CDTF">2007-07-13T00:14:44Z</dcterms:modified>
  <cp:revision>1</cp:revision>
  <dc:subject/>
  <dc:title>الشريحة 1</dc:title>
</cp:coreProperties>
</file>