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FE7-0480-4406-ACC1-D0E2162A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231-4299-4162-80F7-7371467B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0A7-C857-4D88-AAD7-62A9F466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C4C-7A42-486B-A33E-DF681AEB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E851-E344-43DA-A86A-EA5A4F4E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EAFF-8136-460B-B911-563296DC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D3CC-463F-41C7-8A86-6DD30542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7E54-46DC-4A7F-9419-1FC11412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1D2D-0367-4F48-BE4E-23858407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A97D-D2FB-4DE4-8045-887D5E3F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AED5-6626-4D03-8692-D22D0F3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C75-FDC9-43FA-B63E-5E96575E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0EA3-004D-42E8-9829-2AA92651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58A3-CDB5-41E3-8360-1371FDB8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9327-751F-4C76-B8A8-0AF5A9D7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FF2E-5B9C-4CFB-9328-AE0BD330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6B99-9700-406F-B8E9-7FA764C4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5662-8D38-4328-9E02-05AEDFA0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2E50-D4A5-434F-91B0-60405446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490D4-9AEB-48F4-9CFF-7B04F22F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C11A-9457-4B3E-A3DB-ADFA4D2F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8378-D1F8-4779-A99E-71921416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F04-14F2-4DE9-8BC7-536A6B9B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43EE-0E4A-4C90-8A29-A487069F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2244-992E-4670-A561-75A3114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5B29-8C0D-47E9-B02E-85E231B1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1B1F-D3FA-4A77-B899-48510DD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34FF-34BA-4FF0-ACCE-E0F2BE8B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AC94-A611-4454-8981-8DF03744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3221-DDAE-4F67-AF01-E8389292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8DA-E8CB-4928-A695-0C32BD39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0FC-CACF-4652-8C69-040394C3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EA5-4CD3-45E9-96C0-00A1CEB2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962-004D-4016-9BD8-8E5329B5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3C3-8110-4698-A1C5-E057E1C6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EBA-A472-4636-B259-E8CD496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F432-792D-476A-8C02-01D528E1C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D184-9497-41C4-857D-31922A6C78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F26E-99E2-4A43-8984-A613B2CE23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أو        نحولها إلى حرف      ،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743200"/>
          <a:ext cx="7238880" cy="136836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90720" y="434340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مركبة تجمع حسب الاسم الأخير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56424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616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هناك بعض الأسماء الشاذ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4520" y="2849400"/>
          <a:ext cx="7172280" cy="328644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untable nouns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تي لا جمع لها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t, coffee, tea, food, meat, gold, music, bloo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تستطيع استخدا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أو             قب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ماء الغير المعدو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 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1" lang="ar-SA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12840" y="2644920"/>
          <a:ext cx="7473960" cy="3286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246320"/>
                <a:gridCol w="1245960"/>
                <a:gridCol w="1244520"/>
                <a:gridCol w="124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ق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ل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ح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لو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ه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ب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ط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ا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ك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خب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جا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ب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ل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ر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ب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urn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فروش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ط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ما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وسيق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r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خ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9072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زيداً من الأسماء الغير المع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ميع الأسماء الغير المعدودة تعامل معاملة المفر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traditional drink in Saudi Arab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 لكن لو وضعت كلمات تدل على الكمية قبل الاسم الغير معدود فأنه يعامل معاملة ال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ups of te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enough for 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liters of oil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operate this mach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finite &amp; Indefinite Articl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و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260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8302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73000" y="2441520"/>
          <a:ext cx="7772040" cy="3536640"/>
        </p:xfrm>
        <a:graphic>
          <a:graphicData uri="http://schemas.openxmlformats.org/drawingml/2006/table">
            <a:tbl>
              <a:tblPr/>
              <a:tblGrid>
                <a:gridCol w="2826720"/>
                <a:gridCol w="2493360"/>
                <a:gridCol w="24519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"/>
          <p:cNvGraphicFramePr/>
          <p:nvPr/>
        </p:nvGraphicFramePr>
        <p:xfrm>
          <a:off x="873000" y="2690640"/>
          <a:ext cx="7772040" cy="2769840"/>
        </p:xfrm>
        <a:graphic>
          <a:graphicData uri="http://schemas.openxmlformats.org/drawingml/2006/table">
            <a:tbl>
              <a:tblPr/>
              <a:tblGrid>
                <a:gridCol w="2826000"/>
                <a:gridCol w="2493720"/>
                <a:gridCol w="245232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295280" y="2897280"/>
          <a:ext cx="7391160" cy="282060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Uses of Verb to HA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ستخدامات أخرى مع فعل ”يملك“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express necessity in the present and past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ave to, has to, had to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عبر عن الضرورة في المضارع و الماضي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 to lea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ome model auxiliari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أفعال الناقصة.  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d be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e a do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show that something is caused by another pers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بين أن شيئاً ما حصل بواسطة شخص اخر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shoes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lea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ery we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1295280" y="2897280"/>
          <a:ext cx="7391160" cy="287784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3880" y="1935000"/>
          <a:ext cx="8062560" cy="4063680"/>
        </p:xfrm>
        <a:graphic>
          <a:graphicData uri="http://schemas.openxmlformats.org/drawingml/2006/table">
            <a:tbl>
              <a:tblPr/>
              <a:tblGrid>
                <a:gridCol w="2743200"/>
                <a:gridCol w="2659680"/>
                <a:gridCol w="2659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noun replaces a 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 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ضمير يحل محل الاس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63680" y="2371680"/>
          <a:ext cx="7172280" cy="3843360"/>
        </p:xfrm>
        <a:graphic>
          <a:graphicData uri="http://schemas.openxmlformats.org/drawingml/2006/table">
            <a:tbl>
              <a:tblPr/>
              <a:tblGrid>
                <a:gridCol w="1434960"/>
                <a:gridCol w="1433520"/>
                <a:gridCol w="1359000"/>
                <a:gridCol w="1585800"/>
                <a:gridCol w="1359000"/>
              </a:tblGrid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 Pronouns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ect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فعول 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ات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flex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انعكا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 pronouns instead of a noun when it is clear who or what we are talking ab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الضمير بدلا من الاسم عندما نكون على علم  مع من أو عن أي شيء نتحد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ة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a good stu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sses all his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مفعول به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n object pro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ير المفعول به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a pre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حروف الج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verbs lik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ke, give, send, lend, pass, take,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2480" y="2852640"/>
            <a:ext cx="3184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you live nea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the box directly to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4952880"/>
            <a:ext cx="3167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ittle bo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lexive Pro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ضمائر الانعكاسي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ve pronouns are 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ائرالإنعكاسية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mphasiz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للتأكيد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ome special exp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تعابير الخاص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720" y="2708280"/>
            <a:ext cx="417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d you do the decoration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id the painting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4800600"/>
            <a:ext cx="316692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lp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b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(I live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أسماء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words we use to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سماء هي الكلمات التي نستخدمها لذك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م ، علم ، شخص ، شيء ، مكان ، أفكار ، شعو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735360"/>
          <a:ext cx="7619400" cy="2231640"/>
        </p:xfrm>
        <a:graphic>
          <a:graphicData uri="http://schemas.openxmlformats.org/drawingml/2006/table">
            <a:tbl>
              <a:tblPr/>
              <a:tblGrid>
                <a:gridCol w="1142280"/>
                <a:gridCol w="1219680"/>
                <a:gridCol w="525744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, father, teacher, neighb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, table, sugar, fru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ا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, street, city, ho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فك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dom, honesty, tru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ع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ppiness, anger, boredom, jo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able &amp; Uncountable 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الأسماء المعدودة و غير المعدود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re things that be counted as one, two, three, and so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أشياء التي يمكن عدها بـ واحد ، اثنان ، ثلاثة وهكذ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غير 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تي لا يمكن عدها  أي لا يمكن وضع رقم قبل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nouns have singular and plural fo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ه الأسماء لها صيغ مفردة و 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ingular countable nouns you can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بل الأسماء المفردة المعدودة تستطيع استخدام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use singular countable nouns alone without words such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, an, one, my, your, hi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نستطيع استخدام أسماء مفردة معدودة بمفردها بدون الكلمات السابق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13000" y="28526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(a/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rm plurals of most nouns by adding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singular 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كوّن الجمع من معظم الأسماء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لاسم المفرد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4267080"/>
          <a:ext cx="7543800" cy="1660680"/>
        </p:xfrm>
        <a:graphic>
          <a:graphicData uri="http://schemas.openxmlformats.org/drawingml/2006/table">
            <a:tbl>
              <a:tblPr/>
              <a:tblGrid>
                <a:gridCol w="3733560"/>
                <a:gridCol w="3810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الحروف                            نضيف ل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2781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h, ch, z, x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85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65360" y="3460680"/>
          <a:ext cx="7021440" cy="2613240"/>
        </p:xfrm>
        <a:graphic>
          <a:graphicData uri="http://schemas.openxmlformats.org/drawingml/2006/table">
            <a:tbl>
              <a:tblPr/>
              <a:tblGrid>
                <a:gridCol w="3473280"/>
                <a:gridCol w="35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تحذف  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551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096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6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sp>
          <p:nvSpPr>
            <p:cNvPr id="189" name=""/>
            <p:cNvSpPr/>
            <p:nvPr/>
          </p:nvSpPr>
          <p:spPr>
            <a:xfrm>
              <a:off x="838080" y="4267080"/>
              <a:ext cx="7848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</a:rPr>
                <a:t>الأسماء التي تنتهي بحرف       وسبقه حرف متحرك، نضيف       فق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44792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057400" y="2209680"/>
            <a:ext cx="3962160" cy="520560"/>
            <a:chOff x="2057400" y="2209680"/>
            <a:chExt cx="3962160" cy="520560"/>
          </a:xfrm>
        </p:grpSpPr>
        <p:sp>
          <p:nvSpPr>
            <p:cNvPr id="202" name=""/>
            <p:cNvSpPr/>
            <p:nvPr/>
          </p:nvSpPr>
          <p:spPr>
            <a:xfrm>
              <a:off x="5638680" y="220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4400" y="4267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متحرك، نضيف       فق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4191120"/>
            <a:ext cx="3733920" cy="520560"/>
            <a:chOff x="2209680" y="4191120"/>
            <a:chExt cx="3733920" cy="520560"/>
          </a:xfrm>
        </p:grpSpPr>
        <p:sp>
          <p:nvSpPr>
            <p:cNvPr id="206" name=""/>
            <p:cNvSpPr/>
            <p:nvPr/>
          </p:nvSpPr>
          <p:spPr>
            <a:xfrm>
              <a:off x="5562360" y="4191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91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514520" y="4616280"/>
          <a:ext cx="7172280" cy="136692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5:23Z</dcterms:created>
  <dc:creator>user</dc:creator>
  <dc:description/>
  <dc:language>en-US</dc:language>
  <cp:lastModifiedBy>user</cp:lastModifiedBy>
  <dcterms:modified xsi:type="dcterms:W3CDTF">2007-07-13T00:15:23Z</dcterms:modified>
  <cp:revision>1</cp:revision>
  <dc:subject/>
  <dc:title>الشريحة 1</dc:title>
</cp:coreProperties>
</file>