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8C86-36D2-4225-AB31-D3A422D4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ABD-448E-4C4E-8A06-9231E8E3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998-9A07-49E6-8FD7-A80A25E6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AC4-4475-432F-99BA-76E9CE78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771A-8D21-4B24-8045-3A4051A2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C0BD-2E6A-4848-90D1-BB250CBA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80D7-E6BF-4953-A229-4C7CBB72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74E4-08A9-4217-B5D5-C1667BA2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A31F-29BF-49ED-AF91-32957C79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90CA-DB33-4BE5-8186-30153018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AF5E-9BB6-441C-A703-6B719E9C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C8E-D98E-442F-80AA-3224EF2A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8046-9795-46E2-A34C-DD976378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3FB8-B0A4-41FF-8B67-79957506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B982-F0BB-4BEB-BA7F-1257B582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5FF3-94A8-43B8-B081-CB8F55BC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F832-5D44-4CDD-849E-30CCFDB8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B3A7B-B738-4828-9877-185BAD74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F4EF2-4433-4AA9-883A-0B97026C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8F0B5-FC5C-4025-B283-B3D979CF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E1533-4B09-44B7-AFBA-F92B7B42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39C0C-2A14-44BE-9273-6F75B106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943-5697-4C6D-8AFC-5C084D2F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ECF2A-58A2-4F2C-B8A2-8A5DE00C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EF763-821B-48D8-A7F2-FFB591B1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4989C-A6AF-4EEC-A29A-66FC5249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F5C2A-BA02-4675-A2B5-F9765041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0604B-7991-44FB-9467-6C6E6750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22B2F-3B9D-49C6-BC3E-A46BE218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C3DA4-C079-4CE2-BE63-9D999D2A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1AE-3C28-467F-8A14-4229E1FC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AC9E-0A49-4B5C-9550-8061EAD0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857-AB18-45E6-9CB5-68A76DAD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F8BA-B203-4F9D-93B2-64A3905F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AA0-2ED7-4E9A-B5A2-F829B310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AA3-92F7-49CC-87D9-E18EF6B3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AA71-9C13-41F8-ADCE-896D9E7EC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28DB-23FB-42BD-9523-9237E7DC4B0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CD23-6196-4EC9-865D-53FDEEFEF46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أو        نحولها إلى حرف      ،     و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23880" y="2743200"/>
          <a:ext cx="7238880" cy="136836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i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l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990720" y="4343400"/>
            <a:ext cx="784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مركبة تجمع حسب الاسم الأخير   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600200" y="4800600"/>
          <a:ext cx="7238880" cy="137160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r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ce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ce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6564240" y="2133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2133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2616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هناك بعض الأسماء الشاذ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14520" y="2849400"/>
          <a:ext cx="7172280" cy="3286440"/>
        </p:xfrm>
        <a:graphic>
          <a:graphicData uri="http://schemas.openxmlformats.org/drawingml/2006/table">
            <a:tbl>
              <a:tblPr/>
              <a:tblGrid>
                <a:gridCol w="3546360"/>
                <a:gridCol w="3625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o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e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untable nouns cannot be cou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ي التي لا جمع لها بإض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lt, coffee, tea, food, meat, gold, music, bloo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ا تستطيع استخدام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أو             قبل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ماء الغير المعدود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2438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es ,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4724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n</a:t>
            </a:r>
            <a:r>
              <a:rPr b="1" lang="ar-SA" sz="24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212840" y="2644920"/>
          <a:ext cx="7473960" cy="3286080"/>
        </p:xfrm>
        <a:graphic>
          <a:graphicData uri="http://schemas.openxmlformats.org/drawingml/2006/table">
            <a:tbl>
              <a:tblPr/>
              <a:tblGrid>
                <a:gridCol w="1208160"/>
                <a:gridCol w="1282680"/>
                <a:gridCol w="1246320"/>
                <a:gridCol w="1245960"/>
                <a:gridCol w="1244520"/>
                <a:gridCol w="1246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l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قي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ل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ح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لوم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f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هو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knowl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ر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u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زب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طع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ا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ug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ك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ذه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l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خب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زجا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he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ب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i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لي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ر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r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ب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ش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urni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فروش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ط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e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د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r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ش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lo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ما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وسيق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ar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خ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990720" y="1981080"/>
            <a:ext cx="7696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زيداً من الأسماء الغير المعد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جميع الأسماء الغير المعدودة تعامل معاملة المفر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ffe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traditional drink in Saudi Arab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k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ny miner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 لكن لو وضعت كلمات تدل على الكمية قبل الاسم الغير معدود فأنه يعامل معاملة الجم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cups of tea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 enough for 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liters of oil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 operate this mach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finite &amp; Indefinite Articl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و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used as indefinite artic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ان كأدوات نكرة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used as definite artic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كأداة للتعري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 before a noun starting with a constant sou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ساك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 before a noun starting with a vowel sou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متحر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696080" y="4343400"/>
            <a:ext cx="457200" cy="1206360"/>
            <a:chOff x="7696080" y="4343400"/>
            <a:chExt cx="457200" cy="1206360"/>
          </a:xfrm>
        </p:grpSpPr>
        <p:sp>
          <p:nvSpPr>
            <p:cNvPr id="260" name=""/>
            <p:cNvSpPr/>
            <p:nvPr/>
          </p:nvSpPr>
          <p:spPr>
            <a:xfrm>
              <a:off x="777240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96080" y="5181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fore a noun starting with a constant s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ساك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fore a noun starting with a vowel s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متحر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حروف المتحركة  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w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– e – i – o - 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40720" y="18302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96360" y="2924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use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873000" y="2441520"/>
          <a:ext cx="7772040" cy="3536640"/>
        </p:xfrm>
        <a:graphic>
          <a:graphicData uri="http://schemas.openxmlformats.org/drawingml/2006/table">
            <a:tbl>
              <a:tblPr/>
              <a:tblGrid>
                <a:gridCol w="2826720"/>
                <a:gridCol w="2493360"/>
                <a:gridCol w="2451960"/>
              </a:tblGrid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singular countable nou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بل الأسماء المفردة المعدود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b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g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a job, a particular group of people or a nationalit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بل الوظيفة أو مجموعة معينة من الناس أو الجنسي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ineer. Sh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wome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numbers that mean ever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الأرقام التي تعني ”كل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hes his hands ten time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ay.  (means every day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use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6" name=""/>
          <p:cNvGraphicFramePr/>
          <p:nvPr/>
        </p:nvGraphicFramePr>
        <p:xfrm>
          <a:off x="873000" y="2690640"/>
          <a:ext cx="7772040" cy="2769840"/>
        </p:xfrm>
        <a:graphic>
          <a:graphicData uri="http://schemas.openxmlformats.org/drawingml/2006/table">
            <a:tbl>
              <a:tblPr/>
              <a:tblGrid>
                <a:gridCol w="2826000"/>
                <a:gridCol w="2493720"/>
                <a:gridCol w="2452320"/>
              </a:tblGrid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with abstract nouns and the names of metal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الأسماء المعنوية و أسماء المعادن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, beauty, hatred, wood, silver, g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plural or uncountable noun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قبل الجمع أو الأسماء الغير معدودة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books on the tab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k is good for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used befo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أداة التعريف ”أل“ قبل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: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1295280" y="2897280"/>
          <a:ext cx="7391160" cy="2820600"/>
        </p:xfrm>
        <a:graphic>
          <a:graphicData uri="http://schemas.openxmlformats.org/drawingml/2006/table">
            <a:tbl>
              <a:tblPr/>
              <a:tblGrid>
                <a:gridCol w="2513880"/>
                <a:gridCol w="2438640"/>
                <a:gridCol w="2438640"/>
              </a:tblGrid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un that is the only one of its ki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سم الذي لا يوجد من نوعه سوى واحد فق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iver Ni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a’a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 of rivers, seas, oceans, et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الأنهار و البحار........الخ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abian Gulf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ed S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un which is the object of  a sentenc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سم الذي يكون مفعول به لجمل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mar answered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ues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names of musical instrumen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الآلات الموسيق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you play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uff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Uses of Verb to HAV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ستخدامات أخرى مع فعل ”يملك“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express necessity in the present and past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ave to, has to, had to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عبر عن الضرورة في المضارع و الماضي. مثال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ve to lea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ome model auxiliari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 بعض الأفعال الناقصة.  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d bet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e a doc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show that something is caused by another pers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بين أن شيئاً ما حصل بواسطة شخص اخر. مثال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v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shoes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lean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ery we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used befo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أداة التعريف ”أل“ قبل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: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2" name=""/>
          <p:cNvGraphicFramePr/>
          <p:nvPr/>
        </p:nvGraphicFramePr>
        <p:xfrm>
          <a:off x="1295280" y="2897280"/>
          <a:ext cx="7391160" cy="2877840"/>
        </p:xfrm>
        <a:graphic>
          <a:graphicData uri="http://schemas.openxmlformats.org/drawingml/2006/table">
            <a:tbl>
              <a:tblPr/>
              <a:tblGrid>
                <a:gridCol w="2513880"/>
                <a:gridCol w="2438640"/>
                <a:gridCol w="2438640"/>
              </a:tblGrid>
              <a:tr h="76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 of some countri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بعض البلدا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nited Kingdom 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.S.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ome time expression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بعض التعابير الدالة على الوق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ek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ve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dat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التواريخ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irst day of every mont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ome general expression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بعض التعبيرات العام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 to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dio/new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to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rket/deser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23880" y="1935000"/>
          <a:ext cx="8062560" cy="4063680"/>
        </p:xfrm>
        <a:graphic>
          <a:graphicData uri="http://schemas.openxmlformats.org/drawingml/2006/table">
            <a:tbl>
              <a:tblPr/>
              <a:tblGrid>
                <a:gridCol w="2743200"/>
                <a:gridCol w="2659680"/>
                <a:gridCol w="265968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article with the name that is repeate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ستخدم أداة التعريف أل مع الاسم الذي ذكر للمرة الثان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w a man.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n was you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with the names of studies of subjec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أسماء المواد الدراس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do not like science. My favorite subject is mathematic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such words as school, home, bed, work,  et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قبل أسماء معينة مثل مدرسة، منزل، سرير، عمل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going to schoo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lways go to bed earl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such words such as day and month na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 أسماء معينة مثل الأيام و الشهور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Monday,  in J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summer (sometimes in the summer)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breakfas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ضمائر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ronoun replaces a nou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           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ضمير يحل محل الاس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363680" y="2371680"/>
          <a:ext cx="7172280" cy="3843360"/>
        </p:xfrm>
        <a:graphic>
          <a:graphicData uri="http://schemas.openxmlformats.org/drawingml/2006/table">
            <a:tbl>
              <a:tblPr/>
              <a:tblGrid>
                <a:gridCol w="1434960"/>
                <a:gridCol w="1433520"/>
                <a:gridCol w="1359000"/>
                <a:gridCol w="1585800"/>
                <a:gridCol w="1359000"/>
              </a:tblGrid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 Pronouns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فا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ect 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مفعول ب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ses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jec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صفات الملك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ses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ملك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flex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انعكا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ضمائر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-1130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a pronouns instead of a noun when it is clear who or what we are talking abou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الضمير بدلا من الاسم عندما نكون على علم  مع من أو عن أي شيء نتحدث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ة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a good stu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asses all his tes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bject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مفعول به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an object pronou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ضمير المفعول به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a prepos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بعد حروف الج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verbs lik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ake, give, send, lend, pass, take, sh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2480" y="2852640"/>
            <a:ext cx="31845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you live near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m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d the box directly to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4952880"/>
            <a:ext cx="31672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little bo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ad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h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lexive Pronou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ضمائر الانعكاسي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xive pronouns are u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ضمائرالإنعكاسية.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mphasize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للتأكيد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some special express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 بعض التعابير الخاص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08720" y="2708280"/>
            <a:ext cx="4176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d you do the decoration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did the painting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my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62320" y="4800600"/>
            <a:ext cx="316692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lp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joy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live by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y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(I live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أسماء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u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words we use to n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سماء هي الكلمات التي نستخدمها لذك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م ، علم ، شخص ، شيء ، مكان ، أفكار ، شعو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3735360"/>
          <a:ext cx="7619400" cy="2231640"/>
        </p:xfrm>
        <a:graphic>
          <a:graphicData uri="http://schemas.openxmlformats.org/drawingml/2006/table">
            <a:tbl>
              <a:tblPr/>
              <a:tblGrid>
                <a:gridCol w="1142280"/>
                <a:gridCol w="1219680"/>
                <a:gridCol w="5257440"/>
              </a:tblGrid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, father, teacher, neighbo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شي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k, table, sugar, frui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اك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, street, city, hou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فك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edom, honesty, tru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ع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l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ppiness, anger, boredom, jo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able &amp; Uncountable Nou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الأسماء المعدودة و غير المعدود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able Nou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re things that be counted as one, two, three, and so 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سماء المعدودة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أشياء التي يمكن عدها بـ واحد ، اثنان ، ثلاثة وهكذ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annot be cou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سماء الغير معدودة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تي لا يمكن عدها  أي لا يمكن وضع رقم قبل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nouns have singular and plural for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ه الأسماء لها صيغ مفردة و جم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singular countable nouns you can us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قبل الأسماء المفردة المعدودة تستطيع استخدام     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not use singular countable nouns alone without words such 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, an, one, my, your, his, et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 نستطيع استخدام أسماء مفردة معدودة بمفردها بدون الكلمات السابق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13000" y="285264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(a/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form plurals of most nouns by adding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“s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singular nou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كوّن الجمع من معظم الأسماء بإض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للاسم المفرد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19320" y="4267080"/>
          <a:ext cx="7543800" cy="1660680"/>
        </p:xfrm>
        <a:graphic>
          <a:graphicData uri="http://schemas.openxmlformats.org/drawingml/2006/table">
            <a:tbl>
              <a:tblPr/>
              <a:tblGrid>
                <a:gridCol w="3733560"/>
                <a:gridCol w="38102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 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o 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 h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hor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الحروف                            نضيف له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278136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h, ch, z, x,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28526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65360" y="3460680"/>
          <a:ext cx="7021440" cy="2613240"/>
        </p:xfrm>
        <a:graphic>
          <a:graphicData uri="http://schemas.openxmlformats.org/drawingml/2006/table">
            <a:tbl>
              <a:tblPr/>
              <a:tblGrid>
                <a:gridCol w="3473280"/>
                <a:gridCol w="3548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96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ساكن، تحذف       و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447920" y="2744640"/>
          <a:ext cx="7238520" cy="1485720"/>
        </p:xfrm>
        <a:graphic>
          <a:graphicData uri="http://schemas.openxmlformats.org/drawingml/2006/table">
            <a:tbl>
              <a:tblPr/>
              <a:tblGrid>
                <a:gridCol w="3579120"/>
                <a:gridCol w="36594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5551560" y="220968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20968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6560" y="220968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4191120"/>
            <a:ext cx="7848720" cy="1447560"/>
            <a:chOff x="838080" y="4191120"/>
            <a:chExt cx="7848720" cy="1447560"/>
          </a:xfrm>
        </p:grpSpPr>
        <p:sp>
          <p:nvSpPr>
            <p:cNvPr id="189" name=""/>
            <p:cNvSpPr/>
            <p:nvPr/>
          </p:nvSpPr>
          <p:spPr>
            <a:xfrm>
              <a:off x="838080" y="4267080"/>
              <a:ext cx="78487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Arial"/>
                </a:rPr>
                <a:t>الأسماء التي تنتهي بحرف       وسبقه حرف متحرك، نضيف       فقط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740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2" name=""/>
          <p:cNvGraphicFramePr/>
          <p:nvPr/>
        </p:nvGraphicFramePr>
        <p:xfrm>
          <a:off x="1447920" y="4800600"/>
          <a:ext cx="7238880" cy="137160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ساكن، 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47920" y="2744640"/>
          <a:ext cx="7238520" cy="1485720"/>
        </p:xfrm>
        <a:graphic>
          <a:graphicData uri="http://schemas.openxmlformats.org/drawingml/2006/table">
            <a:tbl>
              <a:tblPr/>
              <a:tblGrid>
                <a:gridCol w="3579120"/>
                <a:gridCol w="36594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t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m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mat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2057400" y="2209680"/>
            <a:ext cx="3962160" cy="520560"/>
            <a:chOff x="2057400" y="2209680"/>
            <a:chExt cx="3962160" cy="520560"/>
          </a:xfrm>
        </p:grpSpPr>
        <p:sp>
          <p:nvSpPr>
            <p:cNvPr id="202" name=""/>
            <p:cNvSpPr/>
            <p:nvPr/>
          </p:nvSpPr>
          <p:spPr>
            <a:xfrm>
              <a:off x="5638680" y="2209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57400" y="2209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914400" y="426708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متحرك، نضيف       فق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09680" y="4191120"/>
            <a:ext cx="3733920" cy="520560"/>
            <a:chOff x="2209680" y="4191120"/>
            <a:chExt cx="3733920" cy="520560"/>
          </a:xfrm>
        </p:grpSpPr>
        <p:sp>
          <p:nvSpPr>
            <p:cNvPr id="206" name=""/>
            <p:cNvSpPr/>
            <p:nvPr/>
          </p:nvSpPr>
          <p:spPr>
            <a:xfrm>
              <a:off x="5562360" y="4191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09680" y="4191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" name=""/>
          <p:cNvGraphicFramePr/>
          <p:nvPr/>
        </p:nvGraphicFramePr>
        <p:xfrm>
          <a:off x="1514520" y="4616280"/>
          <a:ext cx="7172280" cy="1366920"/>
        </p:xfrm>
        <a:graphic>
          <a:graphicData uri="http://schemas.openxmlformats.org/drawingml/2006/table">
            <a:tbl>
              <a:tblPr/>
              <a:tblGrid>
                <a:gridCol w="3546360"/>
                <a:gridCol w="3625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o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o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5:23Z</dcterms:created>
  <dc:creator>user</dc:creator>
  <dc:description/>
  <dc:language>en-US</dc:language>
  <cp:lastModifiedBy>user</cp:lastModifiedBy>
  <dcterms:modified xsi:type="dcterms:W3CDTF">2007-07-13T00:15:23Z</dcterms:modified>
  <cp:revision>1</cp:revision>
  <dc:subject/>
  <dc:title>الشريحة 1</dc:title>
</cp:coreProperties>
</file>