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CE0-DB1E-4CE4-8450-367492C1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726-C7E6-47FA-A0AA-5C503A7B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9B9-3491-4F4E-95CD-0A58A44A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604-1866-4780-86FA-A1FAD5C2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B9DA-0FA6-4871-B0B5-5D0ABFCC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EB9D-63CC-4471-90DE-8E2591B3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6B68-5C00-4E45-BCB6-A5CC728A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A13C-99E6-43AE-8369-0383D9D9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A294-D5E9-4BC5-90E6-F15E71F1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8FC0-B1FF-4E09-B7A1-06408F96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E6DB-560D-4CBE-9939-50809834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937-F305-4BFE-9FF9-81145760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D609-1B3B-47AB-AA7A-677C07AF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CB69-CCBD-4F5C-907F-7D574F6C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5FBA-CB61-457A-A915-43272A38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7B44-34F1-40C2-992D-369DE367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5114-EA3A-435B-96D0-61E42377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483B6-A07A-4181-A712-2A53C9B8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E274-4191-4EB5-B7F8-D0A70F5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27B63-76B3-4192-92D5-52B672C0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5378-87F7-40C6-9F6D-9EC450B1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2C9A4-B862-47D3-9D5D-8FD8E6AF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C2C-2C8C-49B5-B48D-C6C6C7F1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77DAF-8E53-4647-905C-8D2A5143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62F20-E909-45F7-B4F5-2A1847B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6E58A-8BDF-4912-8AFE-B5E8E7FF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CBD6-CAF0-48CB-8A80-FEE84BDE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404B-C1CD-40B1-9F5C-B3646AB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C5A8-3374-4900-B63D-66CD239E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A2F9-2888-4B60-B9D8-CFBB0FE0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77E-21AC-426C-9E41-9B15FF62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2F7-694A-489B-B28B-EDFE1CD2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722-EF5B-4F4E-BBDB-9AC92A61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751-3E54-40B8-8BA4-C4B42239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3BF-EECD-4B48-840E-697E636B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09A-F282-4191-AC64-FD9B9590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83A-1996-4721-BB29-53741033C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D7D5-405D-4033-9B66-043990E37D4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8677-ECEE-42BD-84CC-B2ED93B5D4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أو        نحولها إلى حرف      ،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3880" y="2743200"/>
          <a:ext cx="7238880" cy="136836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i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l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990720" y="4343400"/>
            <a:ext cx="7848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مركبة تجمع حسب الاسم الأخير     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60020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roo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ce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6564240" y="2133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21337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2616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هناك بعض الأسماء الشاذ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514520" y="2849400"/>
          <a:ext cx="7172280" cy="328644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ild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o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untable nouns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ي التي لا جمع لها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lt, coffee, tea, food, meat, gold, music, bloo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 تستطيع استخدام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أو             قبل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أسماء الغير المعدو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243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es ,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352680" y="4724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n</a:t>
            </a:r>
            <a:r>
              <a:rPr b="1" lang="ar-SA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12840" y="2644920"/>
          <a:ext cx="7473960" cy="3286080"/>
        </p:xfrm>
        <a:graphic>
          <a:graphicData uri="http://schemas.openxmlformats.org/drawingml/2006/table">
            <a:tbl>
              <a:tblPr/>
              <a:tblGrid>
                <a:gridCol w="1208160"/>
                <a:gridCol w="1282680"/>
                <a:gridCol w="1246320"/>
                <a:gridCol w="1245960"/>
                <a:gridCol w="1244520"/>
                <a:gridCol w="1246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ق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ل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ح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لو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f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هو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nowled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ر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u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ب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طع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ا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u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سك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ه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l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خبا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زجا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جب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لي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a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ر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r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ب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خ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urni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فروش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ط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ش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lo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ما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وسيق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ar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رخ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990720" y="1981080"/>
            <a:ext cx="7696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مزيداً من الأسماء الغير المعد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غير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ميع الأسماء الغير المعدودة تعامل معاملة المفر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ffe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traditional drink in Saudi Arab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k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miner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 لكن لو وضعت كلمات تدل على الكمية قبل الاسم الغير معدود فأنه يعامل معاملة ال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cups of tea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enough for 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liters of oil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t operate this mach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finite &amp; Indefinite Articl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و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used as in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ان كأدوات نكرة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used as definite artic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كأداة للتعري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96080" y="4343400"/>
            <a:ext cx="457200" cy="1206360"/>
            <a:chOff x="7696080" y="4343400"/>
            <a:chExt cx="457200" cy="1206360"/>
          </a:xfrm>
        </p:grpSpPr>
        <p:sp>
          <p:nvSpPr>
            <p:cNvPr id="260" name=""/>
            <p:cNvSpPr/>
            <p:nvPr/>
          </p:nvSpPr>
          <p:spPr>
            <a:xfrm>
              <a:off x="777240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960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constant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ساك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put “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fore a noun starting with a vowel sou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نضع      قبل الأسماء التي تبدأ بحرف متحر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حروف المتحركة  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– e – i – o - 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40720" y="18302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96360" y="29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8" name=""/>
          <p:cNvGraphicFramePr/>
          <p:nvPr/>
        </p:nvGraphicFramePr>
        <p:xfrm>
          <a:off x="873000" y="2441520"/>
          <a:ext cx="7772040" cy="3536640"/>
        </p:xfrm>
        <a:graphic>
          <a:graphicData uri="http://schemas.openxmlformats.org/drawingml/2006/table">
            <a:tbl>
              <a:tblPr/>
              <a:tblGrid>
                <a:gridCol w="2826720"/>
                <a:gridCol w="2493360"/>
                <a:gridCol w="245196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singular countable nou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أسماء المفردة المعدو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a job, a particular group of people or a nationalit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قبل الوظيفة أو مجموعة معينة من الناس أو الجنسي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eh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ineer. Sh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women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numbers that mean every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أرقام التي تعني ”كل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hes his hands ten time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ay.  (means every da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finite Articles “a” &amp; “an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نكر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O NO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e 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6" name=""/>
          <p:cNvGraphicFramePr/>
          <p:nvPr/>
        </p:nvGraphicFramePr>
        <p:xfrm>
          <a:off x="873000" y="2690640"/>
          <a:ext cx="7772040" cy="2769840"/>
        </p:xfrm>
        <a:graphic>
          <a:graphicData uri="http://schemas.openxmlformats.org/drawingml/2006/table">
            <a:tbl>
              <a:tblPr/>
              <a:tblGrid>
                <a:gridCol w="2826000"/>
                <a:gridCol w="2493720"/>
                <a:gridCol w="245232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abstract nouns and the names of metal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الأسماء المعنوية و أسماء المعاد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, beauty, hatred, wood, silver, g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plural or uncountable noun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الجمع أو الأسماء الغير معدودة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are books on the tabl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k is good for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1295280" y="2897280"/>
          <a:ext cx="7391160" cy="282060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that is the only one of its ki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لا يوجد من نوعه سوى واحد فق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iver Nil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a’a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rivers, seas, oceans,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أنهار و البحار........ال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abian Gul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ed S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noun which is the object of  a sent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اسم الذي يكون مفعول به لجمل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mar answered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estio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ames of musical instrumen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الآلات الموسيق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you play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uff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Uses of Verb to HAV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ستخدامات أخرى مع فعل ”يملك“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express necessity in the present and past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ave to, has to, had to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عبر عن الضرورة في المضارع و الماضي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 to lea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ome model auxiliarie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أفعال الناقصة.  مثا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d bet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e a doct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show that something is caused by another pers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بين أن شيئاً ما حصل بواسطة شخص اخر. مثال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hav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shoes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lea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ery we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used bef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أداة التعريف ”أل“ قبل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: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832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2" name=""/>
          <p:cNvGraphicFramePr/>
          <p:nvPr/>
        </p:nvGraphicFramePr>
        <p:xfrm>
          <a:off x="1295280" y="2897280"/>
          <a:ext cx="7391160" cy="2877840"/>
        </p:xfrm>
        <a:graphic>
          <a:graphicData uri="http://schemas.openxmlformats.org/drawingml/2006/table">
            <a:tbl>
              <a:tblPr/>
              <a:tblGrid>
                <a:gridCol w="2513880"/>
                <a:gridCol w="2438640"/>
                <a:gridCol w="2438640"/>
              </a:tblGrid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 of some countri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سماء بعض البلدان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ited Kingdom 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.S.A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time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ابير الدالة على الوق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ek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ve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dat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التواريخ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irst day of every month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ome general expression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ع بعض التعبيرات العام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dio/new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 to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rket/deser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efinite Article “Th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أدوات التعريف ”أل“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23880" y="1935000"/>
          <a:ext cx="8062560" cy="4063680"/>
        </p:xfrm>
        <a:graphic>
          <a:graphicData uri="http://schemas.openxmlformats.org/drawingml/2006/table">
            <a:tbl>
              <a:tblPr/>
              <a:tblGrid>
                <a:gridCol w="2743200"/>
                <a:gridCol w="2659680"/>
                <a:gridCol w="26596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article with the name that is repeate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تخدم أداة التعريف أل مع الاسم الذي ذكر للمرة الثان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w a man. 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an was you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with the names of studies of subject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أسماء المواد الدراس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o not like science. My favorite subject is mathematic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as school, home, bed, work,  etc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قبل أسماء معينة مثل مدرسة، منزل، سرير، عمل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going to sch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lways go to bed earl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article is used before such words such as day and month na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ستخدم أي أداة مع  أسماء معينة مثل الأيام و الشهور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Monday,  in Ju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summer (sometimes in the summer)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breakfa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noun replaces a 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           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ضمير يحل محل الاس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363680" y="2371680"/>
          <a:ext cx="7172280" cy="3843360"/>
        </p:xfrm>
        <a:graphic>
          <a:graphicData uri="http://schemas.openxmlformats.org/drawingml/2006/table">
            <a:tbl>
              <a:tblPr/>
              <a:tblGrid>
                <a:gridCol w="1434960"/>
                <a:gridCol w="1433520"/>
                <a:gridCol w="1359000"/>
                <a:gridCol w="1585800"/>
                <a:gridCol w="1359000"/>
              </a:tblGrid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bject Pronouns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فاع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ect 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فعول ب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d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صفات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sess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ملك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flex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nou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ضمائر الانعكا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e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sel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ضمائر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13040" indent="-1130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 pronouns instead of a noun when it is clear who or what we are talking abou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الضمير بدلا من الاسم عندما نكون على علم  مع من أو عن أي شيء نتحد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ة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is a good stu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asses all his te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bject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مفعول به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use an object pronou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ير المفعول به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a prepos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عد حروف الج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verbs lik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ake, give, send, lend, pass, take, sh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2480" y="2852640"/>
            <a:ext cx="31845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 you live nea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m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d the box directly to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4952880"/>
            <a:ext cx="31672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little boy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mad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he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2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flexive Pro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ضمائر الانعكاسي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xive pronouns are u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نستخدم ضمائرالإنعكاسية.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mphasize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للتأكيد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some special express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ع بعض التعابير الخاص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08720" y="2708280"/>
            <a:ext cx="417636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d you do the decoration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did the painting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62320" y="4800600"/>
            <a:ext cx="316692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lp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jo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our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 live by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ysel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(I live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الأسماء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u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words we use to 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سماء هي الكلمات التي نستخدمها لذك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م ، علم ، شخص ، شيء ، مكان ، أفكار ، شعو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3735360"/>
          <a:ext cx="7619400" cy="2231640"/>
        </p:xfrm>
        <a:graphic>
          <a:graphicData uri="http://schemas.openxmlformats.org/drawingml/2006/table">
            <a:tbl>
              <a:tblPr/>
              <a:tblGrid>
                <a:gridCol w="1142280"/>
                <a:gridCol w="1219680"/>
                <a:gridCol w="5257440"/>
              </a:tblGrid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, father, teacher, neighbo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ok, table, sugar, frui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اك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, street, city, ho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فك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edom, honesty, tru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ع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ppiness, anger, boredom, jo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able &amp; Uncountable Nou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 الأسماء المعدودة و غير المعدودة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re things that be counted as one, two, three, and so 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أشياء التي يمكن عدها بـ واحد ، اثنان ، ثلاثة وهكذ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countable Nou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annot be cou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سماء الغير معدودة: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التي لا يمكن عدها  أي لا يمكن وضع رقم قبل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untable 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الأسماء المعدود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nouns have singular and plural for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ه الأسماء لها صيغ مفردة و جم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ingular countable nouns you can us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/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قبل الأسماء المفردة المعدودة تستطيع استخدام     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not use singular countable nouns alone without words such 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, an, one, my, your, his, et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 نستطيع استخدام أسماء مفردة معدودة بمفردها بدون الكلمات السابق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13000" y="285264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(a/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form plurals of most nouns by adding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s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the singular no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كوّن الجمع من معظم الأسماء بإض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للاسم المفرد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4267080"/>
          <a:ext cx="7543800" cy="1660680"/>
        </p:xfrm>
        <a:graphic>
          <a:graphicData uri="http://schemas.openxmlformats.org/drawingml/2006/table">
            <a:tbl>
              <a:tblPr/>
              <a:tblGrid>
                <a:gridCol w="3733560"/>
                <a:gridCol w="38102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e ho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الحروف                            نضيف له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2360" y="2781360"/>
            <a:ext cx="20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h, ch, z, x,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2852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665360" y="3460680"/>
          <a:ext cx="7021440" cy="2613240"/>
        </p:xfrm>
        <a:graphic>
          <a:graphicData uri="http://schemas.openxmlformats.org/drawingml/2006/table">
            <a:tbl>
              <a:tblPr/>
              <a:tblGrid>
                <a:gridCol w="3473280"/>
                <a:gridCol w="3548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تحذف       و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551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20968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6560" y="2209680"/>
            <a:ext cx="3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191120"/>
            <a:ext cx="7848720" cy="1447560"/>
            <a:chOff x="838080" y="4191120"/>
            <a:chExt cx="7848720" cy="1447560"/>
          </a:xfrm>
        </p:grpSpPr>
        <p:sp>
          <p:nvSpPr>
            <p:cNvPr id="189" name=""/>
            <p:cNvSpPr/>
            <p:nvPr/>
          </p:nvSpPr>
          <p:spPr>
            <a:xfrm>
              <a:off x="838080" y="4267080"/>
              <a:ext cx="78487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r" rtl="1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</a:rPr>
                <a:t>الأسماء التي تنتهي بحرف       وسبقه حرف متحرك، نضيف       فقط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1447920" y="4800600"/>
          <a:ext cx="7238880" cy="1371600"/>
        </p:xfrm>
        <a:graphic>
          <a:graphicData uri="http://schemas.openxmlformats.org/drawingml/2006/table">
            <a:tbl>
              <a:tblPr/>
              <a:tblGrid>
                <a:gridCol w="3579840"/>
                <a:gridCol w="365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pelling Rules for Plur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قواعد إملاء الجمع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</a:rPr>
              <a:t>حـــــــــالات خاص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ساكن، نض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47920" y="2744640"/>
          <a:ext cx="7238520" cy="1485720"/>
        </p:xfrm>
        <a:graphic>
          <a:graphicData uri="http://schemas.openxmlformats.org/drawingml/2006/table">
            <a:tbl>
              <a:tblPr/>
              <a:tblGrid>
                <a:gridCol w="3579120"/>
                <a:gridCol w="36594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t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mat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2057400" y="2209680"/>
            <a:ext cx="3962160" cy="520560"/>
            <a:chOff x="2057400" y="2209680"/>
            <a:chExt cx="3962160" cy="520560"/>
          </a:xfrm>
        </p:grpSpPr>
        <p:sp>
          <p:nvSpPr>
            <p:cNvPr id="202" name=""/>
            <p:cNvSpPr/>
            <p:nvPr/>
          </p:nvSpPr>
          <p:spPr>
            <a:xfrm>
              <a:off x="5638680" y="2209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22096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914400" y="426708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Arial"/>
              </a:rPr>
              <a:t>الأسماء التي تنتهي بحرف       وسبقه حرف متحرك، نضيف       فق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09680" y="4191120"/>
            <a:ext cx="3733920" cy="520560"/>
            <a:chOff x="2209680" y="4191120"/>
            <a:chExt cx="3733920" cy="520560"/>
          </a:xfrm>
        </p:grpSpPr>
        <p:sp>
          <p:nvSpPr>
            <p:cNvPr id="206" name=""/>
            <p:cNvSpPr/>
            <p:nvPr/>
          </p:nvSpPr>
          <p:spPr>
            <a:xfrm>
              <a:off x="5562360" y="41911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09680" y="4191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Tahoma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1514520" y="4616280"/>
          <a:ext cx="7172280" cy="1366920"/>
        </p:xfrm>
        <a:graphic>
          <a:graphicData uri="http://schemas.openxmlformats.org/drawingml/2006/table">
            <a:tbl>
              <a:tblPr/>
              <a:tblGrid>
                <a:gridCol w="3546360"/>
                <a:gridCol w="3625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o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5:23Z</dcterms:created>
  <dc:creator>user</dc:creator>
  <dc:description/>
  <dc:language>en-US</dc:language>
  <cp:lastModifiedBy>user</cp:lastModifiedBy>
  <dcterms:modified xsi:type="dcterms:W3CDTF">2007-07-13T00:15:23Z</dcterms:modified>
  <cp:revision>1</cp:revision>
  <dc:subject/>
  <dc:title>الشريحة 1</dc:title>
</cp:coreProperties>
</file>