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D8F1-7931-42B4-84AE-B400198D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5A2A-859F-4D06-BDDF-F717AE56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68DD-6872-46FC-BB97-40F24BDB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2D8F-6884-4076-8E7F-142CC020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56F0-A48D-4107-8C07-974300EA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2151-E08E-4F03-9782-528C7A2F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FD02-A430-4679-ADFB-6AD99C53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5CEF-535C-45F7-BDB6-369F7B2F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6897-6463-4081-9BB7-FED4AFF9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F8C5-17DD-4969-ABE1-D36CEC74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1DC2-5FB0-4158-8D4E-94F369FB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C231-7206-4A65-9129-511A2DD8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6C73-8407-4892-BC9F-770E6A9F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6E67-6262-40EE-B19D-7E1A26FC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CA02-FB27-42C6-8457-7BDFFB90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B19C-10C8-4B6D-8D3C-48FF3B54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6E21-0660-44DB-B4F4-B4D45150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D9EFE-63F4-4D39-81E3-C610C2AF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B82EB-BE58-4B68-B49C-F01D7997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B3CB6-0ED3-4053-9F27-FC341F36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A81D6-5776-460F-89F8-79B7B2EA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C2F0F-C368-4356-B9A0-94DD916A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A1AF-1175-428B-9B76-D1F66FA7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CD6EC-B621-4739-B057-552B139A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3225D-B5BF-4FED-8DD0-6FEED64B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FD043-3A39-492A-8C79-FBFCF516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29F41-D94D-46F1-9207-1333CE71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510C0-CC8E-4E6A-8493-BD2AFFB5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00D92-9232-4F28-B8C0-28A456A2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E77BD-47D4-4CC7-B5F4-8D702930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3647-B2EC-40C1-88CD-CA8ED750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4D31-5B7E-4AF6-AA76-C2C4BF3E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B560-F5BC-4E5B-BED6-501710FA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7B2A-F500-4680-AB49-311B0536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1C91-D6B3-4323-A2C6-4027E3E0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ED0C-7E74-4FE5-B48A-256A0D53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802C-59D2-44CA-AF72-7FC19EC1D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352C-3B08-4A96-B4F3-31A3D941777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EC04-C2D8-471F-9A0C-957BF8195A1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y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7.30 tomorrow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be flying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to Cai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be wai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you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5 o'clock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28191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حصل في الماضي و انتهى قبل لحظات أو انتهى في الماضي و لازالت آثاره موجودة حتى الآ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45360" y="3505320"/>
            <a:ext cx="4039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s / hav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4" name=""/>
          <p:cNvGraphicFramePr/>
          <p:nvPr/>
        </p:nvGraphicFramePr>
        <p:xfrm>
          <a:off x="1981080" y="4495680"/>
          <a:ext cx="6743880" cy="1368720"/>
        </p:xfrm>
        <a:graphic>
          <a:graphicData uri="http://schemas.openxmlformats.org/drawingml/2006/table">
            <a:tbl>
              <a:tblPr/>
              <a:tblGrid>
                <a:gridCol w="2362320"/>
                <a:gridCol w="2209680"/>
                <a:gridCol w="2171880"/>
              </a:tblGrid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u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تو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تى الآن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v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أبد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ب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centl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ديثاً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read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ماماً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Tense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 liv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Riyadh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x ye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not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visite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him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1995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hmed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lready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inishe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his homewor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 writt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ree letter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ju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Tense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94920" y="2666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ans “from some definite point or period n the past up to n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تعني كلمة ”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منذ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“ اعتباراً من نقطة أو فترة محددة في الماضي و حتى الآن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ans “a definite period of tim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تعني كلمة ”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لمدة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“ على فترة زمنية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3" name=""/>
          <p:cNvGraphicFramePr/>
          <p:nvPr/>
        </p:nvGraphicFramePr>
        <p:xfrm>
          <a:off x="2577960" y="3867120"/>
          <a:ext cx="4849920" cy="2211480"/>
        </p:xfrm>
        <a:graphic>
          <a:graphicData uri="http://schemas.openxmlformats.org/drawingml/2006/table">
            <a:tbl>
              <a:tblPr/>
              <a:tblGrid>
                <a:gridCol w="2349720"/>
                <a:gridCol w="2500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نذ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لمدة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’clo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mo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u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ter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n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ho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week/ last month/ last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ys/ 5 weeks / 4 mont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cent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came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ent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3886200" y="2057400"/>
            <a:ext cx="1828800" cy="4572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nce &amp;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حصل و انتهى في لحظة ما في زمن الماضي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26240" y="3429000"/>
            <a:ext cx="327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d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7" name=""/>
          <p:cNvGraphicFramePr/>
          <p:nvPr/>
        </p:nvGraphicFramePr>
        <p:xfrm>
          <a:off x="2119320" y="4703760"/>
          <a:ext cx="5070240" cy="140940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t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for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ich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تى الآن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 soon as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أبد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Perfect Tense 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219320" y="5257800"/>
            <a:ext cx="7696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wash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befo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ray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ent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hom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fter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finished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their wor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eat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cak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bough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 soon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bough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car,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o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Makka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لاحظ أن هذا الزمن غالباً ما يأتي معه زمن الماضي البسيط الذي حدث 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</a:rPr>
              <a:t>بعد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انتهاء الماضي التا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Perfect Tense 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متوقع حدوثه و انتهاؤه في زمن ما في المستقبل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36200" y="3429000"/>
            <a:ext cx="4065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will + hav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0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1" name=""/>
          <p:cNvGraphicFramePr/>
          <p:nvPr/>
        </p:nvGraphicFramePr>
        <p:xfrm>
          <a:off x="2119320" y="4703760"/>
          <a:ext cx="5070240" cy="585360"/>
        </p:xfrm>
        <a:graphic>
          <a:graphicData uri="http://schemas.openxmlformats.org/drawingml/2006/table">
            <a:tbl>
              <a:tblPr/>
              <a:tblGrid>
                <a:gridCol w="2576520"/>
                <a:gridCol w="2493720"/>
              </a:tblGrid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حلول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Perfect Tense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.00 this afternoon, I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have finish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y wor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10.00 tonight, 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have written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five letter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Perfect Tense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وقع جزء منه و تم في الماضي و لكنه مستمر حتى الآن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69680" y="3429000"/>
            <a:ext cx="365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s / have + been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+ 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4" name=""/>
          <p:cNvGraphicFramePr/>
          <p:nvPr/>
        </p:nvGraphicFramePr>
        <p:xfrm>
          <a:off x="2119320" y="4703760"/>
          <a:ext cx="5070240" cy="585360"/>
        </p:xfrm>
        <a:graphic>
          <a:graphicData uri="http://schemas.openxmlformats.org/drawingml/2006/table">
            <a:tbl>
              <a:tblPr/>
              <a:tblGrid>
                <a:gridCol w="2576520"/>
                <a:gridCol w="2493720"/>
              </a:tblGrid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 been study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glish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x ye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 been sleeping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2 o’clock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4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يقع الآن فقط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                     am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, she, it                        is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, we, you                       are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05120" y="4952880"/>
          <a:ext cx="6933960" cy="1113120"/>
        </p:xfrm>
        <a:graphic>
          <a:graphicData uri="http://schemas.openxmlformats.org/drawingml/2006/table">
            <a:tbl>
              <a:tblPr/>
              <a:tblGrid>
                <a:gridCol w="2057400"/>
                <a:gridCol w="3504960"/>
                <a:gridCol w="13716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w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آ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 the moment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في هذه اللحظة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ok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نظر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ste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ستمع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 the present time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وقت الحاضر                                       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                  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9440" y="3125880"/>
            <a:ext cx="3116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m / is / are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+ 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411480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44956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كي نفرق بين المضارع التام المستمر و المضارع التام                        :  لاحظ الأمثلة التالي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ha started making cakes three hours ago. There are now one hundred cakes on the tab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ن هذه الجملتين نكوّن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esent Perfect Continuous Tens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مستمر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  المضار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ت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s been making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ke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three hou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esent Perfect Tens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  المضار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ت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s ma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10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ke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95280" y="28954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2133360"/>
            <a:ext cx="76964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mperat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verbs used at the beginning of sentences either in  the affirmative or negative to indicate instructions, invitations, signs and notices or telling someone what to 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صيغة الأمر هي أفعال تستخدم في بداية الجمل أما تكون في الإثبات لتعبر عن التعليمات، الدعوى، الإشارات و الملاحظات أو إخبار شخص ماذا يفع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mperatives uses the simple form of the verb such as: walk, read, open,….et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تخدم صيغة الأمر الصيغة البسيطة للفعل أي التصريف الأول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6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ive Instructions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      إعطاء تعلي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Mi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lour and the suga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ake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wo tablets every four hou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Invitation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صيغة الدعوى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Come in; mak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selves at ho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Pleas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tart; do not wait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for m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g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نف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ll someone what to d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إخبار شخص ما سيفعله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p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 not forget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o post the lette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g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نف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ive Warnings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      إعطاء تحذيرات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Keep out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ng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Signs &amp; Notice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تكوين إشارات و ملاحظات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ush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Insert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2 X 50 S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Keep off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the gras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Request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تكوين الطلب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eas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p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o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odal has only one form of the verb for all persons, but it can have several meanings and time frames, depending on the context in which it is us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فعل الناقص له صيغة واحدة مع جميع الأشخاص ولكن له عدة معاني و أشكال زمنية حسب المحتوى الذي تستخدم في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صيغة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hall, should, will would, may, might, can, could, must, ought t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(التصريف الأول للفعل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als have no infinitives or past particip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يس للفعل الناقص مصدر أو تصريف ثالث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8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066680" y="1905120"/>
          <a:ext cx="7543800" cy="4279680"/>
        </p:xfrm>
        <a:graphic>
          <a:graphicData uri="http://schemas.openxmlformats.org/drawingml/2006/table">
            <a:tbl>
              <a:tblPr/>
              <a:tblGrid>
                <a:gridCol w="1524240"/>
                <a:gridCol w="2971800"/>
                <a:gridCol w="304776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وع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ke a rewar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صم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does not want to obey me: but 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e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هد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punished if you come lat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وا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obey your teacher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ice or opin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نصيحة أو الرأ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top smoking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simple future tens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يغة المستقبل البسي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t us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tion or prom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تصميم أو الوع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ravel when I lik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as you wis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9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136520" y="2100240"/>
          <a:ext cx="7473960" cy="3975120"/>
        </p:xfrm>
        <a:graphic>
          <a:graphicData uri="http://schemas.openxmlformats.org/drawingml/2006/table">
            <a:tbl>
              <a:tblPr/>
              <a:tblGrid>
                <a:gridCol w="1586160"/>
                <a:gridCol w="2868480"/>
                <a:gridCol w="301932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إمكان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oped that 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hought that the weather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ig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 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, am/is/are able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قدر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 it careful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 able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olve the probl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 be able, will be 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 in the fu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قدرة على المستقب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 be abl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help you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, present or future pos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إمكانية في الماضي/ المضارع / المستقب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had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rive his car a year ag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is not in class today. 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sic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 not leave now. It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ain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ces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ضرور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isten to your teacher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d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ast form of must :past neces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ضرورة في الماض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sal could not come to our dinner party. 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 ha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stay home to stud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40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066680" y="1905120"/>
          <a:ext cx="7543440" cy="2109240"/>
        </p:xfrm>
        <a:graphic>
          <a:graphicData uri="http://schemas.openxmlformats.org/drawingml/2006/table">
            <a:tbl>
              <a:tblPr/>
              <a:tblGrid>
                <a:gridCol w="1600920"/>
                <a:gridCol w="2895120"/>
                <a:gridCol w="3047400"/>
              </a:tblGrid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نصيح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the poo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 ha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s that were advisable in the p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داث كان من المستحسن عملها في الماض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 have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i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did not. That was a mistak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41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623880" y="1600200"/>
          <a:ext cx="7980120" cy="4026960"/>
        </p:xfrm>
        <a:graphic>
          <a:graphicData uri="http://schemas.openxmlformats.org/drawingml/2006/table">
            <a:tbl>
              <a:tblPr/>
              <a:tblGrid>
                <a:gridCol w="1578960"/>
                <a:gridCol w="1496520"/>
                <a:gridCol w="1579320"/>
                <a:gridCol w="1579680"/>
                <a:gridCol w="1745640"/>
              </a:tblGrid>
              <a:tr h="644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ort Answ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ey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23880" y="1600200"/>
          <a:ext cx="7980120" cy="4144680"/>
        </p:xfrm>
        <a:graphic>
          <a:graphicData uri="http://schemas.openxmlformats.org/drawingml/2006/table">
            <a:tbl>
              <a:tblPr/>
              <a:tblGrid>
                <a:gridCol w="1578960"/>
                <a:gridCol w="1496520"/>
                <a:gridCol w="1579320"/>
                <a:gridCol w="1579680"/>
                <a:gridCol w="1745640"/>
              </a:tblGrid>
              <a:tr h="645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ort Answ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you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no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m reading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story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 the mo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 watc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levisi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ok!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bus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s coming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371600" y="3429000"/>
          <a:ext cx="7467480" cy="2666880"/>
        </p:xfrm>
        <a:graphic>
          <a:graphicData uri="http://schemas.openxmlformats.org/drawingml/2006/table">
            <a:tbl>
              <a:tblPr/>
              <a:tblGrid>
                <a:gridCol w="1905120"/>
                <a:gridCol w="1828800"/>
                <a:gridCol w="1866960"/>
                <a:gridCol w="18666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k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حب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حب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ريد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فضل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sh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يتمنى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t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كره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lik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كره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el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شعر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p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أمل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سمع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k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عتقد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m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بدو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ظهر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خشى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id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عتبر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ناسب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iev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صدق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u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ثق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stand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فهم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1219320" y="2743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بعض الأفعال لا يمكن أن تقع في الاستمرار سواء المضارع المستمر أو الماضي المستمر  وهذه الأفعال تعبر عن الشعور والأذى والإحساس ومن هذه الأفعال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289548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ستخدم هذا الزمن للتعبير عن فعل وقع في الماضي  أثناء وقوع فعل أخر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ملحوظ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هذا الزمن عادة ما يأتي معه زمن الماضي البسيط و الذي تخلل الماضي المستمر أي الذي وقع أثناء حدوث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219320" y="4267080"/>
          <a:ext cx="7619760" cy="700200"/>
        </p:xfrm>
        <a:graphic>
          <a:graphicData uri="http://schemas.openxmlformats.org/drawingml/2006/table">
            <a:tbl>
              <a:tblPr/>
              <a:tblGrid>
                <a:gridCol w="2286000"/>
                <a:gridCol w="1757160"/>
                <a:gridCol w="1787760"/>
                <a:gridCol w="17888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e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م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ile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بينما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حيث أن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cau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أن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77240" y="3276720"/>
            <a:ext cx="2835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was / wer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+ 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as sleeping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hief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entered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ro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(بينما كنت نائماً ، دخل لص غرفتي)  هذه الجملة تحتوي على حدثين أحدهما ماضي مستمر وهو النوم والآخر دخول اللص الغرفة الذي حصل أثناء النوم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ere ea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,  my father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am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( بينما كنا نأكل ، جاء والدي) هذه الجملة تحتوي على حدثين أحدهما ماضي مستمر وهو الأكل والآخر مجيء والدي الذي حصل أثناء الأكل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36576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3581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502920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8320" y="502920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لاحظة: يمكن وضع أداة الربط وسط الجملة دون أن يتغير المعنى فتصبح الجملتان السابقة كما يلي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hief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entered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my room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as sleeping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دخل لص غرفتي بينما كنت نائما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father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am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ere ea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جاء والدي بينما كنا نأك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44956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44956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5638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886200" y="57150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ملاحظ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تكتب الفاصلة إذا بدأت الجملة بكلمة        وتح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Tahoma"/>
              </a:rPr>
              <a:t>ذ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إذا وقعت في منتصف الجملة الأول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تذكر دائماً أن قاعدة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بها فعلان الأول طويل مستمر و الآخر مفاجئ وهو ماضي بسي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5334120"/>
            <a:ext cx="1523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6668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81480" y="441972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2895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شيء متوقع حدوثه في المستقبل ويستمر لفترة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05440" y="3429000"/>
            <a:ext cx="294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 will + b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ing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1" name=""/>
          <p:cNvGraphicFramePr/>
          <p:nvPr/>
        </p:nvGraphicFramePr>
        <p:xfrm>
          <a:off x="1981080" y="4495680"/>
          <a:ext cx="6743880" cy="1400040"/>
        </p:xfrm>
        <a:graphic>
          <a:graphicData uri="http://schemas.openxmlformats.org/drawingml/2006/table">
            <a:tbl>
              <a:tblPr/>
              <a:tblGrid>
                <a:gridCol w="3048120"/>
                <a:gridCol w="1828800"/>
                <a:gridCol w="1866960"/>
              </a:tblGrid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 للزمن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حلول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غضون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om…to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..إلى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l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،جميع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ter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عد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6:43Z</dcterms:created>
  <dc:creator>user</dc:creator>
  <dc:description/>
  <dc:language>en-US</dc:language>
  <cp:lastModifiedBy>user</cp:lastModifiedBy>
  <dcterms:modified xsi:type="dcterms:W3CDTF">2007-07-13T00:16:43Z</dcterms:modified>
  <cp:revision>1</cp:revision>
  <dc:subject/>
  <dc:title>الشريحة 1</dc:title>
</cp:coreProperties>
</file>