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25F5-EBE5-4F26-9570-667C6CFBA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A4AB-7024-47FF-9897-506134315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D8E9-D8DE-48AD-95BF-917088660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96E6-2411-452B-B51B-9FBDBA804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06C9A-6EE6-4151-8974-8DF9865E8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8C9CD-0FF0-415F-84A4-DD179ECC8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B55BB-5C66-479D-A3D3-0142AF535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15318-B1AB-43AE-968D-A6CF41392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3B982-C065-4422-BAC2-C12860DCC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8E949-C791-4D42-A463-D774BD979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1DBA2-5767-41D4-A9CB-43F6F36A7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0B8E-8567-464F-838F-962A0CEFA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5EEC2-002B-4C45-8C45-8AF707F00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A2790-3B7B-47FC-B91E-ED983C067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D5209-6FBF-4BDD-994D-EC7130095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FCAC0-4769-4BF6-A74A-B672ECB0D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611E8-0B46-4286-BEE8-2F7302B52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481B01-0E81-4447-9481-11AEFEF2C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F2B871-9515-4DE0-BB82-B81005DE6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DEB3E1-8EE8-4309-B407-69D920C54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67E845-827E-44E9-88B1-6E80B9799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1B1005-4BB5-485A-A80E-D98C0A133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71B9-CA25-4AAE-A8DD-F67B20505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BC78FF-1DEC-4C5F-84B9-1694AC576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F58ABE-9821-4469-BD48-832F53F4D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81FEFF-8767-4839-B299-CE7A7F008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D60F33-1BDC-4F55-93F4-4B14B04B5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63E0AE-02B3-4877-A62D-2EB7AF1F6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EB9393-E1CE-48C1-B05B-373800295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2240DD-E423-4D7D-9FB0-EBB279EE0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DB9F-EA71-4B98-BCEF-296A5FD0F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1C24-9414-4E0B-8916-E633B519F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11B2-98C0-4C84-BE6D-BC7B89914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2848-801D-46AF-85C9-8D70721A3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F11A-E325-4E41-826F-DFE24D3BD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3651-F1C8-475B-A7F2-71204BEFF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73F87-F30E-488A-AB86-456D2EF9E7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42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B0597-4BDF-4835-90C1-2447E9CEDA16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9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33BC9-4EC1-4CCA-8883-4C0330ACA9DA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  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43000" y="2895480"/>
            <a:ext cx="76960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ffff"/>
                </a:solidFill>
                <a:uFillTx/>
                <a:latin typeface="Arial"/>
              </a:rPr>
              <a:t>أمثلــــــــــــــــــــــ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y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7.30 tomorrow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will be flying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to Cair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will be wait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or you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t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5 o'clock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38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1905120" y="2057400"/>
            <a:ext cx="579096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Future Continuous Tense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ستقبل المستم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  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143000" y="2819160"/>
            <a:ext cx="76960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يستخدم هذا الزمن للتعبير عن حدث حصل في الماضي و انتهى قبل لحظات أو انتهى في الماضي و لازالت آثاره موجودة حتى الآن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يتكون هذا الزمن من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يأتي هذا الزمن عادة مع كلمات مثل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590920" y="2057400"/>
            <a:ext cx="495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. Present Continuous Tense                   </a:t>
            </a:r>
            <a:r>
              <a:rPr b="0" lang="ar-SA" sz="20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2000" spc="-1" strike="noStrike">
                <a:solidFill>
                  <a:srgbClr val="000066"/>
                </a:solidFill>
                <a:latin typeface="Tahoma"/>
              </a:rPr>
              <a:t>المضارع المستمر</a:t>
            </a:r>
            <a:r>
              <a:rPr b="0" lang="ar-SA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          </a:t>
            </a:r>
            <a:r>
              <a:rPr b="0" lang="ar-SA" sz="1800" spc="-1" strike="noStrike">
                <a:solidFill>
                  <a:srgbClr val="000066"/>
                </a:solidFill>
                <a:latin typeface="Tahoma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745360" y="3505320"/>
            <a:ext cx="40395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has / have </a:t>
            </a:r>
            <a:r>
              <a:rPr b="0" lang="ar-SA" sz="2000" spc="-1" strike="noStrike">
                <a:solidFill>
                  <a:srgbClr val="cc3300"/>
                </a:solidFill>
                <a:latin typeface="Tahoma"/>
              </a:rPr>
              <a:t>التصريف الثالث للفعل</a:t>
            </a:r>
            <a:r>
              <a:rPr b="0" lang="ar-SA" sz="2000" spc="-1" strike="noStrike">
                <a:solidFill>
                  <a:srgbClr val="cc3300"/>
                </a:solidFill>
                <a:latin typeface="Tahoma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553080" y="34290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553080" y="34290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172200" y="3429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51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54" name=""/>
          <p:cNvGraphicFramePr/>
          <p:nvPr/>
        </p:nvGraphicFramePr>
        <p:xfrm>
          <a:off x="1981080" y="4495680"/>
          <a:ext cx="6743880" cy="1368720"/>
        </p:xfrm>
        <a:graphic>
          <a:graphicData uri="http://schemas.openxmlformats.org/drawingml/2006/table">
            <a:tbl>
              <a:tblPr/>
              <a:tblGrid>
                <a:gridCol w="2362320"/>
                <a:gridCol w="2209680"/>
                <a:gridCol w="2171880"/>
              </a:tblGrid>
              <a:tr h="454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ince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نذ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for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مدة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just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في التو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6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yet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حتى الآن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ever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في الأبد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ever</a:t>
                      </a: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  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 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أبدا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4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recently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حديثاً 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lready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تماماً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5" name=""/>
          <p:cNvSpPr/>
          <p:nvPr/>
        </p:nvSpPr>
        <p:spPr>
          <a:xfrm>
            <a:off x="1905120" y="2057400"/>
            <a:ext cx="579096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Present Perfect Tense      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ضارع التا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  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143000" y="2895480"/>
            <a:ext cx="76960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ffff"/>
                </a:solidFill>
                <a:uFillTx/>
                <a:latin typeface="Arial"/>
              </a:rPr>
              <a:t>أمثلــــــــــــــــــــــ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have live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n Riyadh </a:t>
            </a: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fo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ix year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I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have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not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visited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him </a:t>
            </a: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since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1995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Ahmed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has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already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finished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his homework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e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has writte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ree letters </a:t>
            </a: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jus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now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61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1905120" y="2057400"/>
            <a:ext cx="579096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Present Perfect Tense      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ضارع التا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  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294920" y="266652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Sinc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means “from some definite point or period n the past up to now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تعني كلمة ”</a:t>
            </a:r>
            <a:r>
              <a:rPr b="1" lang="ar-SA" sz="1400" spc="-1" strike="noStrike">
                <a:solidFill>
                  <a:srgbClr val="ffff00"/>
                </a:solidFill>
                <a:latin typeface="Arial"/>
              </a:rPr>
              <a:t>منذ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“ اعتباراً من نقطة أو فترة محددة في الماضي و حتى الآن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Fo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means “a definite period of tim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تعني كلمة ”</a:t>
            </a:r>
            <a:r>
              <a:rPr b="1" lang="ar-SA" sz="1400" spc="-1" strike="noStrike">
                <a:solidFill>
                  <a:srgbClr val="ffff00"/>
                </a:solidFill>
                <a:latin typeface="Arial"/>
              </a:rPr>
              <a:t>لمدة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“ على فترة زمنية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172200" y="3429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70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73" name=""/>
          <p:cNvGraphicFramePr/>
          <p:nvPr/>
        </p:nvGraphicFramePr>
        <p:xfrm>
          <a:off x="2577960" y="3867120"/>
          <a:ext cx="4849920" cy="2211480"/>
        </p:xfrm>
        <a:graphic>
          <a:graphicData uri="http://schemas.openxmlformats.org/drawingml/2006/table">
            <a:tbl>
              <a:tblPr/>
              <a:tblGrid>
                <a:gridCol w="2349720"/>
                <a:gridCol w="250020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ince</a:t>
                      </a:r>
                      <a:r>
                        <a:rPr b="0" lang="ar-SA" sz="1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منذ            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For</a:t>
                      </a:r>
                      <a:r>
                        <a:rPr b="0" lang="ar-SA" sz="1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لمدة 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’cloc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mo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nd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ut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terd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 hou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st nigh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ny hou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st week/ last month/ last ye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ys/ 5 weeks / 4 month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ye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st centu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a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came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centu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4" name=""/>
          <p:cNvSpPr/>
          <p:nvPr/>
        </p:nvSpPr>
        <p:spPr>
          <a:xfrm>
            <a:off x="3886200" y="2057400"/>
            <a:ext cx="1828800" cy="45720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nce &amp;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  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143000" y="2895480"/>
            <a:ext cx="7696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يستخدم هذا الزمن للتعبير عن حدث حصل و انتهى في لحظة ما في زمن الماضي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يتكون هذا الزمن من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يأتي هذا الزمن عادة مع كلمات مثل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590920" y="2057400"/>
            <a:ext cx="495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. Present Continuous Tense                   </a:t>
            </a:r>
            <a:r>
              <a:rPr b="0" lang="ar-SA" sz="20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2000" spc="-1" strike="noStrike">
                <a:solidFill>
                  <a:srgbClr val="000066"/>
                </a:solidFill>
                <a:latin typeface="Tahoma"/>
              </a:rPr>
              <a:t>المضارع المستمر</a:t>
            </a:r>
            <a:r>
              <a:rPr b="0" lang="ar-SA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          </a:t>
            </a:r>
            <a:r>
              <a:rPr b="0" lang="ar-SA" sz="1800" spc="-1" strike="noStrike">
                <a:solidFill>
                  <a:srgbClr val="000066"/>
                </a:solidFill>
                <a:latin typeface="Tahoma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126240" y="3429000"/>
            <a:ext cx="32760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had </a:t>
            </a:r>
            <a:r>
              <a:rPr b="0" lang="ar-SA" sz="2000" spc="-1" strike="noStrike">
                <a:solidFill>
                  <a:srgbClr val="cc3300"/>
                </a:solidFill>
                <a:latin typeface="Tahoma"/>
              </a:rPr>
              <a:t>التصريف الثالث للفعل</a:t>
            </a:r>
            <a:r>
              <a:rPr b="0" lang="ar-SA" sz="2000" spc="-1" strike="noStrike">
                <a:solidFill>
                  <a:srgbClr val="cc3300"/>
                </a:solidFill>
                <a:latin typeface="Tahoma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553080" y="34290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553080" y="34290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172200" y="3429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84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87" name=""/>
          <p:cNvGraphicFramePr/>
          <p:nvPr/>
        </p:nvGraphicFramePr>
        <p:xfrm>
          <a:off x="2119320" y="4703760"/>
          <a:ext cx="5070240" cy="1409400"/>
        </p:xfrm>
        <a:graphic>
          <a:graphicData uri="http://schemas.openxmlformats.org/drawingml/2006/table">
            <a:tbl>
              <a:tblPr/>
              <a:tblGrid>
                <a:gridCol w="2576880"/>
                <a:gridCol w="2493360"/>
              </a:tblGrid>
              <a:tr h="70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fter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نذ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before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مدة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hich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حتى الآن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s soon as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في الأبد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8" name=""/>
          <p:cNvSpPr/>
          <p:nvPr/>
        </p:nvSpPr>
        <p:spPr>
          <a:xfrm>
            <a:off x="1905120" y="2057400"/>
            <a:ext cx="579096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Past Perfect Tense          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اضي التا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1219320" y="5257800"/>
            <a:ext cx="76960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  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143000" y="2895120"/>
            <a:ext cx="769608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45324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ffff"/>
                </a:solidFill>
                <a:uFillTx/>
                <a:latin typeface="Arial"/>
              </a:rPr>
              <a:t>أمثلــــــــــــــــــــــ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240" indent="-453240" algn="r" rtl="1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had washe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befor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praye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3240" indent="-453240" algn="r" rtl="1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They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went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 hom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fter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 they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had finished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 their work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3240" indent="-453240" algn="r" rtl="1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hmed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had eate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e cak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he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bough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3240" indent="-453240" algn="r" rtl="1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s soon a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ey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had bough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 car, they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drov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o Makka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324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324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لاحظ أن هذا الزمن غالباً ما يأتي معه زمن الماضي البسيط الذي حدث </a:t>
            </a:r>
            <a:r>
              <a:rPr b="0" lang="ar-SA" sz="2000" spc="-1" strike="noStrike">
                <a:solidFill>
                  <a:srgbClr val="cc3300"/>
                </a:solidFill>
                <a:latin typeface="Arial"/>
              </a:rPr>
              <a:t>بعد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انتهاء الماضي التا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95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1905120" y="2057400"/>
            <a:ext cx="579096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Past Perfect Tense          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اضي التا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  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143000" y="2895480"/>
            <a:ext cx="7696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يستخدم هذا الزمن للتعبير عن حدث متوقع حدوثه و انتهاؤه في زمن ما في المستقبل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يتكون هذا الزمن من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يأتي هذا الزمن عادة مع كلمات مثل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590920" y="2057400"/>
            <a:ext cx="495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. Present Continuous Tense                   </a:t>
            </a:r>
            <a:r>
              <a:rPr b="0" lang="ar-SA" sz="20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2000" spc="-1" strike="noStrike">
                <a:solidFill>
                  <a:srgbClr val="000066"/>
                </a:solidFill>
                <a:latin typeface="Tahoma"/>
              </a:rPr>
              <a:t>المضارع المستمر</a:t>
            </a:r>
            <a:r>
              <a:rPr b="0" lang="ar-SA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          </a:t>
            </a:r>
            <a:r>
              <a:rPr b="0" lang="ar-SA" sz="1800" spc="-1" strike="noStrike">
                <a:solidFill>
                  <a:srgbClr val="000066"/>
                </a:solidFill>
                <a:latin typeface="Tahoma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536200" y="3429000"/>
            <a:ext cx="40654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will + have </a:t>
            </a:r>
            <a:r>
              <a:rPr b="0" lang="ar-SA" sz="2000" spc="-1" strike="noStrike">
                <a:solidFill>
                  <a:srgbClr val="cc3300"/>
                </a:solidFill>
                <a:latin typeface="Tahoma"/>
              </a:rPr>
              <a:t>التصريف الثالث للفعل</a:t>
            </a:r>
            <a:r>
              <a:rPr b="0" lang="ar-SA" sz="2000" spc="-1" strike="noStrike">
                <a:solidFill>
                  <a:srgbClr val="cc3300"/>
                </a:solidFill>
                <a:latin typeface="Tahoma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553080" y="34290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553080" y="34290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172200" y="3429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308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11" name=""/>
          <p:cNvGraphicFramePr/>
          <p:nvPr/>
        </p:nvGraphicFramePr>
        <p:xfrm>
          <a:off x="2119320" y="4703760"/>
          <a:ext cx="5070240" cy="585360"/>
        </p:xfrm>
        <a:graphic>
          <a:graphicData uri="http://schemas.openxmlformats.org/drawingml/2006/table">
            <a:tbl>
              <a:tblPr/>
              <a:tblGrid>
                <a:gridCol w="2576520"/>
                <a:gridCol w="2493720"/>
              </a:tblGrid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by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بحلول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t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عند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2" name=""/>
          <p:cNvSpPr/>
          <p:nvPr/>
        </p:nvSpPr>
        <p:spPr>
          <a:xfrm>
            <a:off x="1905120" y="2057400"/>
            <a:ext cx="579096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9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Future Perfect Tense         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ستقبل التا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  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143000" y="2895480"/>
            <a:ext cx="76960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ffff"/>
                </a:solidFill>
                <a:uFillTx/>
                <a:latin typeface="Arial"/>
              </a:rPr>
              <a:t>أمثلــــــــــــــــــــــ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2.00 this afternoon, I 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will have finishe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my work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t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10.00 tonight, she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will have written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five letters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318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"/>
          <p:cNvSpPr/>
          <p:nvPr/>
        </p:nvSpPr>
        <p:spPr>
          <a:xfrm>
            <a:off x="1905120" y="2057400"/>
            <a:ext cx="579096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9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Future Perfect Tense         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ستقبل التا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  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143000" y="2895480"/>
            <a:ext cx="7696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يستخدم هذا الزمن للتعبير عن حدث وقع جزء منه و تم في الماضي و لكنه مستمر حتى الآن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يتكون هذا الزمن من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يأتي هذا الزمن عادة مع كلمات مثل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590920" y="2057400"/>
            <a:ext cx="495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. Present Continuous Tense                   </a:t>
            </a:r>
            <a:r>
              <a:rPr b="0" lang="ar-SA" sz="20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2000" spc="-1" strike="noStrike">
                <a:solidFill>
                  <a:srgbClr val="000066"/>
                </a:solidFill>
                <a:latin typeface="Tahoma"/>
              </a:rPr>
              <a:t>المضارع المستمر</a:t>
            </a:r>
            <a:r>
              <a:rPr b="0" lang="ar-SA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          </a:t>
            </a:r>
            <a:r>
              <a:rPr b="0" lang="ar-SA" sz="1800" spc="-1" strike="noStrike">
                <a:solidFill>
                  <a:srgbClr val="000066"/>
                </a:solidFill>
                <a:latin typeface="Tahoma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569680" y="3429000"/>
            <a:ext cx="36525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has / have + been </a:t>
            </a:r>
            <a:r>
              <a:rPr b="0" lang="ar-SA" sz="2000" spc="-1" strike="noStrike">
                <a:solidFill>
                  <a:srgbClr val="cc3300"/>
                </a:solidFill>
                <a:latin typeface="Tahoma"/>
              </a:rPr>
              <a:t>فعل</a:t>
            </a:r>
            <a:r>
              <a:rPr b="0" lang="ar-SA" sz="2000" spc="-1" strike="noStrike">
                <a:solidFill>
                  <a:srgbClr val="cc3300"/>
                </a:solidFill>
                <a:latin typeface="Tahoma"/>
              </a:rPr>
              <a:t>+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+ 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553080" y="34290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553080" y="34290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172200" y="3429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331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34" name=""/>
          <p:cNvGraphicFramePr/>
          <p:nvPr/>
        </p:nvGraphicFramePr>
        <p:xfrm>
          <a:off x="2119320" y="4703760"/>
          <a:ext cx="5070240" cy="585360"/>
        </p:xfrm>
        <a:graphic>
          <a:graphicData uri="http://schemas.openxmlformats.org/drawingml/2006/table">
            <a:tbl>
              <a:tblPr/>
              <a:tblGrid>
                <a:gridCol w="2576520"/>
                <a:gridCol w="2493720"/>
              </a:tblGrid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for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مدة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ince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نذ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5" name=""/>
          <p:cNvSpPr/>
          <p:nvPr/>
        </p:nvSpPr>
        <p:spPr>
          <a:xfrm>
            <a:off x="1219320" y="2057400"/>
            <a:ext cx="723888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Present Perfect Continuous Tense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ستمر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المضارع التا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  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143000" y="2895480"/>
            <a:ext cx="76960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ffff"/>
                </a:solidFill>
                <a:uFillTx/>
                <a:latin typeface="Arial"/>
              </a:rPr>
              <a:t>أمثلــــــــــــــــــــــ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have been study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nglish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fo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ix year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She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has been sleeping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ince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2 o’clock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341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4" name=""/>
          <p:cNvSpPr/>
          <p:nvPr/>
        </p:nvSpPr>
        <p:spPr>
          <a:xfrm>
            <a:off x="1219320" y="2057400"/>
            <a:ext cx="723888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Present Perfect Continuous Tense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ستمر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المضارع التا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</a:t>
            </a: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19320" y="2743200"/>
            <a:ext cx="7696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2228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يستخدم هذا الزمن للتعبير عن حدث يقع الآن فقط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28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يتكون هذا الزمن من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28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28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                     am + verb + 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28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, she, it                        is + verb + 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28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y, we, you                       are + verb + 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28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يأتي هذا الزمن عادة مع كلمات مثل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28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28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1905120" y="4952880"/>
          <a:ext cx="6933960" cy="1113120"/>
        </p:xfrm>
        <a:graphic>
          <a:graphicData uri="http://schemas.openxmlformats.org/drawingml/2006/table">
            <a:tbl>
              <a:tblPr/>
              <a:tblGrid>
                <a:gridCol w="2057400"/>
                <a:gridCol w="3504960"/>
                <a:gridCol w="1371600"/>
              </a:tblGrid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ow</a:t>
                      </a:r>
                      <a:r>
                        <a:rPr b="0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آ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t the moment</a:t>
                      </a:r>
                      <a:r>
                        <a:rPr b="0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في هذه اللحظة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look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0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انظر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listen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</a:t>
                      </a:r>
                      <a:r>
                        <a:rPr b="0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ستمع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</a:t>
                      </a: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t the present time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في الوقت الحاضر                                           </a:t>
                      </a:r>
                      <a:r>
                        <a:rPr b="0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                                                              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43" name=""/>
          <p:cNvSpPr/>
          <p:nvPr/>
        </p:nvSpPr>
        <p:spPr>
          <a:xfrm>
            <a:off x="2590920" y="2057400"/>
            <a:ext cx="495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. Present Continuous Tense                   </a:t>
            </a:r>
            <a:r>
              <a:rPr b="0" lang="ar-SA" sz="20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2000" spc="-1" strike="noStrike">
                <a:solidFill>
                  <a:srgbClr val="000066"/>
                </a:solidFill>
                <a:latin typeface="Tahoma"/>
              </a:rPr>
              <a:t>المضارع المستمر</a:t>
            </a:r>
            <a:r>
              <a:rPr b="0" lang="ar-SA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          </a:t>
            </a:r>
            <a:r>
              <a:rPr b="0" lang="ar-SA" sz="1800" spc="-1" strike="noStrike">
                <a:solidFill>
                  <a:srgbClr val="000066"/>
                </a:solidFill>
                <a:latin typeface="Tahoma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989440" y="3125880"/>
            <a:ext cx="31161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am / is / are</a:t>
            </a:r>
            <a:r>
              <a:rPr b="0" lang="ar-SA" sz="2000" spc="-1" strike="noStrike">
                <a:solidFill>
                  <a:srgbClr val="cc3300"/>
                </a:solidFill>
                <a:latin typeface="Tahoma"/>
              </a:rPr>
              <a:t>فعل</a:t>
            </a:r>
            <a:r>
              <a:rPr b="0" lang="ar-SA" sz="20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ar-SA" sz="2000" spc="-1" strike="noStrike">
                <a:solidFill>
                  <a:srgbClr val="cc3300"/>
                </a:solidFill>
                <a:latin typeface="Tahoma"/>
              </a:rPr>
              <a:t>+ 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 + 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3809880"/>
            <a:ext cx="10666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14600" y="4114800"/>
            <a:ext cx="1447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895480" y="4495680"/>
            <a:ext cx="1295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96252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905120" y="2057400"/>
            <a:ext cx="579096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Present Continuous Tense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ضارع المستم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51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  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143000" y="2895480"/>
            <a:ext cx="76960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لكي نفرق بين المضارع التام المستمر و المضارع التام                        :  لاحظ الأمثلة التالية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ha started making cakes three hours ago. There are now one hundred cakes on the tabl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من هذه الجملتين نكوّن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resent Perfect Continuous Tense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ar-SA" sz="1200" spc="-1" strike="noStrike">
                <a:solidFill>
                  <a:srgbClr val="ffffff"/>
                </a:solidFill>
                <a:latin typeface="Arial"/>
              </a:rPr>
              <a:t>المستمر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1200" spc="-1" strike="noStrike">
                <a:solidFill>
                  <a:srgbClr val="ffffff"/>
                </a:solidFill>
                <a:latin typeface="Arial"/>
              </a:rPr>
              <a:t>  المضارع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1200" spc="-1" strike="noStrike">
                <a:solidFill>
                  <a:srgbClr val="ffffff"/>
                </a:solidFill>
                <a:latin typeface="Arial"/>
              </a:rPr>
              <a:t>التام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She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has been making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ke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o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three hours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resent Perfect Tense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ar-SA" sz="1200" spc="-1" strike="noStrike">
                <a:solidFill>
                  <a:srgbClr val="ffffff"/>
                </a:solidFill>
                <a:latin typeface="Arial"/>
              </a:rPr>
              <a:t>  المضارع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1200" spc="-1" strike="noStrike">
                <a:solidFill>
                  <a:srgbClr val="ffffff"/>
                </a:solidFill>
                <a:latin typeface="Arial"/>
              </a:rPr>
              <a:t>التام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She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has ma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100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kes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>
            <a:hlinkClick r:id="" action="ppaction://hlinkshowjump?jump=previousslide"/>
          </p:cNvPr>
          <p:cNvSpPr/>
          <p:nvPr/>
        </p:nvSpPr>
        <p:spPr>
          <a:xfrm>
            <a:off x="3657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ساب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219320" y="2057400"/>
            <a:ext cx="723888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Present Perfect Continuous Tense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ستمر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المضارع التا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295280" y="289548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resent Perf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Imperativ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صيغة الأمر</a:t>
            </a: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066320" y="2133360"/>
            <a:ext cx="76964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 algn="r" rtl="1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Imperativ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re verbs used at the beginning of sentences either in  the affirmative or negative to indicate instructions, invitations, signs and notices or telling someone what to d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صيغة الأمر هي أفعال تستخدم في بداية الجمل أما تكون في الإثبات لتعبر عن التعليمات، الدعوى، الإشارات و الملاحظات أو إخبار شخص ماذا يفعل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Imperatives uses the simple form of the verb such as: walk, read, open,….etc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تستخدم صيغة الأمر الصيغة البسيطة للفعل أي التصريف الأول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>
            <a:hlinkClick r:id="" action="ppaction://hlinkshowjump?jump=nextslide"/>
          </p:cNvPr>
          <p:cNvSpPr/>
          <p:nvPr/>
        </p:nvSpPr>
        <p:spPr>
          <a:xfrm>
            <a:off x="57150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تالي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Imperativ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صيغة الأمر</a:t>
            </a: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363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066680" y="1905120"/>
            <a:ext cx="7696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ffffff"/>
                </a:solidFill>
                <a:uFillTx/>
                <a:latin typeface="Arial"/>
              </a:rPr>
              <a:t>أمثلــــــــــــــــــــــ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Give Instructions</a:t>
            </a:r>
            <a:r>
              <a:rPr b="0" lang="ar-SA" sz="18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ffff00"/>
                </a:solidFill>
                <a:latin typeface="Arial"/>
              </a:rPr>
              <a:t>            إعطاء تعليم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Mix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flour and the suga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ffirmativ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إثبات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Take 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two tablets every four hours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ffirmativ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إثبات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ake Invitation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ffff00"/>
                </a:solidFill>
                <a:latin typeface="Arial"/>
              </a:rPr>
              <a:t>صيغة الدعوى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Come in; mak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ourselves at hom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ffirmativ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إثبات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Please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tart; do not wait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for m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egativ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نفي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ell someone what to do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ffff00"/>
                </a:solidFill>
                <a:latin typeface="Arial"/>
              </a:rPr>
              <a:t>إخبار شخص ما سيفعله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Open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our book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ffirmativ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إثبات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 not forget 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to post the lette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. </a:t>
            </a:r>
            <a:r>
              <a:rPr b="0" lang="ar-SA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egativ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نفي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Imperativ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صيغة الأمر</a:t>
            </a: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>
            <a:hlinkClick r:id="" action="ppaction://hlinkshowjump?jump=previousslide"/>
          </p:cNvPr>
          <p:cNvSpPr/>
          <p:nvPr/>
        </p:nvSpPr>
        <p:spPr>
          <a:xfrm>
            <a:off x="3657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ساب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066680" y="1905120"/>
            <a:ext cx="7696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ffffff"/>
                </a:solidFill>
                <a:uFillTx/>
                <a:latin typeface="Arial"/>
              </a:rPr>
              <a:t>أمثلــــــــــــــــــــــ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Give Warnings</a:t>
            </a:r>
            <a:r>
              <a:rPr b="0" lang="ar-SA" sz="18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ffff00"/>
                </a:solidFill>
                <a:latin typeface="Arial"/>
              </a:rPr>
              <a:t>            إعطاء تحذيرات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Keep out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ang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ffirmativ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إثبات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ake Signs &amp; Notice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ffff00"/>
                </a:solidFill>
                <a:latin typeface="Arial"/>
              </a:rPr>
              <a:t>تكوين إشارات و ملاحظات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Push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ffirmativ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إثبات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Insert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2 X 50 S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ffirmativ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إثبات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Keep off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the grass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ffirmativ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إثبات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ake Request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ffff00"/>
                </a:solidFill>
                <a:latin typeface="Arial"/>
              </a:rPr>
              <a:t>تكوين الطلب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lease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open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doo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ffirmativ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إثبات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Modal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فعال الناقصة</a:t>
            </a: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>
            <a:hlinkClick r:id="" action="ppaction://hlinkshowjump?jump=nextslide"/>
          </p:cNvPr>
          <p:cNvSpPr/>
          <p:nvPr/>
        </p:nvSpPr>
        <p:spPr>
          <a:xfrm>
            <a:off x="57150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تالي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066680" y="1905120"/>
            <a:ext cx="7696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 algn="ctr" rtl="1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066320" y="2133720"/>
            <a:ext cx="76964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7280" indent="-287280" algn="r" rtl="1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modal has only one form of the verb for all persons, but it can have several meanings and time frames, depending on the context in which it is use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الفعل الناقص له صيغة واحدة مع جميع الأشخاص ولكن له عدة معاني و أشكال زمنية حسب المحتوى الذي تستخدم فيه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 algn="r" rtl="1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الصيغة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hall, should, will would, may, might, can, could, must, ought to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</a:t>
            </a:r>
            <a:r>
              <a:rPr b="0" lang="ar-SA" sz="2000" spc="-1" strike="noStrike">
                <a:solidFill>
                  <a:srgbClr val="ffff00"/>
                </a:solidFill>
                <a:latin typeface="Arial"/>
              </a:rPr>
              <a:t>(التصريف الأول للفعل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 algn="r" rtl="1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als have no infinitives or past participl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ليس للفعل الناقص مصدر أو تصريف ثالث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Modal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فعال الناقصة</a:t>
            </a: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384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7" name=""/>
          <p:cNvSpPr/>
          <p:nvPr/>
        </p:nvSpPr>
        <p:spPr>
          <a:xfrm>
            <a:off x="1066680" y="1905120"/>
            <a:ext cx="7696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 algn="ctr" rtl="1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8" name=""/>
          <p:cNvGraphicFramePr/>
          <p:nvPr/>
        </p:nvGraphicFramePr>
        <p:xfrm>
          <a:off x="1066680" y="1905120"/>
          <a:ext cx="7543800" cy="4279680"/>
        </p:xfrm>
        <a:graphic>
          <a:graphicData uri="http://schemas.openxmlformats.org/drawingml/2006/table">
            <a:tbl>
              <a:tblPr/>
              <a:tblGrid>
                <a:gridCol w="1524240"/>
                <a:gridCol w="2971800"/>
                <a:gridCol w="3047760"/>
              </a:tblGrid>
              <a:tr h="79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dals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أفعال الناقص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presses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تعبر عن: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amp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ثا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h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mi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وع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</a:t>
                      </a: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hall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take a rewar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termin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تصمي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does not want to obey me: but he </a:t>
                      </a: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hall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re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تهد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</a:t>
                      </a: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hall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be punished if you come lat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hou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u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واج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</a:t>
                      </a: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houl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obey your teachers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vice or opin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نصيحة أو الرأي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</a:t>
                      </a: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houl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stop smoking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i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simple future tens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صيغة المستقبل البسي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</a:t>
                      </a: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ill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isit us tomorrow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3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termination or promi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تصميم أو الوع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</a:t>
                      </a: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ill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travel when I lik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 </a:t>
                      </a: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ill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do as you wish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9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Modal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فعال الناقصة</a:t>
            </a: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393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6" name=""/>
          <p:cNvSpPr/>
          <p:nvPr/>
        </p:nvSpPr>
        <p:spPr>
          <a:xfrm>
            <a:off x="1066680" y="1905120"/>
            <a:ext cx="7696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 algn="ctr" rtl="1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7" name=""/>
          <p:cNvGraphicFramePr/>
          <p:nvPr/>
        </p:nvGraphicFramePr>
        <p:xfrm>
          <a:off x="1136520" y="2100240"/>
          <a:ext cx="7473960" cy="3975120"/>
        </p:xfrm>
        <a:graphic>
          <a:graphicData uri="http://schemas.openxmlformats.org/drawingml/2006/table">
            <a:tbl>
              <a:tblPr/>
              <a:tblGrid>
                <a:gridCol w="1586160"/>
                <a:gridCol w="2868480"/>
                <a:gridCol w="3019320"/>
              </a:tblGrid>
              <a:tr h="79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dals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أفعال الناقص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presses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تعبر عن: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amp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ثا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igh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sibi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إمكاني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hoped that I </a:t>
                      </a: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igh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succee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thought that the weather</a:t>
                      </a: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migh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 chan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an, am/is/are able 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bi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مقدر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</a:t>
                      </a: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an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 it carefully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</a:t>
                      </a: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s able to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solve the problem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hall be able, will be a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bility in the futu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مقدرة على المستقب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</a:t>
                      </a: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hall be abl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to help you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17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ul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st, present or future possibi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إمكانية في الماضي/ المضارع / المستقب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had </a:t>
                      </a: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ul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drive his car a year ago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i is not in class today. He </a:t>
                      </a: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ul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be sick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 not leave now. It </a:t>
                      </a: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ul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rain now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u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cess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ضرور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</a:t>
                      </a: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mus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listen to your teachers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had 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past form of must :past necess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ضرورة في الماضي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isal could not come to our dinner party.  </a:t>
                      </a: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He ha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to stay home to study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8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Modal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فعال الناقصة</a:t>
            </a: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1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402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5" name=""/>
          <p:cNvSpPr/>
          <p:nvPr/>
        </p:nvSpPr>
        <p:spPr>
          <a:xfrm>
            <a:off x="1066680" y="1905120"/>
            <a:ext cx="7696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 algn="ctr" rtl="1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6" name=""/>
          <p:cNvGraphicFramePr/>
          <p:nvPr/>
        </p:nvGraphicFramePr>
        <p:xfrm>
          <a:off x="1066680" y="1905120"/>
          <a:ext cx="7543440" cy="2109240"/>
        </p:xfrm>
        <a:graphic>
          <a:graphicData uri="http://schemas.openxmlformats.org/drawingml/2006/table">
            <a:tbl>
              <a:tblPr/>
              <a:tblGrid>
                <a:gridCol w="1600920"/>
                <a:gridCol w="2895120"/>
                <a:gridCol w="3047400"/>
              </a:tblGrid>
              <a:tr h="70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dals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أفعال الناقص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presses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تعبر عن: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amp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ثا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ught 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v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نصيح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</a:t>
                      </a: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ught to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help the poor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8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ught to ha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ons that were advisable in the pa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أحداث كان من المستحسن عملها في الماضي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</a:t>
                      </a: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ught to have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ie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did not. That was a mistak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7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Modal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فعال الناقصة</a:t>
            </a: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410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3" name=""/>
          <p:cNvSpPr/>
          <p:nvPr/>
        </p:nvSpPr>
        <p:spPr>
          <a:xfrm>
            <a:off x="1066680" y="1905120"/>
            <a:ext cx="7696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 algn="ctr" rtl="1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4" name=""/>
          <p:cNvGraphicFramePr/>
          <p:nvPr/>
        </p:nvGraphicFramePr>
        <p:xfrm>
          <a:off x="623880" y="1600200"/>
          <a:ext cx="7980120" cy="4026960"/>
        </p:xfrm>
        <a:graphic>
          <a:graphicData uri="http://schemas.openxmlformats.org/drawingml/2006/table">
            <a:tbl>
              <a:tblPr/>
              <a:tblGrid>
                <a:gridCol w="1578960"/>
                <a:gridCol w="1496520"/>
                <a:gridCol w="1579320"/>
                <a:gridCol w="1579680"/>
                <a:gridCol w="1745640"/>
              </a:tblGrid>
              <a:tr h="6444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ffirmat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إثبات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Negat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نفي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Ques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إثبات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Short Answ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إجابات مختصر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ffirmat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Negat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houl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eat now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hould no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eat now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houl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they eat now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, they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houl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, they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hould no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ill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leav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ill no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leav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ill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he leav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, he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ill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, he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ill no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oul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succee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ould no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succee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oul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he leav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, he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oul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, he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ould no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igh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succee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ight no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succee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igh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I succee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ay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sleep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ay no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sleep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ay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I sleep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5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Modal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فعال الناقصة</a:t>
            </a: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17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>
            <a:hlinkClick r:id="" action="ppaction://hlinkshowjump?jump=previousslide"/>
          </p:cNvPr>
          <p:cNvSpPr/>
          <p:nvPr/>
        </p:nvSpPr>
        <p:spPr>
          <a:xfrm>
            <a:off x="3657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ساب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066680" y="1905120"/>
            <a:ext cx="7696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 algn="ctr" rtl="1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23880" y="1600200"/>
          <a:ext cx="7980120" cy="4144680"/>
        </p:xfrm>
        <a:graphic>
          <a:graphicData uri="http://schemas.openxmlformats.org/drawingml/2006/table">
            <a:tbl>
              <a:tblPr/>
              <a:tblGrid>
                <a:gridCol w="1578960"/>
                <a:gridCol w="1496520"/>
                <a:gridCol w="1579320"/>
                <a:gridCol w="1579680"/>
                <a:gridCol w="1745640"/>
              </a:tblGrid>
              <a:tr h="6458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ffirmat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إثبات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Negat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نفي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Ques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إثبات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Short Answ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إجابات مختصر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ffirmat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Negat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an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do i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an no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do i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an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I do i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, you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an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, you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an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o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ul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talk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ul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o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talk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ul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he talk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, he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ul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, he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ul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o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ul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have a test tomorrow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uld no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have a test tomorrow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ul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we have a test tomorrow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, you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ul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, he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uld no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us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go now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ust no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go now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us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you go now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, I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us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, I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ust no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ught to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help  them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ught not to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help  them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ugh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you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o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help  them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, I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ugh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o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, I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ught no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  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43000" y="2895480"/>
            <a:ext cx="76960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ffff"/>
                </a:solidFill>
                <a:uFillTx/>
                <a:latin typeface="Arial"/>
              </a:rPr>
              <a:t>أمثلــــــــــــــــــــــ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am reading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a story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t the mome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are watch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elevision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ow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ook!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e bus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is coming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59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1905120" y="2057400"/>
            <a:ext cx="579096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Present Continuous Tense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ضارع المستم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1066320" y="1980720"/>
            <a:ext cx="7696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1371600" y="3429000"/>
          <a:ext cx="7467480" cy="2666880"/>
        </p:xfrm>
        <a:graphic>
          <a:graphicData uri="http://schemas.openxmlformats.org/drawingml/2006/table">
            <a:tbl>
              <a:tblPr/>
              <a:tblGrid>
                <a:gridCol w="1905120"/>
                <a:gridCol w="1828800"/>
                <a:gridCol w="1866960"/>
                <a:gridCol w="186660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ke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يحب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ve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يحب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nt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يريد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fer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يفضل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sh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يتمنى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te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يكره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like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يكره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el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يشعر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pe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يأمل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ar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يسمع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ink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يعتقد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em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يبدو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pear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يظهر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ar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يخشى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sider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يعتبر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it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يناسب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lieve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يصدق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ust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يثق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nderstand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يفهم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66" name=""/>
          <p:cNvSpPr/>
          <p:nvPr/>
        </p:nvSpPr>
        <p:spPr>
          <a:xfrm>
            <a:off x="1219320" y="274320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Tahoma"/>
              </a:rPr>
              <a:t>بعض الأفعال لا يمكن أن تقع في الاستمرار سواء المضارع المستمر أو الماضي المستمر  وهذه الأفعال تعبر عن الشعور والأذى والإحساس ومن هذه الأفعال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68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905120" y="2057400"/>
            <a:ext cx="579096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Present Continuous Tense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ضارع المستم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</a:t>
            </a:r>
            <a:r>
              <a:rPr b="0" lang="ar-SA" sz="4400" spc="-1" strike="noStrike">
                <a:solidFill>
                  <a:srgbClr val="b2b2b2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3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  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90360" y="2895480"/>
            <a:ext cx="78483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0000"/>
          </a:bodyPr>
          <a:p>
            <a:pPr marL="17136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Arial"/>
              </a:rPr>
              <a:t>يستخدم هذا الزمن للتعبير عن فعل وقع في الماضي  أثناء وقوع فعل أخر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7136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Arial"/>
              </a:rPr>
              <a:t>يتكون هذا الزمن من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7136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7136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Arial"/>
              </a:rPr>
              <a:t>يأتي هذا الزمن عادة مع كلمات مثل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7136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7136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7136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7136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Arial"/>
              </a:rPr>
              <a:t>ملحوظة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7136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Arial"/>
              </a:rPr>
              <a:t>هذا الزمن عادة ما يأتي معه زمن الماضي البسيط و الذي تخلل الماضي المستمر أي الذي وقع أثناء حدوثه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7136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7136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1219320" y="4267080"/>
          <a:ext cx="7619760" cy="700200"/>
        </p:xfrm>
        <a:graphic>
          <a:graphicData uri="http://schemas.openxmlformats.org/drawingml/2006/table">
            <a:tbl>
              <a:tblPr/>
              <a:tblGrid>
                <a:gridCol w="2286000"/>
                <a:gridCol w="1757160"/>
                <a:gridCol w="1787760"/>
                <a:gridCol w="17888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hen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عندما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hile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بينما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s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حيث أن 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because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أن 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7" name=""/>
          <p:cNvSpPr/>
          <p:nvPr/>
        </p:nvSpPr>
        <p:spPr>
          <a:xfrm>
            <a:off x="2590920" y="2057400"/>
            <a:ext cx="495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. Present Continuous Tense                   </a:t>
            </a:r>
            <a:r>
              <a:rPr b="0" lang="ar-SA" sz="20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2000" spc="-1" strike="noStrike">
                <a:solidFill>
                  <a:srgbClr val="000066"/>
                </a:solidFill>
                <a:latin typeface="Tahoma"/>
              </a:rPr>
              <a:t>المضارع المستمر</a:t>
            </a:r>
            <a:r>
              <a:rPr b="0" lang="ar-SA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          </a:t>
            </a:r>
            <a:r>
              <a:rPr b="0" lang="ar-SA" sz="1800" spc="-1" strike="noStrike">
                <a:solidFill>
                  <a:srgbClr val="000066"/>
                </a:solidFill>
                <a:latin typeface="Tahoma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477240" y="3276720"/>
            <a:ext cx="28357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was / were </a:t>
            </a:r>
            <a:r>
              <a:rPr b="0" lang="ar-SA" sz="2000" spc="-1" strike="noStrike">
                <a:solidFill>
                  <a:srgbClr val="cc3300"/>
                </a:solidFill>
                <a:latin typeface="Tahoma"/>
              </a:rPr>
              <a:t>فعل</a:t>
            </a:r>
            <a:r>
              <a:rPr b="0" lang="ar-SA" sz="2000" spc="-1" strike="noStrike">
                <a:solidFill>
                  <a:srgbClr val="cc3300"/>
                </a:solidFill>
                <a:latin typeface="Tahoma"/>
              </a:rPr>
              <a:t>+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 + 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80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1905120" y="2057400"/>
            <a:ext cx="579096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Past Continuous Tense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اضي المستم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  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43000" y="2895480"/>
            <a:ext cx="76960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17320" indent="0" algn="ctr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ffff"/>
                </a:solidFill>
                <a:uFillTx/>
                <a:latin typeface="Arial"/>
              </a:rPr>
              <a:t>أمثلــــــــــــــــــــــ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732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l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2000" spc="-1" strike="noStrike" u="sng">
                <a:solidFill>
                  <a:srgbClr val="cc3300"/>
                </a:solidFill>
                <a:uFillTx/>
                <a:latin typeface="Arial"/>
              </a:rPr>
              <a:t>was sleeping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 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thief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cc3300"/>
                </a:solidFill>
                <a:uFillTx/>
                <a:latin typeface="Arial"/>
              </a:rPr>
              <a:t>entered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y roo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1732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1732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(بينما كنت نائماً ، دخل لص غرفتي)  هذه الجملة تحتوي على حدثين أحدهما ماضي مستمر وهو النوم والآخر دخول اللص الغرفة الذي حصل أثناء النوم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1732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e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e </a:t>
            </a:r>
            <a:r>
              <a:rPr b="0" lang="en-US" sz="2000" spc="-1" strike="noStrike" u="sng">
                <a:solidFill>
                  <a:srgbClr val="cc3300"/>
                </a:solidFill>
                <a:uFillTx/>
                <a:latin typeface="Arial"/>
              </a:rPr>
              <a:t>were eatin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,  my father </a:t>
            </a:r>
            <a:r>
              <a:rPr b="0" lang="en-US" sz="2000" spc="-1" strike="noStrike" u="sng">
                <a:solidFill>
                  <a:srgbClr val="cc3300"/>
                </a:solidFill>
                <a:uFillTx/>
                <a:latin typeface="Arial"/>
              </a:rPr>
              <a:t>came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1732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1732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( بينما كنا نأكل ، جاء والدي) هذه الجملة تحتوي على حدثين أحدهما ماضي مستمر وهو الأكل والآخر مجيء والدي الذي حصل أثناء الأكل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1732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981080" y="3657600"/>
            <a:ext cx="175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400" spc="-1" strike="noStrike">
                <a:solidFill>
                  <a:srgbClr val="ffffff"/>
                </a:solidFill>
                <a:latin typeface="Tahoma"/>
              </a:rPr>
              <a:t>ماضي مستم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343400" y="358128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-1" strike="noStrike">
                <a:solidFill>
                  <a:srgbClr val="ffffff"/>
                </a:solidFill>
                <a:latin typeface="Tahoma"/>
              </a:rPr>
              <a:t>ماضي بسي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981080" y="5029200"/>
            <a:ext cx="19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-1" strike="noStrike">
                <a:solidFill>
                  <a:srgbClr val="ffffff"/>
                </a:solidFill>
                <a:latin typeface="Tahoma"/>
              </a:rPr>
              <a:t>ماضي مستم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648320" y="5029200"/>
            <a:ext cx="144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-1" strike="noStrike">
                <a:solidFill>
                  <a:srgbClr val="ffffff"/>
                </a:solidFill>
                <a:latin typeface="Tahoma"/>
              </a:rPr>
              <a:t>ماضي بسي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93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1905120" y="2057400"/>
            <a:ext cx="579096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Past Continuous Tense   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اضي المستم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  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2895480"/>
            <a:ext cx="76960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ffff"/>
                </a:solidFill>
                <a:uFillTx/>
                <a:latin typeface="Arial"/>
              </a:rPr>
              <a:t>أمثلــــــــــــــــــــــ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ملاحظة: يمكن وضع أداة الربط وسط الجملة دون أن يتغير المعنى فتصبح الجملتان السابقة كما يلي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thief  </a:t>
            </a:r>
            <a:r>
              <a:rPr b="0" lang="en-US" sz="2000" spc="-1" strike="noStrike" u="sng">
                <a:solidFill>
                  <a:srgbClr val="cc3300"/>
                </a:solidFill>
                <a:uFillTx/>
                <a:latin typeface="Arial"/>
              </a:rPr>
              <a:t>entered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my room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l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2000" spc="-1" strike="noStrike" u="sng">
                <a:solidFill>
                  <a:srgbClr val="cc3300"/>
                </a:solidFill>
                <a:uFillTx/>
                <a:latin typeface="Arial"/>
              </a:rPr>
              <a:t>was sleeping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دخل لص غرفتي بينما كنت نائماً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y father </a:t>
            </a:r>
            <a:r>
              <a:rPr b="0" lang="en-US" sz="2000" spc="-1" strike="noStrike" u="sng">
                <a:solidFill>
                  <a:srgbClr val="cc3300"/>
                </a:solidFill>
                <a:uFillTx/>
                <a:latin typeface="Arial"/>
              </a:rPr>
              <a:t>came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e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e </a:t>
            </a:r>
            <a:r>
              <a:rPr b="0" lang="en-US" sz="2000" spc="-1" strike="noStrike" u="sng">
                <a:solidFill>
                  <a:srgbClr val="cc3300"/>
                </a:solidFill>
                <a:uFillTx/>
                <a:latin typeface="Arial"/>
              </a:rPr>
              <a:t>were eatin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جاء والدي بينما كنا نأكل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876920" y="449568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400" spc="-1" strike="noStrike">
                <a:solidFill>
                  <a:srgbClr val="ffffff"/>
                </a:solidFill>
                <a:latin typeface="Tahoma"/>
              </a:rPr>
              <a:t>ماضي مستم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676520" y="4495680"/>
            <a:ext cx="17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400" spc="-1" strike="noStrike">
                <a:solidFill>
                  <a:srgbClr val="ffffff"/>
                </a:solidFill>
                <a:latin typeface="Tahoma"/>
              </a:rPr>
              <a:t>ماضي بسي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905120" y="56386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400" spc="-1" strike="noStrike">
                <a:solidFill>
                  <a:srgbClr val="ffffff"/>
                </a:solidFill>
                <a:latin typeface="Tahoma"/>
              </a:rPr>
              <a:t>ماضي بسي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05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"/>
          <p:cNvSpPr/>
          <p:nvPr/>
        </p:nvSpPr>
        <p:spPr>
          <a:xfrm>
            <a:off x="3886200" y="5715000"/>
            <a:ext cx="19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400" spc="-1" strike="noStrike">
                <a:solidFill>
                  <a:srgbClr val="ffffff"/>
                </a:solidFill>
                <a:latin typeface="Tahoma"/>
              </a:rPr>
              <a:t>ماضي مستم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905120" y="2057400"/>
            <a:ext cx="579096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Past Continuous Tense   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اضي المستم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  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219320" y="2895480"/>
            <a:ext cx="76960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Arial"/>
              </a:rPr>
              <a:t>ملاحظة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Arial"/>
              </a:rPr>
              <a:t>تكتب الفاصلة إذا بدأت الجملة بكلمة        وتح</a:t>
            </a:r>
            <a:r>
              <a:rPr b="0" lang="hi-IN" sz="2800" spc="-1" strike="noStrike">
                <a:solidFill>
                  <a:srgbClr val="ffffff"/>
                </a:solidFill>
                <a:latin typeface="Arial"/>
                <a:cs typeface="Tahoma"/>
              </a:rPr>
              <a:t>ذف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إذا وقعت في منتصف الجملة الأولى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Arial"/>
              </a:rPr>
              <a:t>تذكر دائماً أن قاعدة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ahoma"/>
              </a:rPr>
              <a:t> </a:t>
            </a:r>
            <a:r>
              <a:rPr b="0" lang="hi-IN" sz="2800" spc="-1" strike="noStrike">
                <a:solidFill>
                  <a:srgbClr val="ffffff"/>
                </a:solidFill>
                <a:latin typeface="Arial"/>
              </a:rPr>
              <a:t>بها فعلان الأول طويل مستمر و الآخر مفاجئ وهو ماضي بسيط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286000" y="5334120"/>
            <a:ext cx="15238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16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2666880" y="34290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wh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181480" y="441972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wh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905120" y="2057400"/>
            <a:ext cx="579096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Past Continuous Tense   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اضي المستم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  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066680" y="28954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يستخدم هذا الزمن للتعبير عن شيء متوقع حدوثه في المستقبل ويستمر لفترة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يتكون هذا الزمن من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يأتي هذا الزمن عادة مع كلمات مثل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590920" y="2057400"/>
            <a:ext cx="495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. Present Continuous Tense                   </a:t>
            </a:r>
            <a:r>
              <a:rPr b="0" lang="ar-SA" sz="20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2000" spc="-1" strike="noStrike">
                <a:solidFill>
                  <a:srgbClr val="000066"/>
                </a:solidFill>
                <a:latin typeface="Tahoma"/>
              </a:rPr>
              <a:t>المضارع المستمر</a:t>
            </a:r>
            <a:r>
              <a:rPr b="0" lang="ar-SA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          </a:t>
            </a:r>
            <a:r>
              <a:rPr b="0" lang="ar-SA" sz="1800" spc="-1" strike="noStrike">
                <a:solidFill>
                  <a:srgbClr val="000066"/>
                </a:solidFill>
                <a:latin typeface="Tahoma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205440" y="3429000"/>
            <a:ext cx="2944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( will + be </a:t>
            </a:r>
            <a:r>
              <a:rPr b="0" lang="ar-SA" sz="2000" spc="-1" strike="noStrike">
                <a:solidFill>
                  <a:srgbClr val="cc3300"/>
                </a:solidFill>
                <a:latin typeface="Tahoma"/>
              </a:rPr>
              <a:t>فعل</a:t>
            </a:r>
            <a:r>
              <a:rPr b="0" lang="ar-SA" sz="2000" spc="-1" strike="noStrike">
                <a:solidFill>
                  <a:srgbClr val="cc3300"/>
                </a:solidFill>
                <a:latin typeface="Tahoma"/>
              </a:rPr>
              <a:t>+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ar-SA" sz="2000" spc="-1" strike="noStrike">
                <a:solidFill>
                  <a:srgbClr val="cc3300"/>
                </a:solidFill>
                <a:latin typeface="Tahoma"/>
              </a:rPr>
              <a:t>+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 ing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28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31" name=""/>
          <p:cNvGraphicFramePr/>
          <p:nvPr/>
        </p:nvGraphicFramePr>
        <p:xfrm>
          <a:off x="1981080" y="4495680"/>
          <a:ext cx="6743880" cy="1400040"/>
        </p:xfrm>
        <a:graphic>
          <a:graphicData uri="http://schemas.openxmlformats.org/drawingml/2006/table">
            <a:tbl>
              <a:tblPr/>
              <a:tblGrid>
                <a:gridCol w="3048120"/>
                <a:gridCol w="1828800"/>
                <a:gridCol w="1866960"/>
              </a:tblGrid>
              <a:tr h="69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t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عند للزمن    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by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بحلول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n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في غضون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from…to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ن..إلى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ll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كل ،جميع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fter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بعد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2" name=""/>
          <p:cNvSpPr/>
          <p:nvPr/>
        </p:nvSpPr>
        <p:spPr>
          <a:xfrm>
            <a:off x="1905120" y="2057400"/>
            <a:ext cx="579096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Future Continuous Tense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ستقبل المستم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3T00:16:43Z</dcterms:created>
  <dc:creator>user</dc:creator>
  <dc:description/>
  <dc:language>en-US</dc:language>
  <cp:lastModifiedBy>user</cp:lastModifiedBy>
  <dcterms:modified xsi:type="dcterms:W3CDTF">2007-07-13T00:16:43Z</dcterms:modified>
  <cp:revision>1</cp:revision>
  <dc:subject/>
  <dc:title>الشريحة 1</dc:title>
</cp:coreProperties>
</file>