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72C8C-003F-47F0-98E8-947677BD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BF2F-6BB1-471A-8C0D-FE0B45045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20F-2C9B-48A3-8FE6-58A654E0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57255-4810-4FF8-B37F-6F189FA88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E3675-D99C-4B90-9792-7C77C854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34701-2A5D-41BD-BACD-B570A286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6AB-4397-4FB9-A960-D2DBA518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7597-6C4C-4B35-9AC6-D0653DC4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2BF9A-DF70-493F-9687-4C0E141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4DD-FB1E-49F0-B124-B935017C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9B5A-418B-45AD-82F3-1D71BCDD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DC37-D69F-4676-8AA1-A43183934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0FE4-FEDE-4CD1-9BA4-96827935C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5317B-4FF5-450D-97DC-0A1C62FE9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3126-E9C4-44AA-83ED-74F83D46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CFB37-D7B3-4727-B8FE-49C932A78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F1BEE-97AD-4A2B-A3DA-6CAE91631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F31F9-9F7C-40D4-9A91-0C85C1D9A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C1BF-F6C7-48AA-8C5A-527728E01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D254E-FA2E-4EBF-A82E-890DC4007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57B71-8E9E-4ED7-87C0-1BBA6562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E731B-41DB-4363-832D-A57C20F1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C1A-29A8-4579-AE30-28F8FE3C6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F05E9-A35F-46CB-B30E-8DD7CF564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70329-8BB2-4B46-BBCE-CA9DE4840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F1A5E-836B-476F-9A5F-BE97EE8E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26B3B-6066-40E6-80EB-0A3237BF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F7F79-38C6-436E-8427-2681C85A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3F610C-3E99-4CA0-9108-47F8C7084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BD4DB-3A46-48B0-90BC-BDD92831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D140-33D2-4375-A0EB-D9DFC1DC8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F30B-DD3D-4811-A7EB-00DD83EEE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EE88-243E-4D83-82E9-C5024ED56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723-0E7C-4639-9CE8-4B9FEEFAF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C936-3F6A-4E23-A33D-98E2EA8A3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BEA3-782E-4F3D-AD11-B53B5583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1EE8-2B90-4306-96CF-CD5065FA8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39C3-3F44-44DC-8E72-AE6CB4145D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7EB0-7774-400B-8E41-EBD46C8EA35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7.30 tomorrow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fly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to Cai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be wait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you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5 o'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43000" y="2819160"/>
            <a:ext cx="76960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في الماضي و انتهى قبل لحظات أو انتهى في الماضي و لازالت آثاره موجودة حتى الآن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45360" y="3505320"/>
            <a:ext cx="4039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4" name=""/>
          <p:cNvGraphicFramePr/>
          <p:nvPr/>
        </p:nvGraphicFramePr>
        <p:xfrm>
          <a:off x="1981080" y="4495680"/>
          <a:ext cx="6743880" cy="1368720"/>
        </p:xfrm>
        <a:graphic>
          <a:graphicData uri="http://schemas.openxmlformats.org/drawingml/2006/table">
            <a:tbl>
              <a:tblPr/>
              <a:tblGrid>
                <a:gridCol w="2362320"/>
                <a:gridCol w="2209680"/>
                <a:gridCol w="2171880"/>
              </a:tblGrid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j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تو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6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ب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ecentl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ديثاً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read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ماماً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5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liv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Riyadh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not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m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995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hmed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already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finished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his home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writ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ree letters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jus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6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7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Tense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94920" y="2666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from some definite point or period n the past up to now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منذ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اعتباراً من نقطة أو فترة محددة في الماضي و حتى الآن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eans “a definite period of tim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تعني كلمة ”</a:t>
            </a:r>
            <a:r>
              <a:rPr b="1" lang="ar-SA" sz="1400" spc="-1" strike="noStrike">
                <a:solidFill>
                  <a:srgbClr val="ffff00"/>
                </a:solidFill>
                <a:latin typeface="Arial"/>
              </a:rPr>
              <a:t>لمدة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“ على فترة زمنية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73" name=""/>
          <p:cNvGraphicFramePr/>
          <p:nvPr/>
        </p:nvGraphicFramePr>
        <p:xfrm>
          <a:off x="2577960" y="3867120"/>
          <a:ext cx="4849920" cy="2211480"/>
        </p:xfrm>
        <a:graphic>
          <a:graphicData uri="http://schemas.openxmlformats.org/drawingml/2006/table">
            <a:tbl>
              <a:tblPr/>
              <a:tblGrid>
                <a:gridCol w="2349720"/>
                <a:gridCol w="250020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لمدة     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’clo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mo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u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terd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 h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nigh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y hou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week/ last month/ las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ys/ 5 weeks / 4 month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st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a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came</a:t>
                      </a: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 centur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4" name=""/>
          <p:cNvSpPr/>
          <p:nvPr/>
        </p:nvSpPr>
        <p:spPr>
          <a:xfrm>
            <a:off x="3886200" y="2057400"/>
            <a:ext cx="1828800" cy="457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nce &amp;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حصل و انتهى في لحظة ما في زمن الماضي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126240" y="3429000"/>
            <a:ext cx="32760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d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87" name=""/>
          <p:cNvGraphicFramePr/>
          <p:nvPr/>
        </p:nvGraphicFramePr>
        <p:xfrm>
          <a:off x="2119320" y="4703760"/>
          <a:ext cx="5070240" cy="1409400"/>
        </p:xfrm>
        <a:graphic>
          <a:graphicData uri="http://schemas.openxmlformats.org/drawingml/2006/table">
            <a:tbl>
              <a:tblPr/>
              <a:tblGrid>
                <a:gridCol w="2576880"/>
                <a:gridCol w="249336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fo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c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حتى الآن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 soon as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أبد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1219320" y="5257800"/>
            <a:ext cx="7696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wash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befor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pray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hom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ft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finished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 their wor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ea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cak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-45324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s soon a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had bough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 car, the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ov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Makka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5324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لاحظ أن هذا الزمن غالباً ما يأتي معه زمن الماضي البسيط الذي حدث 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بعد</a:t>
            </a:r>
            <a:r>
              <a:rPr b="0" lang="ar-SA" sz="2000" spc="-1" strike="noStrike">
                <a:solidFill>
                  <a:srgbClr val="000000"/>
                </a:solidFill>
                <a:latin typeface="Arial"/>
              </a:rPr>
              <a:t> انتهاء الماضي التا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9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8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Perfect Tense 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و انتهاؤه في زمن ما في المستقب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536200" y="3429000"/>
            <a:ext cx="40654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ill + hav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التصريف الثالث لل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0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1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.00 this afternoon, I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finis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my wor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10.00 tonight, 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 have written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five letters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9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Perfect Tense      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جزء منه و تم في الماضي و لكنه مستمر حتى الآن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69680" y="3429000"/>
            <a:ext cx="36525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has / have + been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553080" y="34290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2200" y="34290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34" name=""/>
          <p:cNvGraphicFramePr/>
          <p:nvPr/>
        </p:nvGraphicFramePr>
        <p:xfrm>
          <a:off x="2119320" y="4703760"/>
          <a:ext cx="5070240" cy="585360"/>
        </p:xfrm>
        <a:graphic>
          <a:graphicData uri="http://schemas.openxmlformats.org/drawingml/2006/table">
            <a:tbl>
              <a:tblPr/>
              <a:tblGrid>
                <a:gridCol w="2576520"/>
                <a:gridCol w="2493720"/>
              </a:tblGrid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o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دة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inc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ذ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5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ve been study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glish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x 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has been sleeping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inc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2 o’clock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1932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5000"/>
          </a:bodyPr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يقع الآن فقط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                     am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, she, it                        is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                       are + verb + 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28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1905120" y="4952880"/>
          <a:ext cx="6933960" cy="1113120"/>
        </p:xfrm>
        <a:graphic>
          <a:graphicData uri="http://schemas.openxmlformats.org/drawingml/2006/table">
            <a:tbl>
              <a:tblPr/>
              <a:tblGrid>
                <a:gridCol w="2057400"/>
                <a:gridCol w="3504960"/>
                <a:gridCol w="1371600"/>
              </a:tblGrid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w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آ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moment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في هذه اللحظة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ok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نظر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sten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ستمع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 the present time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وقت الحاضر                                         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43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9440" y="3125880"/>
            <a:ext cx="31161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am / is / are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38098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4114800"/>
            <a:ext cx="14479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4495680"/>
            <a:ext cx="1295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62520" y="54100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كي نفرق بين المضارع التام المستمر و المضارع التام                        :  لاحظ الأمثلة التالي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ha started making cakes three hours ago. There are now one hundred cakes on the tab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ن هذه الجملتين نكوّن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Continuous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مستمر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been making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ree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esent Perfect Tens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  المضارع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ar-SA" sz="1200" spc="-1" strike="noStrike">
                <a:solidFill>
                  <a:srgbClr val="ffffff"/>
                </a:solidFill>
                <a:latin typeface="Arial"/>
              </a:rPr>
              <a:t>التا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has ma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100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ke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219320" y="2057400"/>
            <a:ext cx="72388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Perfect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مر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المضارع التا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295280" y="289548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resent Per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066320" y="2133360"/>
            <a:ext cx="769644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mperat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verbs used at the beginning of sentences either in  the affirmative or negative to indicate instructions, invitations, signs and notices or telling someone what to d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صيغة الأمر هي أفعال تستخدم في بداية الجمل أما تكون في الإثبات لتعبر عن التعليمات، الدعوى، الإشارات و الملاحظات أو إخبار شخص ماذا ي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Imperatives uses the simple form of the verb such as: walk, read, open,….et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خدم صيغة الأمر الصيغة البسيطة للفعل أي التصريف الأول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6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Instruction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عليم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Mix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flour and the suga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Take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wo tablets every four hour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Invitation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صيغة الدعوى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Come in; mak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selves at ho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tart; do not wai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for m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ell someone what to d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إخبار شخص ما سيفعله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r boo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 not forget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to post the lette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ar-SA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eg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نفي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Imperativ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صيغة الأمر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Give Warnings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           إعطاء تحذيرات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ut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ng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Signs &amp; Notic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إشارات و ملاحظات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ush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Insert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2 X 50 S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Keep off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the grass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ake Request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تكوين الطلب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349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lease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open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do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ffirmativ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ثبات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1066320" y="2133720"/>
            <a:ext cx="76964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odal has only one form of the verb for all persons, but it can have several meanings and time frames, depending on the context in which it is us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فعل الناقص له صيغة واحدة مع جميع الأشخاص ولكن له عدة معاني و أشكال زمنية حسب المحتوى الذي تستخدم في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صيغة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hall, should, will would, may, might, can, could, must, ought t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lang="ar-SA" sz="2000" spc="-1" strike="noStrike">
                <a:solidFill>
                  <a:srgbClr val="ffff00"/>
                </a:solidFill>
                <a:latin typeface="Arial"/>
              </a:rPr>
              <a:t>(التصريف الأول للفعل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r" rtl="1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als have no infinitives or past particip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ليس للفعل الناقص مصدر أو تصريف ثالث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4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8" name=""/>
          <p:cNvGraphicFramePr/>
          <p:nvPr/>
        </p:nvGraphicFramePr>
        <p:xfrm>
          <a:off x="1066680" y="1905120"/>
          <a:ext cx="7543800" cy="4279680"/>
        </p:xfrm>
        <a:graphic>
          <a:graphicData uri="http://schemas.openxmlformats.org/drawingml/2006/table">
            <a:tbl>
              <a:tblPr/>
              <a:tblGrid>
                <a:gridCol w="1524240"/>
                <a:gridCol w="2971800"/>
                <a:gridCol w="304776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ke a rewar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صمي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does not want to obey me: but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rea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هد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punished if you come lat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واج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obey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 or opin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 أو الرأ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top smoking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simple future tens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صيغة المستقبل البسي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sit us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termination or promi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تصميم أو الوع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ravel when I li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as you wis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9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7" name=""/>
          <p:cNvGraphicFramePr/>
          <p:nvPr/>
        </p:nvGraphicFramePr>
        <p:xfrm>
          <a:off x="1136520" y="2100240"/>
          <a:ext cx="7473960" cy="3975120"/>
        </p:xfrm>
        <a:graphic>
          <a:graphicData uri="http://schemas.openxmlformats.org/drawingml/2006/table">
            <a:tbl>
              <a:tblPr/>
              <a:tblGrid>
                <a:gridCol w="1586160"/>
                <a:gridCol w="2868480"/>
                <a:gridCol w="3019320"/>
              </a:tblGrid>
              <a:tr h="79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hoped that 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thought that the weather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igh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 chang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, am/is/are able 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it carefull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s able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olve the probl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, will be 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bility in the futu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مقدرة على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all be abl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help you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st, present or future possibi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إمكانية في الماضي/ المضارع / المستقب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had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rive his car a year ag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i is not in class today. He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be sic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 not leave now. It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rain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isten to your teachers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d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 past form of must :past necess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ضرورة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isal could not come to our dinner party. 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e ha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stay home to stud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8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0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1066680" y="1905120"/>
          <a:ext cx="7543440" cy="2109240"/>
        </p:xfrm>
        <a:graphic>
          <a:graphicData uri="http://schemas.openxmlformats.org/drawingml/2006/table">
            <a:tbl>
              <a:tblPr/>
              <a:tblGrid>
                <a:gridCol w="1600920"/>
                <a:gridCol w="2895120"/>
                <a:gridCol w="3047400"/>
              </a:tblGrid>
              <a:tr h="70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als</a:t>
                      </a:r>
                      <a:br>
                        <a:rPr sz="1600"/>
                      </a:b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أفعال الناقص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presses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تعبر عن: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xamp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ا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v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النصيح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the poor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ons that were advisable in the pa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داث كان من المستحسن عملها في الماضي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1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 have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i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did not. That was a mistak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7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41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4" name=""/>
          <p:cNvGraphicFramePr/>
          <p:nvPr/>
        </p:nvGraphicFramePr>
        <p:xfrm>
          <a:off x="623880" y="1600200"/>
          <a:ext cx="7980120" cy="402696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hey eat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they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ill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leave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i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uccee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y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sleep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5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odal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فعال الناقص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1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066680" y="1905120"/>
            <a:ext cx="76964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23880" y="1600200"/>
          <a:ext cx="7980120" cy="4144680"/>
        </p:xfrm>
        <a:graphic>
          <a:graphicData uri="http://schemas.openxmlformats.org/drawingml/2006/table">
            <a:tbl>
              <a:tblPr/>
              <a:tblGrid>
                <a:gridCol w="1578960"/>
                <a:gridCol w="1496520"/>
                <a:gridCol w="1579320"/>
                <a:gridCol w="1579680"/>
                <a:gridCol w="1745640"/>
              </a:tblGrid>
              <a:tr h="645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نفي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Ques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ثبات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Short Answ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إجابات مختصر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ffirm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Negati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 do i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an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 talk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e have a test tomorr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he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ould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go now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 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you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help  them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es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I </a:t>
                      </a:r>
                      <a:r>
                        <a:rPr b="0" lang="en-US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ught not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m reading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story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t the mom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watch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w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ok!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bus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s coming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371600" y="3429000"/>
          <a:ext cx="7467480" cy="2666880"/>
        </p:xfrm>
        <a:graphic>
          <a:graphicData uri="http://schemas.openxmlformats.org/drawingml/2006/table">
            <a:tbl>
              <a:tblPr/>
              <a:tblGrid>
                <a:gridCol w="1905120"/>
                <a:gridCol w="1828800"/>
                <a:gridCol w="1866960"/>
                <a:gridCol w="186660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حب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an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ري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f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ضل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ish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يتمن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t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lik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كره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el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شعر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p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أمل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سمع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nk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قد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em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بدو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p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ظه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ea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خشى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sider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عتبر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ناسب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iev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صدق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u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ثق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يفهم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66" name=""/>
          <p:cNvSpPr/>
          <p:nvPr/>
        </p:nvSpPr>
        <p:spPr>
          <a:xfrm>
            <a:off x="1219320" y="274320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بعض الأفعال لا يمكن أن تقع في الاستمرار سواء المضارع المستمر أو الماضي المستمر  وهذه الأفعال تعبر عن الشعور والأذى والإحساس ومن هذه الأفعال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Continuous Tense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360" y="289548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0000"/>
          </a:bodyPr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فعل وقع في الماضي  أثناء وقوع فعل أخر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ملحوظ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هذا الزمن عادة ما يأتي معه زمن الماضي البسيط و الذي تخلل الماضي المستمر أي الذي وقع أثناء حدوثه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7136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1219320" y="4267080"/>
          <a:ext cx="7619760" cy="700200"/>
        </p:xfrm>
        <a:graphic>
          <a:graphicData uri="http://schemas.openxmlformats.org/drawingml/2006/table">
            <a:tbl>
              <a:tblPr/>
              <a:tblGrid>
                <a:gridCol w="2286000"/>
                <a:gridCol w="1757160"/>
                <a:gridCol w="1787760"/>
                <a:gridCol w="17888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م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while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ينما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حيث أن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ecau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أن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7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477240" y="3276720"/>
            <a:ext cx="2835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was / wer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+ 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173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roo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بينما كنت نائماً ، دخل لص غرفتي)  هذه الجملة تحتوي على حدثين أحدهما ماضي مستمر وهو النوم والآخر دخول اللص الغرفة الذي حصل أثناء النوم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,  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( بينما كنا نأكل ، جاء والدي) هذه الجملة تحتوي على حدثين أحدهما ماضي مستمر وهو الأكل والآخر مجيء والدي الذي حصل أثناء الأكل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173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981080" y="3657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43400" y="3581280"/>
            <a:ext cx="152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981080" y="5029200"/>
            <a:ext cx="198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48320" y="502920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9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يمكن وضع أداة الربط وسط الجملة دون أن يتغير المعنى فتصبح الجملتان السابقة كما يلي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thief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entered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my room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i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as sleeping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دخل لص غرفتي بينما كنت نائما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y father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came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e </a:t>
            </a:r>
            <a:r>
              <a:rPr b="0" lang="en-US" sz="2000" spc="-1" strike="noStrike" u="sng">
                <a:solidFill>
                  <a:srgbClr val="cc3300"/>
                </a:solidFill>
                <a:uFillTx/>
                <a:latin typeface="Arial"/>
              </a:rPr>
              <a:t>were ea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جاء والدي بينما كنا نأكل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876920" y="4495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676520" y="4495680"/>
            <a:ext cx="17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905120" y="56386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بسي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0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3886200" y="5715000"/>
            <a:ext cx="19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400" spc="-1" strike="noStrike">
                <a:solidFill>
                  <a:srgbClr val="ffffff"/>
                </a:solidFill>
                <a:latin typeface="Tahoma"/>
              </a:rPr>
              <a:t>ماضي مستم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ملاحظة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كتب الفاصلة إذا بدأت الجملة بكلمة        وتح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  <a:cs typeface="Tahoma"/>
              </a:rPr>
              <a:t>ذف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إذا وقعت في منتصف الجملة الأولى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تذكر دائماً أن قاعدة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ahoma"/>
              </a:rPr>
              <a:t> </a:t>
            </a:r>
            <a:r>
              <a:rPr b="0" lang="hi-IN" sz="2800" spc="-1" strike="noStrike">
                <a:solidFill>
                  <a:srgbClr val="ffffff"/>
                </a:solidFill>
                <a:latin typeface="Arial"/>
              </a:rPr>
              <a:t>بها فعلان الأول طويل مستمر و الآخر مفاجئ وهو ماضي بسي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90920" y="2057400"/>
            <a:ext cx="495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0" y="533412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1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2666880" y="34290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181480" y="4419720"/>
            <a:ext cx="9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Continuous Tense     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6680" y="28954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شيء متوقع حدوثه في المستقبل ويستمر لفترة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Present Continuous Tense                   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ضارع المستمر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05440" y="3429000"/>
            <a:ext cx="2944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 will + be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فعل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ar-SA" sz="2000" spc="-1" strike="noStrike">
                <a:solidFill>
                  <a:srgbClr val="cc3300"/>
                </a:solidFill>
                <a:latin typeface="Tahoma"/>
              </a:rPr>
              <a:t>+</a:t>
            </a: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 ing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31" name=""/>
          <p:cNvGraphicFramePr/>
          <p:nvPr/>
        </p:nvGraphicFramePr>
        <p:xfrm>
          <a:off x="1981080" y="4495680"/>
          <a:ext cx="6743880" cy="1400040"/>
        </p:xfrm>
        <a:graphic>
          <a:graphicData uri="http://schemas.openxmlformats.org/drawingml/2006/table">
            <a:tbl>
              <a:tblPr/>
              <a:tblGrid>
                <a:gridCol w="3048120"/>
                <a:gridCol w="1828800"/>
                <a:gridCol w="1866960"/>
              </a:tblGrid>
              <a:tr h="69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ند للزمن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b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حلول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غضون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…to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..إلى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l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،جميع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t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بعد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2" name=""/>
          <p:cNvSpPr/>
          <p:nvPr/>
        </p:nvSpPr>
        <p:spPr>
          <a:xfrm>
            <a:off x="1905120" y="2057400"/>
            <a:ext cx="579096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Continuous Tense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مستم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43Z</dcterms:created>
  <dc:creator>user</dc:creator>
  <dc:description/>
  <dc:language>en-US</dc:language>
  <cp:lastModifiedBy>user</cp:lastModifiedBy>
  <dcterms:modified xsi:type="dcterms:W3CDTF">2007-07-13T00:16:43Z</dcterms:modified>
  <cp:revision>1</cp:revision>
  <dc:subject/>
  <dc:title>الشريحة 1</dc:title>
</cp:coreProperties>
</file>