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EAFC6-620F-405D-83DE-6D336C8A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EDAB-6EE6-4E9B-BC49-BACB295F5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2895-BEC5-45C7-BEE0-E9C06F1EC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89A8-81C1-4E28-B6A8-D71C99914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0BD7A-0CF9-470B-941B-3B95FC09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8A29-1C41-4C18-B956-28DFB9EC7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E0318-0BB0-41AF-8265-82CF7173B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AEBD-5260-4DD2-8967-3E1FF2A2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3BA52-7968-4D18-B907-3570CCEE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BBB2-D44A-4014-ADA9-691ED6CA7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1054C-F457-4612-9562-3355B156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013-7FB0-4066-81E4-540FD6C39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56DC2-9DDE-4C52-B51D-A95ECB16A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1225E-C9D3-4251-8C6B-54D6A37E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EE99D-5B38-4380-B8CE-CB2F98B52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32A0-26FD-4D33-B483-C8162F9C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82EE-D34C-440D-8F8F-9A5D2D9B6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A7A4C-46AA-4D32-9540-9B4EAA3A9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64B5F-1802-4A61-A931-0346957E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FBA5E-945B-4DF8-BD89-BA34A164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A6C35-372A-4786-9178-1A432E088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34239-6C26-4DD1-8023-701397688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02CC-BE77-40BD-B13F-1EE77173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1F319-96A4-47BA-8BEA-22AAE28D6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3981B-22F6-4748-9E40-2A26671E9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49A53-129B-407A-9101-CA0CB692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8F9B6-4B74-4904-8184-A63D7530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DF5C4-2FBB-44AA-B693-700F1E5ED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F1B74-228E-433A-A85F-C38A71F5D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E0AD8-7236-40B3-B8C2-B33647C63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25C-1149-4F6D-ACC3-843A73E85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FAFE-982C-45B6-AEEF-53E9FF3F4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4E1D-6F8C-4861-A4C5-09F6057F3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A6C5-1278-4B9E-A942-D1C5494E0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850-6E15-44D5-98A4-AA657080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1DA1-3E8B-41E3-B14E-661DB7C48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9643-3A67-45BF-A735-3D91DDF7B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B0B1A-453E-4BF2-AAC3-DFA324D2DDF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8060-15F4-4200-A545-4E4F8FB4A2A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7.30 tomorrow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fly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o Cai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wa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you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5 o'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في الماضي و انتهى قبل لحظات أو انتهى في الماضي و لازالت آثاره موجودة حتى الآ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45360" y="3505320"/>
            <a:ext cx="403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1981080" y="4495680"/>
          <a:ext cx="6743880" cy="1368720"/>
        </p:xfrm>
        <a:graphic>
          <a:graphicData uri="http://schemas.openxmlformats.org/drawingml/2006/table">
            <a:tbl>
              <a:tblPr/>
              <a:tblGrid>
                <a:gridCol w="2362320"/>
                <a:gridCol w="2209680"/>
                <a:gridCol w="2171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تو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centl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ثاً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read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ماماً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Riyadh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not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m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995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hme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lready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nish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s home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writ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letter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j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from some definite point or period n the past up to 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منذ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اعتباراً من نقطة أو فترة محددة في الماضي و حتى الآن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a definite period of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لمدة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على فترة زمني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2577960" y="3867120"/>
          <a:ext cx="4849920" cy="2211480"/>
        </p:xfrm>
        <a:graphic>
          <a:graphicData uri="http://schemas.openxmlformats.org/drawingml/2006/table">
            <a:tbl>
              <a:tblPr/>
              <a:tblGrid>
                <a:gridCol w="2349720"/>
                <a:gridCol w="2500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لمدة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’clo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mo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te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n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week/ last month/ las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/ 5 weeks / 4 mont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came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205740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nce &amp;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و انتهى في لحظة ما في زمن الماضي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6240" y="3429000"/>
            <a:ext cx="327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d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7" name=""/>
          <p:cNvGraphicFramePr/>
          <p:nvPr/>
        </p:nvGraphicFramePr>
        <p:xfrm>
          <a:off x="2119320" y="4703760"/>
          <a:ext cx="5070240" cy="14094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fo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c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 soon as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19320" y="5257800"/>
            <a:ext cx="7696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was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befo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ay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hom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finished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ir 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ea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cak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soon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car,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Makka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احظ أن هذا الزمن غالباً ما يأتي معه زمن الماضي البسيط الذي حدث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بعد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انتهاء الماضي الت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و انتهاؤه في زمن ما في المستقب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36200" y="3429000"/>
            <a:ext cx="406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ill +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.00 this afternoon, I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finis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y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0.00 tonight, 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writte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five letter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جزء منه و تم في الماضي و لكنه مستمر حتى الآ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69680" y="3429000"/>
            <a:ext cx="365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+ been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been study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glis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been sleep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2 o’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يقع الآن فقط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                     am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, she, it                        is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                       are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4952880"/>
          <a:ext cx="6933960" cy="1113120"/>
        </p:xfrm>
        <a:graphic>
          <a:graphicData uri="http://schemas.openxmlformats.org/drawingml/2006/table">
            <a:tbl>
              <a:tblPr/>
              <a:tblGrid>
                <a:gridCol w="2057400"/>
                <a:gridCol w="3504960"/>
                <a:gridCol w="13716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w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moment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في هذه اللحظة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ok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نظر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st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تم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present time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وقت الحاضر                                  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9440" y="3125880"/>
            <a:ext cx="311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m / is / are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1148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495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كي نفرق بين المضارع التام المستمر و المضارع التام                        :  لاحظ الأمثلة التال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ha started making cakes three hours ago. There are now one hundred cakes on the ta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ن هذه الجملتين نكوّن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Continuous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مستمر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been mak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ree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ma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1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964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mpera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verbs used at the beginning of sentences either in  the affirmative or negative to indicate instructions, invitations, signs and notices or telling someone what to 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صيغة الأمر هي أفعال تستخدم في بداية الجمل أما تكون في الإثبات لتعبر عن التعليمات، الدعوى، الإشارات و الملاحظات أو إخبار شخص ماذا ي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eratives uses the simple form of the verb such as: walk, read, open,….et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خدم صيغة الأمر الصيغة البسيطة للفعل أي التصريف الأول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6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Instruction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علي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i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lour and the sug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ake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wo tablets every four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Invitation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صيغة الدعوى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me in; mak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selves at ho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tart; do not wai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for m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ll someone what to d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إخبار شخص ما سيفعله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 not forget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post the lette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Warning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حذيرات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u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Signs &amp; Notic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إشارات و ملاحظات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ush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2 X 50 S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ff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e gras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Request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الطلب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o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odal has only one form of the verb for all persons, but it can have several meanings and time frames, depending on the context in which it is u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فعل الناقص له صيغة واحدة مع جميع الأشخاص ولكن له عدة معاني و أشكال زمنية حسب المحتوى الذي تستخدم في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صيغة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ll, should, will would, may, might, can, could, must, ought t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(التصريف الأول للفعل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als have no infinitives or past particip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س للفعل الناقص مصدر أو تصريف ثال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066680" y="1905120"/>
          <a:ext cx="7543800" cy="4279680"/>
        </p:xfrm>
        <a:graphic>
          <a:graphicData uri="http://schemas.openxmlformats.org/drawingml/2006/table">
            <a:tbl>
              <a:tblPr/>
              <a:tblGrid>
                <a:gridCol w="1524240"/>
                <a:gridCol w="2971800"/>
                <a:gridCol w="304776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ke a rewar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صم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does not want to obey me: but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punished if you come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وا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bey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 or opin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 أو الرأ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top smoking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imple future tens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يغة المستقبل البسي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 us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 or 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صميم أو ال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ravel when I li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as you wis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136520" y="2100240"/>
          <a:ext cx="7473960" cy="3975120"/>
        </p:xfrm>
        <a:graphic>
          <a:graphicData uri="http://schemas.openxmlformats.org/drawingml/2006/table">
            <a:tbl>
              <a:tblPr/>
              <a:tblGrid>
                <a:gridCol w="1586160"/>
                <a:gridCol w="2868480"/>
                <a:gridCol w="30193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oped that 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ought that the weather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ig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, am/is/are abl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it careful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 able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lve the probl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, will be 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 in the 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 على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help you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, present or future 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 في الماضي/ المضارع /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had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ive his car a year ag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is not in class today.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sic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not leave now. It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in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isten to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st form of must :past 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sal could not come to our dinner party. 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tay home to stud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0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066680" y="1905120"/>
          <a:ext cx="7543440" cy="2109240"/>
        </p:xfrm>
        <a:graphic>
          <a:graphicData uri="http://schemas.openxmlformats.org/drawingml/2006/table">
            <a:tbl>
              <a:tblPr/>
              <a:tblGrid>
                <a:gridCol w="1600920"/>
                <a:gridCol w="2895120"/>
                <a:gridCol w="304740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the poo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s that were advisable in the p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داث كان من المستحسن عملها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i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did not. That was a mista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23880" y="1600200"/>
          <a:ext cx="7980120" cy="402696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y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23880" y="1600200"/>
          <a:ext cx="7980120" cy="414468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5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m reading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stor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the mo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watc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ok!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us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 coming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371600" y="3429000"/>
          <a:ext cx="7467480" cy="2666880"/>
        </p:xfrm>
        <a:graphic>
          <a:graphicData uri="http://schemas.openxmlformats.org/drawingml/2006/table">
            <a:tbl>
              <a:tblPr/>
              <a:tblGrid>
                <a:gridCol w="1905120"/>
                <a:gridCol w="1828800"/>
                <a:gridCol w="1866960"/>
                <a:gridCol w="1866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ري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ضل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يتمن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t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شعر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p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أمل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سمع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ق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m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بدو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ظه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خش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d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ب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ناسب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صدق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ثق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هم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219320" y="2743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عض الأفعال لا يمكن أن تقع في الاستمرار سواء المضارع المستمر أو الماضي المستمر  وهذه الأفعال تعبر عن الشعور والأذى والإحساس ومن هذه الأفعا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89548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فعل وقع في الماضي  أثناء وقوع فعل أخ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ملحوظ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هذا الزمن عادة ما يأتي معه زمن الماضي البسيط و الذي تخلل الماضي المستمر أي الذي وقع أثناء حدوث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4267080"/>
          <a:ext cx="7619760" cy="700200"/>
        </p:xfrm>
        <a:graphic>
          <a:graphicData uri="http://schemas.openxmlformats.org/drawingml/2006/table">
            <a:tbl>
              <a:tblPr/>
              <a:tblGrid>
                <a:gridCol w="2286000"/>
                <a:gridCol w="1757160"/>
                <a:gridCol w="1787760"/>
                <a:gridCol w="178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le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ينما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حيث أن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ca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أن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77240" y="3276720"/>
            <a:ext cx="283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as / wer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ro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بينما كنت نائماً ، دخل لص غرفتي)  هذه الجملة تحتوي على حدثين أحدهما ماضي مستمر وهو النوم والآخر دخول اللص الغرفة الذي حصل أثناء النو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 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 بينما كنا نأكل ، جاء والدي) هذه الجملة تحتوي على حدثين أحدهما ماضي مستمر وهو الأكل والآخر مجيء والدي الذي حصل أثناء الأك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657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581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0292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50292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يمكن وضع أداة الربط وسط الجملة دون أن يتغير المعنى فتصبح الجملتان السابقة كما يلي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y roo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خل لص غرفتي بينما كنت نائما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اء والدي بينما كنا نأك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4495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495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5638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86200" y="5715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ملاحظ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كتب الفاصلة إذا بدأت الجملة بكلمة        وتح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ذ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إذا وقعت في منتصف الجملة الأو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ذكر دائماً أن قاعدة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بها فعلان الأول طويل مستمر و الآخر مفاجئ وهو ماضي بسي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533412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6668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44197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شيء متوقع حدوثه في المستقبل ويستمر لفتر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5440" y="3429000"/>
            <a:ext cx="294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 will + b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i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1981080" y="4495680"/>
          <a:ext cx="6743880" cy="1400040"/>
        </p:xfrm>
        <a:graphic>
          <a:graphicData uri="http://schemas.openxmlformats.org/drawingml/2006/table">
            <a:tbl>
              <a:tblPr/>
              <a:tblGrid>
                <a:gridCol w="3048120"/>
                <a:gridCol w="1828800"/>
                <a:gridCol w="186696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للزمن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غضون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…to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..إلى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l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،جميع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د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43Z</dcterms:created>
  <dc:creator>user</dc:creator>
  <dc:description/>
  <dc:language>en-US</dc:language>
  <cp:lastModifiedBy>user</cp:lastModifiedBy>
  <dcterms:modified xsi:type="dcterms:W3CDTF">2007-07-13T00:16:43Z</dcterms:modified>
  <cp:revision>1</cp:revision>
  <dc:subject/>
  <dc:title>الشريحة 1</dc:title>
</cp:coreProperties>
</file>