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AA4-83AE-4156-A98F-84EC0FC0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591-7551-4DE3-85E8-1F0902C6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150-ECD4-4568-B4EB-2E5597E9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D6E-0432-4EAC-B917-FB4398C4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4315-7C3F-423A-9AB4-0E406E50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EB34-99E9-4A58-A7C5-EC1128DF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7625-4A51-4E03-BD49-C5085031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D4C4-389F-4B8E-9C0A-C5A7A908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D87A-0B12-4559-8B0B-A4BE39A6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0691-E662-4E7B-B2D2-A70D108A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0C13-1CC7-44F9-A77A-015ED97D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6D7-8542-447E-8179-B9B1A98B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6F86-BB90-473E-92ED-D75F4D7A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22D2-F1F7-491B-9214-3259E275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C31F-684D-4EE7-9090-17AADE1F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3A72-1BD3-4E1A-A9DE-B28AF7E4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68A1-BC8D-4FE0-985E-9A2FC691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8A6-EED8-4F9A-AC54-DF2C5AC9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93B8-EF62-44D6-80C6-D7DBFB87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012-5FB6-405A-BFCA-F209747B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C4C-7F2A-40CC-9794-D162977B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337-9223-41E2-A789-1C758665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4DA-9EBB-4049-A4F0-F877801D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E8F-4DAC-4B73-A8D5-81582F1D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C6DC-761F-462C-818D-436D2B16623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EB4C-BE15-481C-91FC-F5BB360F421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هذا النوع من المقارنة نلاحظ إضافة اللاحقة        لأغلب الصفات القصيرة ثم كلمة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i is ol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h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Car is fast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you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نضيف       فق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5040" y="297180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Short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قصي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6440" y="2971800"/>
            <a:ext cx="660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419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9436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31200" y="3962520"/>
            <a:ext cx="2552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962520"/>
            <a:ext cx="217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67120" y="518148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848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092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70320" y="5181480"/>
            <a:ext cx="1774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verbs of frequency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ell how often we do someth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الظروف الدالة على التكرار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:التي تخبرنا عن عدد مرات حدوث الشيء. ومن هذه الظروف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Verb to BE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فعل يكو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بعد الفعل المساعد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Other Verbs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الأفعال الأخرى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قبل الفعل العادي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ometi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ads a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954080" y="2608200"/>
          <a:ext cx="5070240" cy="14238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ائم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ldom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جد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casion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 لآخر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Tim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وقت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, whenever, as, as soon as, while, after, before, until, si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tim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وقت مع الجملة الرئيسية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. 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lac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كا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re, whe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lac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كان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v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goes his brother follows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au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بب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, since, 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aus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بب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stayed at home yesterda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was rai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Manner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لوك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, as if, as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manner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لوك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دائماً يأتي بعد            ماضي غير حقيقي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 spea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he were a k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لأنها غير حقيقية و مجرد خيا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loo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t would 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 وهو ماضي غير حقيقي و أنها مجرد توق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154280" y="4267080"/>
            <a:ext cx="482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s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53960" y="5510160"/>
            <a:ext cx="3618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5080" y="5486400"/>
            <a:ext cx="630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ou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79080" y="5029200"/>
            <a:ext cx="4183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92280" y="5029200"/>
            <a:ext cx="51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urpo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غر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, so that, in ord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urpose with the main senten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غرض مع الجملة الرئيسية.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ay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present or futu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ضارع أو المستقبل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.  He wishes to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o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 he may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ght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simple 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اضي البسي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walking quickly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 might not be lat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Resul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نتيج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e us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link the main sentence with the adverbial clause of resu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خدم هذه الصيغات لربط الجمل الظرفية الدالة على النتيجة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n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a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can not wa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ro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od answ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got he ma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30280" y="2133720"/>
            <a:ext cx="239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o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adverb +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69280" y="2133720"/>
            <a:ext cx="240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uch + noun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تناق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ough, alth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تناقض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is poor. 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he is poor,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قارن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….as, so……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قارنة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beel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ev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fa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i is no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dition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حال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, un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dition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حالة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are ill, we go to b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 hard, we will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ed hard, we would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had fallen, he would have hurt him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nle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e rain falls, the crops will not gr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نلاحظ هنا أهمية كلمة          التي تسبق الصفة المقارنة و يلاحظ إضافة          هذه المرة. </a:t>
            </a:r>
            <a:r>
              <a:rPr b="0" lang="ar-SA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est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ounta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ig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uilding in Riyad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لا نضيف       جدي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15840" y="3048120"/>
            <a:ext cx="5036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80240" y="3048120"/>
            <a:ext cx="468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4956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47920" y="2057400"/>
            <a:ext cx="6858000" cy="2286360"/>
            <a:chOff x="1447920" y="2057400"/>
            <a:chExt cx="6858000" cy="2286360"/>
          </a:xfrm>
        </p:grpSpPr>
        <p:sp>
          <p:nvSpPr>
            <p:cNvPr id="126" name=""/>
            <p:cNvSpPr/>
            <p:nvPr/>
          </p:nvSpPr>
          <p:spPr>
            <a:xfrm>
              <a:off x="1447920" y="2057400"/>
              <a:ext cx="6858000" cy="533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800" spc="-1" strike="noStrike">
                  <a:solidFill>
                    <a:srgbClr val="000066"/>
                  </a:solidFill>
                  <a:latin typeface="Tahoma"/>
                </a:rPr>
                <a:t>. Comparing Short Adjectives      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مقارنة الصفات القصير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120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328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514600" y="5029200"/>
            <a:ext cx="4361760" cy="533520"/>
            <a:chOff x="2514600" y="5029200"/>
            <a:chExt cx="4361760" cy="533520"/>
          </a:xfrm>
        </p:grpSpPr>
        <p:sp>
          <p:nvSpPr>
            <p:cNvPr id="130" name=""/>
            <p:cNvSpPr/>
            <p:nvPr/>
          </p:nvSpPr>
          <p:spPr>
            <a:xfrm>
              <a:off x="2514600" y="55627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3760" y="5029200"/>
              <a:ext cx="468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480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092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4360" y="5029200"/>
              <a:ext cx="1774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[بالضبط ]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driv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mad do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iv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[بالضبط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علوم هو الجملة التي يكون فاعلها معلوم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جهول هو الجملة التي يكون فاعلها غير معلوم أو قليل الأهم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هناك عدة أنواع من المبني للمعلوم و المبني للمجهو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جمل الخبرية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أسئلـــــــــــة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and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الأمـــــــــــــر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broke the window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علوم              وذلك لأن الفاعل فيها معلوم وهو     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(by Ahmed)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جهول              وذلك لأن الفاعل فيها غير معلوم وهو              كما في الجملة الأولى أو وضع مكان المفعول به مسبوقاً بــ           كما في الجملة الثا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000200" y="556272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9040" y="320040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09480" y="358128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21920" y="495288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75960" y="525780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للتحويل من المبني للمعلوم              إلى المبني للمجهول             في حالة الجمل الخبرية نتبع الخطوات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المفعول به يصبح فاعلاً.  (يعرف المفعول به بوجوده بعد الفعل مباشرة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فعل           في نفس زمن الجملة مناسباً للمفعول ب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ضع الفعل الأصلي في التصريف الثال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الفاعل مسبوقاً بــ         وقد يشطب إذا كان ضميرا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أي زيادة في الجملة يوضع كما هو في نهاية الجملة دون تغيي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857200" y="502920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70960" y="281952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16680" y="43434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65120" y="320040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9" name=""/>
          <p:cNvGraphicFramePr/>
          <p:nvPr/>
        </p:nvGraphicFramePr>
        <p:xfrm>
          <a:off x="873000" y="3027240"/>
          <a:ext cx="7731000" cy="2768400"/>
        </p:xfrm>
        <a:graphic>
          <a:graphicData uri="http://schemas.openxmlformats.org/drawingml/2006/table">
            <a:tbl>
              <a:tblPr/>
              <a:tblGrid>
                <a:gridCol w="3744000"/>
                <a:gridCol w="39870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علوم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جهول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writes letter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ters are written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da wrote the less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lesson was written (by Huda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will buy 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will b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ught (by Saleh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haled is helping Ahm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is being helped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has eaten the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pple has been eaten (by her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2668680"/>
            <a:ext cx="7696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صرف فعل                 مع الأزمنة المختلفة كما يلي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506600" y="3164040"/>
          <a:ext cx="7064280" cy="2923920"/>
        </p:xfrm>
        <a:graphic>
          <a:graphicData uri="http://schemas.openxmlformats.org/drawingml/2006/table">
            <a:tbl>
              <a:tblPr/>
              <a:tblGrid>
                <a:gridCol w="5013360"/>
                <a:gridCol w="20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, is, 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, we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 be, will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ستقبل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 being, is being, a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 being, we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 been, have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, could be, may be, might be, must be, ought to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كل فعل مساعد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35440" y="27432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نا تتكون الصفة من أكثر من مقطع، كل مقطع يحتوي على أكثر من حرفين متحركين متباعدين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ذا النوع من الصفات لا يقبل         و لا        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في حالة المقارنة بين شيئين تسبق هذه الصفات كلمة            ثم كلمة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da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yad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difficul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gl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938920" y="441972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2920" y="4419720"/>
            <a:ext cx="4032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03520" y="3193920"/>
          <a:ext cx="5071680" cy="1008000"/>
        </p:xfrm>
        <a:graphic>
          <a:graphicData uri="http://schemas.openxmlformats.org/drawingml/2006/table">
            <a:tbl>
              <a:tblPr/>
              <a:tblGrid>
                <a:gridCol w="2577600"/>
                <a:gridCol w="24940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autiful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ميل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fficul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عب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ngerous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طر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rec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حيح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orta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هم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lue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صيح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33640" y="4648320"/>
            <a:ext cx="595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96960" y="4648320"/>
            <a:ext cx="6865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حالة المقارنة بين أكثر من شيئين تسبق هذه الصفات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a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irl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import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subject in this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01560" y="3276720"/>
            <a:ext cx="1108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 m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ملاحظــــــــــــ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better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 at scho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gir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wo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e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55800" y="2774880"/>
          <a:ext cx="7481520" cy="2455560"/>
        </p:xfrm>
        <a:graphic>
          <a:graphicData uri="http://schemas.openxmlformats.org/drawingml/2006/table">
            <a:tbl>
              <a:tblPr/>
              <a:tblGrid>
                <a:gridCol w="1496520"/>
                <a:gridCol w="1247040"/>
                <a:gridCol w="2244960"/>
                <a:gridCol w="249300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عن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صف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كثر م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tt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ي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ليل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s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(بالضبط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(بالضب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dver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modifies a 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ظرف يصف الفعل د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adverbs are formed by adding         to the adjec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ظم الظروف تكوّن بإضافة        للصف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low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nic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pp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carefu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0" y="340200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55520" y="401148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334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kinds of adverb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هناك عدة أنواع من الظرو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manner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how an action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الظروف الدالة على السلوك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losed the window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areful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oldier fought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rave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time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the time when an action is or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الزم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زمن حدوث الفع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m going to leave for Cairo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’s going to happe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ex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place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when an action i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  <a:cs typeface="Tahoma"/>
              </a:rPr>
              <a:t>المك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مكان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shall stan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ve look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verywhe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my lost p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words that end in       can be both adjectives or adverbs.  Most of them refer to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بعض الكلمات التي تنتهي بـ        من الممكن أن تكون ظروف أو صفات.  معظم هذه الكلمات تدل على الوقت.    مث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newspaper is publish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get up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catch a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196440" y="370692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96840" y="401148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7400" y="4202280"/>
          <a:ext cx="5070240" cy="113436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ومياً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ek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بوعياً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nth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هرياً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نوياً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7:29Z</dcterms:created>
  <dc:creator>user</dc:creator>
  <dc:description/>
  <dc:language>en-US</dc:language>
  <cp:lastModifiedBy>user</cp:lastModifiedBy>
  <dcterms:modified xsi:type="dcterms:W3CDTF">2007-07-13T00:17:29Z</dcterms:modified>
  <cp:revision>1</cp:revision>
  <dc:subject/>
  <dc:title>Comparing Adjectives مقارنة الصفات</dc:title>
</cp:coreProperties>
</file>