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A6-789C-401C-BF80-84899C59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57D-AA22-453E-A615-5F0ADF18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E2E-4C36-4526-9F90-5FC8BF9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9AC-8143-4D17-8209-327D5BBB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F0A4-76FE-4320-885C-77CE4406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ED5-4BE0-4833-B2C2-55454A89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0D96-2A85-43A8-8A74-0C61E8F7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502A-1CFB-4AAA-B167-6E3C448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194-0963-4C18-80BD-F0338692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0C0-60F5-49CF-B68B-7AD56CD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E08-62A4-4E70-AFB5-CFAA284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E70-07AD-48D6-A12C-755D2D4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729B-2355-44E7-98DC-87E527F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33CE-03E0-4D1F-9344-A2D5473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8FB0-EF97-4391-9DC0-2385D9F6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C374-BA10-4835-BE6E-BD2A5C6F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7CF6-7679-47D6-953A-8BC07A30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67A-145F-4427-878E-ED4BF539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DB3-7814-41F8-BD29-AE1C4FB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F17-7D71-4EAB-BF07-3A927B6B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3D6-6B18-44F7-AF71-DBE6F931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F27-8754-468C-B2DA-D598654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02D-085C-408F-AD64-E2BC1D2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A9C-3803-421C-8E8B-DDBF080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3FC0-B839-44CD-8069-B95FDFAF5B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709-B529-489A-93A7-A0C332313E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هذا النوع من المقارنة نلاحظ إضافة اللاحقة        لأغلب الصفات القصيرة ثم كلمة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 is ol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hm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ar is fast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your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نضيف       فق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v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5040" y="297180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Short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قصي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26440" y="2971800"/>
            <a:ext cx="660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419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715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943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31200" y="3962520"/>
            <a:ext cx="2552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962520"/>
            <a:ext cx="217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7120" y="518148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848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10920" y="5181480"/>
            <a:ext cx="2415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0320" y="5181480"/>
            <a:ext cx="177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dverbs of frequency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ell how often we do someth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الظروف الدالة على التكرار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:التي تخبرنا عن عدد مرات حدوث الشيء. ومن هذه الظروف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Verb to BE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فعل يكون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بعد الفعل المساعد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Other Verbs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الأفعال الأخرى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يأتي ظرف التكرار قبل الفعل العادي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ometi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ads a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954080" y="2608200"/>
          <a:ext cx="5070240" cy="14238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ائم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ldom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ً جداً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               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casionally</a:t>
                      </a: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 لآخر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Tim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وقت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, whenever, as, as soon as, while, after, before, until, si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tim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وقت مع الجملة الرئيسية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. 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found a watc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 was walking in the stre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lac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كا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re, wher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lac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كان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v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goes his brother follows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au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بب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, since, 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ause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بب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stayed at home yesterda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t was rai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Manner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سلوك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, as if, as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manner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سلوك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دائماً يأتي بعد            ماضي غير حقيقي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 spea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he were a k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لأنها غير حقيقية و مجرد خيا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looks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 if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t would 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لاحظ استخدام              بدلاً من               وهو ماضي غير حقيقي و أنها مجرد توق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154280" y="4267080"/>
            <a:ext cx="4824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s 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53960" y="5510160"/>
            <a:ext cx="3618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5080" y="5486400"/>
            <a:ext cx="630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79080" y="5029200"/>
            <a:ext cx="4183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280" y="502920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w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Purpose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غر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, so that, in order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se words (conjunctions) link the adverbial clause of purpose with the main sentenc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غرض مع الجملة الرئيسية.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ay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present or futu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ضارع أو المستقبل</a:t>
            </a: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.  He wishes to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orks hard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o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he may succe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 We use (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ght + infini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when the main verb is in the simple 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نستخدم (</a:t>
            </a:r>
            <a:r>
              <a:rPr b="1" lang="ar-SA" sz="1200" spc="-1" strike="noStrike">
                <a:solidFill>
                  <a:srgbClr val="cc3300"/>
                </a:solidFill>
                <a:latin typeface="Arial"/>
              </a:rPr>
              <a:t>ربما+المصدر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) عندما يكون الفعل الرئيسي في الماضي البسي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walking quickly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 order that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 might not be lat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Resul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نتيج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e us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link the main sentence with the adverbial clause of resul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خدم هذه الصيغات لربط الجمل الظرفية الدالة على النتيجة مع الجملة الرئيس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n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a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can not wa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ro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od answ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got he mar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30280" y="2133720"/>
            <a:ext cx="239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o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adverb +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69280" y="2133720"/>
            <a:ext cx="2403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uch + noun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تناقض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ough, alth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تناقض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 is poor. 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oug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he is poor, he is hap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trast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مقارن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….as, so……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trast with the main sentenc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مقارنة مع الجملة الرئيسي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beel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eve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fa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i is no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rbial Clause of Condition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جمل الظرفية الدالة على الحال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j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أدوات الرب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, un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words (conjunctions) link the adverbial clause of condition with the main sentenc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أدوات الربط هذه تربط الجمل الظرفية الدالة على الحالة مع الجملة الرئيسية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Arial"/>
              </a:rPr>
              <a:t>مثا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are ill, we go to b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 hard, we will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e worked hard, we would succee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had fallen, he would have hurt himsel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nl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rain falls, the crops will not grow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نلاحظ هنا أهمية كلمة          التي تسبق الصفة المقارنة و يلاحظ إضافة          هذه المرة. </a:t>
            </a:r>
            <a:r>
              <a:rPr b="0" lang="ar-SA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est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igh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ounta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ig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ilding in Riyad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فأننا لا نضيف       جدي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af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إذا انتهت الصفة بحرف       فأننا نقلب ال        إلى        ثم نضيف          كالعاد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as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15840" y="3048120"/>
            <a:ext cx="5036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280240" y="3048120"/>
            <a:ext cx="468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495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47920" y="2057400"/>
            <a:ext cx="6858000" cy="2286360"/>
            <a:chOff x="1447920" y="2057400"/>
            <a:chExt cx="6858000" cy="2286360"/>
          </a:xfrm>
        </p:grpSpPr>
        <p:sp>
          <p:nvSpPr>
            <p:cNvPr id="126" name=""/>
            <p:cNvSpPr/>
            <p:nvPr/>
          </p:nvSpPr>
          <p:spPr>
            <a:xfrm>
              <a:off x="1447920" y="2057400"/>
              <a:ext cx="6858000" cy="533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800" spc="-1" strike="noStrike">
                  <a:solidFill>
                    <a:srgbClr val="000066"/>
                  </a:solidFill>
                  <a:latin typeface="Tahoma"/>
                </a:rPr>
                <a:t>. Comparing Short Adjectives      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   </a:t>
              </a:r>
              <a:r>
                <a:rPr b="1" lang="ar-SA" sz="1800" spc="-1" strike="noStrike">
                  <a:solidFill>
                    <a:srgbClr val="000066"/>
                  </a:solidFill>
                  <a:latin typeface="Tahoma"/>
                </a:rPr>
                <a:t>مقارنة الصفات القصي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3120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3280" y="4038480"/>
              <a:ext cx="2552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514600" y="5029200"/>
            <a:ext cx="4361760" cy="533520"/>
            <a:chOff x="2514600" y="5029200"/>
            <a:chExt cx="4361760" cy="533520"/>
          </a:xfrm>
        </p:grpSpPr>
        <p:sp>
          <p:nvSpPr>
            <p:cNvPr id="130" name=""/>
            <p:cNvSpPr/>
            <p:nvPr/>
          </p:nvSpPr>
          <p:spPr>
            <a:xfrm>
              <a:off x="2514600" y="55627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3760" y="5029200"/>
              <a:ext cx="4687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e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3480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10920" y="5029200"/>
              <a:ext cx="2415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94360" y="5029200"/>
              <a:ext cx="1774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[بالضبط ]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driv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حال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mad doe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iv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ngerously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[بالضبط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علوم هو الجملة التي يكون فاعلها معلوم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يقصد بالمبني للمجهول هو الجملة التي يكون فاعلها غير معلوم أو قليل الأهم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هناك عدة أنواع من المبني للمعلوم و المبني للمجهو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جمل الخبرية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أسئلـــــــــــة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and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الأمـــــــــــــر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broke the window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علوم              وذلك لأن الفاعل فيها معلوم وهو     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indow was broken (by Ahmed) yester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ذه الجملة مبني للمجهول              وذلك لأن الفاعل فيها غير معلوم وهو              كما في الجملة الأولى أو وضع مكان المفعول به مسبوقاً بــ           كما في الجملة الثا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000200" y="556272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09040" y="320040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9480" y="358128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21920" y="495288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275960" y="5257800"/>
            <a:ext cx="9043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h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للتحويل من المبني للمعلوم              إلى المبني للمجهول             في حالة الجمل الخبرية نتبع الخطوات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المفعول به يصبح فاعلاً.  (يعرف المفعول به بوجوده بعد الفعل مباشرة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فعل           في نفس زمن الجملة مناسباً للمفعول ب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ضع الفعل الأصلي في التصريف الثال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نضع الفاعل مسبوقاً بــ         وقد يشطب إذا كان ضميرا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أي زيادة في الجملة يوضع كما هو في نهاية الجملة دون تغيي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857200" y="5029200"/>
            <a:ext cx="333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70960" y="2819520"/>
            <a:ext cx="7610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16680" y="43434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65120" y="3200400"/>
            <a:ext cx="9259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a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9" name=""/>
          <p:cNvGraphicFramePr/>
          <p:nvPr/>
        </p:nvGraphicFramePr>
        <p:xfrm>
          <a:off x="873000" y="3027240"/>
          <a:ext cx="7731000" cy="2768400"/>
        </p:xfrm>
        <a:graphic>
          <a:graphicData uri="http://schemas.openxmlformats.org/drawingml/2006/table">
            <a:tbl>
              <a:tblPr/>
              <a:tblGrid>
                <a:gridCol w="3744000"/>
                <a:gridCol w="39870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علوم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e</a:t>
                      </a:r>
                      <a:r>
                        <a:rPr b="1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ني للمجهول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writes letter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ters are written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da wrote the les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lesson was written (by Huda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will buy a ca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ar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will b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ught (by Saleh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haled is helping Ahm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med is being helped (by Ali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has eaten the appl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apple has been eaten (by her)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e &amp; Pass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مبني للمعلوم و المبني للمجهول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2668680"/>
            <a:ext cx="7696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صرف فعل                 مع الأزمنة المختلفة كما يلي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895480" y="2057400"/>
            <a:ext cx="40388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 Statement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جمل الخبر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506600" y="3164040"/>
          <a:ext cx="7064280" cy="2923920"/>
        </p:xfrm>
        <a:graphic>
          <a:graphicData uri="http://schemas.openxmlformats.org/drawingml/2006/table">
            <a:tbl>
              <a:tblPr/>
              <a:tblGrid>
                <a:gridCol w="5013360"/>
                <a:gridCol w="20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, is, 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, we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ll be, will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ستقبل البسي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 being, is being, a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s being, were be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مستم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s been, have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ضارع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d be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ماضي التا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, could be, may be, might be, must be, ought to 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كل فعل مساعد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35440" y="2743200"/>
            <a:ext cx="6577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o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نا تتكون الصفة من أكثر من مقطع، كل مقطع يحتوي على أكثر من حرفين متحركين متباعدين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هذا النوع من الصفات لا يقبل         و لا      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في حالة المقارنة بين شيئين تسبق هذه الصفات كلمة            ثم كلمة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da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iyad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-5014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re difficul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glis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014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5938920" y="4419720"/>
            <a:ext cx="36036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92920" y="4419720"/>
            <a:ext cx="4032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03520" y="3193920"/>
          <a:ext cx="5071680" cy="1008000"/>
        </p:xfrm>
        <a:graphic>
          <a:graphicData uri="http://schemas.openxmlformats.org/drawingml/2006/table">
            <a:tbl>
              <a:tblPr/>
              <a:tblGrid>
                <a:gridCol w="2577600"/>
                <a:gridCol w="249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autiful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ميل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fficul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عب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ngerous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طر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rec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حيح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orta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هم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luent</a:t>
                      </a:r>
                      <a:r>
                        <a:rPr b="0" lang="ar-SA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صيح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33640" y="4648320"/>
            <a:ext cx="5950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96960" y="4648320"/>
            <a:ext cx="68652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. المقارنة بين أكثر من شيئين أو شخصين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حالة المقارنة بين أكثر من شيئين تسبق هذه الصفات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beautifu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irl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most import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ahoma"/>
              </a:rPr>
              <a:t>subject in this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01560" y="3276720"/>
            <a:ext cx="11088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the m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00"/>
                </a:solidFill>
                <a:latin typeface="Arial"/>
              </a:rPr>
              <a:t>ملاحظــــــــــــ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el is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better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s brother at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girl is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ne in her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3740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858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Comparing Long Adjectives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قارنة الصفات الطو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55800" y="2774880"/>
          <a:ext cx="7481520" cy="2455560"/>
        </p:xfrm>
        <a:graphic>
          <a:graphicData uri="http://schemas.openxmlformats.org/drawingml/2006/table">
            <a:tbl>
              <a:tblPr/>
              <a:tblGrid>
                <a:gridCol w="1496520"/>
                <a:gridCol w="1247040"/>
                <a:gridCol w="2244960"/>
                <a:gridCol w="249300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عن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صف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قارنة بين أكثر من أثن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tt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ي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ثير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ليل (لغير المعدود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s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ي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r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arthe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aring Adjectives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مقارنة الصفات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…….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مثله مثل (بالضبط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s….a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ليس مثله مثل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حين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ستخدم هذا الاصطلاح في حالة </a:t>
            </a:r>
            <a:r>
              <a:rPr b="0" lang="ar-SA" sz="2000" spc="-1" strike="noStrike" u="sng">
                <a:solidFill>
                  <a:srgbClr val="ffffff"/>
                </a:solidFill>
                <a:uFillTx/>
                <a:latin typeface="Arial"/>
              </a:rPr>
              <a:t>عد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وجود مساواة بين صفتي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ll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bag is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ot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a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1981080"/>
            <a:ext cx="45720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مثله مثل (بالضب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962520"/>
            <a:ext cx="4572000" cy="5331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t as……..as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ليس مثله مث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-469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dver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ways modifies a 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ظرف يصف الفعل د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adverbs are formed by adding         to the adjec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ظم الظروف تكوّن بإضافة        للصف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low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nic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pp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care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0" y="340200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55520" y="4011480"/>
            <a:ext cx="3193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5334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ny kinds of adverb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هناك عدة أنواع من الظرو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manner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how an action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الظروف الدالة على السلوك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closed the window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areful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soldier fought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brave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time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the time when an action is or wa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الزم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كيفية زمن حدوث الفع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m going to leave for Cairo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’s going to happe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nex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erbs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ظروف [الأحوال]  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dverbs of place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press when an action is don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ظروف 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  <a:cs typeface="Tahoma"/>
              </a:rPr>
              <a:t>المكا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 :الظروف التي تعبر عن مكان وقوع الحدث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 shall stan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’ve look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verywhe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my lost p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words that end in       can be both adjectives or adverbs.  Most of them refer to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بعض الكلمات التي تنتهي بـ        من الممكن أن تكون ظروف أو صفات.  معظم هذه الكلمات تدل على الوقت.    مثل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newspaper is published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ai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get up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catch an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earl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ra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196440" y="370692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96840" y="4011480"/>
            <a:ext cx="2019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7400" y="4202280"/>
          <a:ext cx="5070240" cy="113436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i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ومياً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ek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بوعياً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nth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هرياً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arl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نوياً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7:29Z</dcterms:created>
  <dc:creator>user</dc:creator>
  <dc:description/>
  <dc:language>en-US</dc:language>
  <cp:lastModifiedBy>user</cp:lastModifiedBy>
  <dcterms:modified xsi:type="dcterms:W3CDTF">2007-07-13T00:17:29Z</dcterms:modified>
  <cp:revision>1</cp:revision>
  <dc:subject/>
  <dc:title>Comparing Adjectives مقارنة الصفات</dc:title>
</cp:coreProperties>
</file>