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CB6E-6F0A-4CBC-A204-2F26018B0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F53E-83B3-4FA5-B403-F8C283F2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C258-2617-426E-B1B2-70BE29023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211F-44A5-4AEF-95A2-81C94E6D2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5440-9BFB-4CAC-AF5D-81AA88DF7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8F8E-375A-4C6B-8B2F-59E732B5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62C36-0C45-4B3F-8DB5-0C183702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94C0-ED51-48B4-96B5-6375E0AC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E39C-DF3B-41EB-BFB5-06A7BE5D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A8D5-7E2F-474C-9E0B-B6603385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838B-6EE9-431A-92B5-2C9C6502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A3F2-AA95-43FD-8D6B-52F0FC2D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5B0B8-2A59-4CCA-AD41-251F3728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0B53-CD7E-4643-A857-C17AA054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D2EC-4EEE-40F3-9219-8975CE85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3721-2CA9-479A-9205-1C6C69BF4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2172-BE51-4C4F-AFEA-61CDB5257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A72A-B278-4120-B2BC-30450FA8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E08B-99FF-44C0-93A8-6884C248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0601-16ED-4380-A397-A57729DE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6B4E-EF0C-4EE9-ADCE-E7B8EE33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65FB-4DDE-4CC6-BA24-66789DCC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C77F-95FD-455E-BCCE-860E79EA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CAAE-796D-45B7-BCD5-20A0B293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8E95-A928-49C3-87B6-6411BF78B8F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4C92-AD50-46D0-B244-B97FD73969C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aring Adjectiv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مقارنة الصفات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. المقارنة بين شيئين أو شخصين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في هذا النوع من المقارنة نلاحظ إضافة اللاحقة        لأغلب الصفات القصيرة ثم كلمة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li is old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hme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y Car is fast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your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إذا انتهت الصفة بحرف      فأننا نضيف       فقط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f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f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mpl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mpl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إذا انتهت الصفة بحرف       فأننا نقلب ال        إلى        ثم نضيف          كالعاد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s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s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av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av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15040" y="2971800"/>
            <a:ext cx="3603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057400"/>
            <a:ext cx="6858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Comparing Short Adjective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قارنة الصفات القصير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26440" y="2971800"/>
            <a:ext cx="6606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h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44197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46483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14600" y="57150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59436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31200" y="3962520"/>
            <a:ext cx="25524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10080" y="3962520"/>
            <a:ext cx="21708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67120" y="5181480"/>
            <a:ext cx="3603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8480" y="5181480"/>
            <a:ext cx="2415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10920" y="5181480"/>
            <a:ext cx="2415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70320" y="5181480"/>
            <a:ext cx="17748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verbs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ظروف [الأحوال]  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dverbs of frequency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ell how often we do somethin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الظروف الدالة على التكرار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:التي تخبرنا عن عدد مرات حدوث الشيء. ومن هذه الظروف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Verb to BE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فعل يكون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: يأتي ظرف التكرار بعد الفعل المساعد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i is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alwa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n ti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Other Verbs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الأفعال الأخرى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: يأتي ظرف التكرار قبل الفعل العادي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i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ometim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reads a boo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0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11" name=""/>
          <p:cNvGraphicFramePr/>
          <p:nvPr/>
        </p:nvGraphicFramePr>
        <p:xfrm>
          <a:off x="1954080" y="2608200"/>
          <a:ext cx="5070240" cy="1423800"/>
        </p:xfrm>
        <a:graphic>
          <a:graphicData uri="http://schemas.openxmlformats.org/drawingml/2006/table">
            <a:tbl>
              <a:tblPr/>
              <a:tblGrid>
                <a:gridCol w="2576880"/>
                <a:gridCol w="2493360"/>
              </a:tblGrid>
              <a:tr h="36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ways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دائماً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ften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غالباً      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usually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ادة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ometimes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ياناً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eldom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ادراً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rely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ادراً جداً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ver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بداً   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ccasionally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 حي لآخر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Time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وقت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en, whenever, as, as soon as, while, after, before, until, si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words (conjunctions) link the adverbial clause of time with the main sente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وقت مع الجملة الرئيسية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found a watch.  I was walking in the stree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found a watc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 was walking in the stree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1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Place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مكان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ere, where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words (conjunctions) link the adverbial clause of place with the main sente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مكان مع الجملة الرئيسي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reve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 goes his brother follows hi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Cause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سبب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cause, since, 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words (conjunctions) link the adverbial clause of cause with the main sente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سبب مع الجملة الرئيسي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stayed at home yesterda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t was rain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Manner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سلوك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, as if, as thr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se words (conjunctions) link the adverbial clause of manner with the main sentenc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سلوك مع الجملة الرئيسية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دائماً يأتي بعد            ماضي غير حقيقي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 speaks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s if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he were a king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لاحظ استخدام              بدلاً من              لأنها غير حقيقية و مجرد خيال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t looks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s if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t would rai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لاحظ استخدام              بدلاً من               وهو ماضي غير حقيقي و أنها مجرد توق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7154280" y="4267080"/>
            <a:ext cx="4824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s 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853960" y="5510160"/>
            <a:ext cx="3618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wi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985080" y="5486400"/>
            <a:ext cx="6300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woul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79080" y="5029200"/>
            <a:ext cx="41832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w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992280" y="5029200"/>
            <a:ext cx="5187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w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Purpose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غرض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t, so that, in order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se words (conjunctions) link the adverbial clause of purpose with the main sentenc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غرض مع الجملة الرئيسية.</a:t>
            </a: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) We use (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ay + infini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 when the main verb is in the present or futu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نستخدم (</a:t>
            </a:r>
            <a:r>
              <a:rPr b="1" lang="ar-SA" sz="1200" spc="-1" strike="noStrike">
                <a:solidFill>
                  <a:srgbClr val="cc3300"/>
                </a:solidFill>
                <a:latin typeface="Arial"/>
              </a:rPr>
              <a:t>ربما+المصدر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) عندما يكون الفعل الرئيسي في المضارع أو المستقبل</a:t>
            </a: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orks hard.  He wishes to succe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orks hard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so tha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tha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in order tha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) he may succe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 We use (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ight + infini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 when the main verb is in the simple pas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نستخدم (</a:t>
            </a:r>
            <a:r>
              <a:rPr b="1" lang="ar-SA" sz="1200" spc="-1" strike="noStrike">
                <a:solidFill>
                  <a:srgbClr val="cc3300"/>
                </a:solidFill>
                <a:latin typeface="Arial"/>
              </a:rPr>
              <a:t>ربما+المصدر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) عندما يكون الفعل الرئيسي في الماضي البسيط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as walking quickly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in order that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e might not be lat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4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Result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نتيجة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We us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link the main sentence with the adverbial clause of resul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تستخدم هذه الصيغات لربط الجمل الظرفية الدالة على النتيجة مع الجملة الرئيسي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man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eak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can not wal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wrot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u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good answer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e got he mark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5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2330280" y="2133720"/>
            <a:ext cx="2396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o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adverb + 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669280" y="2133720"/>
            <a:ext cx="2403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uch + noun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Contrast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تناقض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ough, alth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words (conjunctions) link the adverbial clause of contrast with the main sente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تناقض مع الجملة الرئيسية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 is poor.  He is hap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thoug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oug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he is poor, he is hap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6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8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Contrast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مقارنة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s….as, so……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words (conjunctions) link the adverbial clause of contrast with the main sente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مقارنة مع الجملة الرئيسية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beel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lever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is fath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i is no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ro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is broth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72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Condition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حالة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, unl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se words (conjunctions) link the adverbial clause of condition with the main sentenc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حالة مع الجملة الرئيسية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e are ill, we go to be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e work hard, we will succee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e worked hard, we would succee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e had fallen, he would have hurt himsel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Unles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he rain falls, the crops will not grow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. المقارنة بين أكثر من شيئين أو شخصين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نلاحظ هنا أهمية كلمة          التي تسبق الصفة المقارنة و يلاحظ إضافة          هذه المرة. </a:t>
            </a:r>
            <a:r>
              <a:rPr b="0" lang="ar-SA" sz="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verest is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igh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s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mountai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ig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ges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uilding in Riyad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إذا انتهت الصفة بحرف      فأننا لا نضيف       جديد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f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saf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إذا انتهت الصفة بحرف       فأننا نقلب ال        إلى        ثم نضيف          كالعاد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s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eas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15840" y="3048120"/>
            <a:ext cx="50364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2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280240" y="3048120"/>
            <a:ext cx="4687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14600" y="44956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447920" y="2057400"/>
            <a:ext cx="6858000" cy="2286360"/>
            <a:chOff x="1447920" y="2057400"/>
            <a:chExt cx="6858000" cy="2286360"/>
          </a:xfrm>
        </p:grpSpPr>
        <p:sp>
          <p:nvSpPr>
            <p:cNvPr id="126" name=""/>
            <p:cNvSpPr/>
            <p:nvPr/>
          </p:nvSpPr>
          <p:spPr>
            <a:xfrm>
              <a:off x="1447920" y="2057400"/>
              <a:ext cx="6858000" cy="5335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800" spc="-1" strike="noStrike">
                  <a:solidFill>
                    <a:srgbClr val="000066"/>
                  </a:solidFill>
                  <a:latin typeface="Tahoma"/>
                </a:rPr>
                <a:t>. Comparing Short Adjectives         </a:t>
              </a:r>
              <a:r>
                <a:rPr b="1" lang="ar-SA" sz="1800" spc="-1" strike="noStrike">
                  <a:solidFill>
                    <a:srgbClr val="000066"/>
                  </a:solidFill>
                  <a:latin typeface="Tahoma"/>
                </a:rPr>
                <a:t>   </a:t>
              </a:r>
              <a:r>
                <a:rPr b="1" lang="ar-SA" sz="1800" spc="-1" strike="noStrike">
                  <a:solidFill>
                    <a:srgbClr val="000066"/>
                  </a:solidFill>
                  <a:latin typeface="Tahoma"/>
                </a:rPr>
                <a:t>مقارنة الصفات القصير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31200" y="4038480"/>
              <a:ext cx="2552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3280" y="4038480"/>
              <a:ext cx="2552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514600" y="5029200"/>
            <a:ext cx="4361760" cy="533520"/>
            <a:chOff x="2514600" y="5029200"/>
            <a:chExt cx="4361760" cy="533520"/>
          </a:xfrm>
        </p:grpSpPr>
        <p:sp>
          <p:nvSpPr>
            <p:cNvPr id="130" name=""/>
            <p:cNvSpPr/>
            <p:nvPr/>
          </p:nvSpPr>
          <p:spPr>
            <a:xfrm>
              <a:off x="2514600" y="5562720"/>
              <a:ext cx="1219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13760" y="5029200"/>
              <a:ext cx="46872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es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34800" y="5029200"/>
              <a:ext cx="24156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10920" y="5029200"/>
              <a:ext cx="24156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94360" y="5029200"/>
              <a:ext cx="17748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aring Adjectiv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مقارنة الصفات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s……..a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مثله مثل [بالضبط ]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t as….a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ليس مثله مثل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19320" y="24382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ستخدم هذا الاصطلاح حين وجود مساواة بين حالي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hmed drive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angerously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is broth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ستخدم هذا الاصطلاح في حالة </a:t>
            </a: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عدم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وجود مساواة بين حالي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mad doe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riv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angerously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is broth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95480" y="1981080"/>
            <a:ext cx="4572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as……..as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ثله مثل [بالضبط 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962520"/>
            <a:ext cx="4572000" cy="53316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not as……..as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ليس مثله مث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e &amp; Pas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مبني للمعلوم و المبني للمجهول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Arial"/>
              </a:rPr>
              <a:t>يقصد بالمبني للمعلوم هو الجملة التي يكون فاعلها معلوما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Arial"/>
              </a:rPr>
              <a:t>يقصد بالمبني للمجهول هو الجملة التي يكون فاعلها غير معلوم أو قليل الأهم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Arial"/>
              </a:rPr>
              <a:t>هناك عدة أنواع من المبني للمعلوم و المبني للمجهو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ement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جمل الخبرية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stion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أسئلـــــــــــة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and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   الأمـــــــــــــر</a:t>
            </a:r>
            <a:r>
              <a:rPr b="1" lang="ar-SA" sz="2000" spc="-1" strike="noStrike">
                <a:solidFill>
                  <a:srgbClr val="ffff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e &amp; Pas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مبني للمعلوم و المبني للمجهول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43000" y="274284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hmed broke the window yester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ذه الجملة مبني للمعلوم              وذلك لأن الفاعل فيها معلوم وهو             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_______________________________________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window was broken yester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window was broken (by Ahmed) yester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ذه الجملة مبني للمجهول              وذلك لأن الفاعل فيها غير معلوم وهو              كما في الجملة الأولى أو وضع مكان المفعول به مسبوقاً بــ           كما في الجملة الثان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9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7000200" y="5562720"/>
            <a:ext cx="3330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009040" y="3200400"/>
            <a:ext cx="76104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809480" y="3581280"/>
            <a:ext cx="9043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hm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921920" y="4952880"/>
            <a:ext cx="9259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Pas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275960" y="5257800"/>
            <a:ext cx="9043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hm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895480" y="2057400"/>
            <a:ext cx="40388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 Statement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جمل الخبر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e &amp; Pas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مبني للمعلوم و المبني للمجهول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43000" y="274284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للتحويل من المبني للمعلوم              إلى المبني للمجهول             في حالة الجمل الخبرية نتبع الخطوات التالية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المفعول به يصبح فاعلاً.  (يعرف المفعول به بوجوده بعد الفعل مباشرة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نضع فعل           في نفس زمن الجملة مناسباً للمفعول به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ضع الفعل الأصلي في التصريف الثالث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نضع الفاعل مسبوقاً بــ         وقد يشطب إذا كان ضميرا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أي زيادة في الجملة يوضع كما هو في نهاية الجملة دون تغيي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1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5857200" y="5029200"/>
            <a:ext cx="3330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170960" y="2819520"/>
            <a:ext cx="76104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916680" y="4343400"/>
            <a:ext cx="6577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o 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665120" y="3200400"/>
            <a:ext cx="9259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Pas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895480" y="2057400"/>
            <a:ext cx="40388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 Statement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جمل الخبر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e &amp; Pas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مبني للمعلوم و المبني للمجهول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ة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2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29" name=""/>
          <p:cNvGraphicFramePr/>
          <p:nvPr/>
        </p:nvGraphicFramePr>
        <p:xfrm>
          <a:off x="873000" y="3027240"/>
          <a:ext cx="7731000" cy="2768400"/>
        </p:xfrm>
        <a:graphic>
          <a:graphicData uri="http://schemas.openxmlformats.org/drawingml/2006/table">
            <a:tbl>
              <a:tblPr/>
              <a:tblGrid>
                <a:gridCol w="3744000"/>
                <a:gridCol w="3987000"/>
              </a:tblGrid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ve</a:t>
                      </a: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ني للمعلوم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sive</a:t>
                      </a: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ني للمجهول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i writes letter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ters are written (by Ali)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da wrote the lesson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lesson was written (by Huda)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leh will buy a car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ar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will b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ought (by Saleh)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haled is helping Ahme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hmed is being helped (by Ali)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has eaten the appl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apple has been eaten (by her)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"/>
          <p:cNvSpPr/>
          <p:nvPr/>
        </p:nvSpPr>
        <p:spPr>
          <a:xfrm>
            <a:off x="2895480" y="2057400"/>
            <a:ext cx="40388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 Statement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جمل الخبر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e &amp; Pas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مبني للمعلوم و المبني للمجهول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7720" y="2668680"/>
            <a:ext cx="7696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صرف فعل                 مع الأزمنة المختلفة كما يلي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3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2895480" y="2057400"/>
            <a:ext cx="40388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 Statement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جمل الخبر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506600" y="3164040"/>
          <a:ext cx="7064280" cy="2923920"/>
        </p:xfrm>
        <a:graphic>
          <a:graphicData uri="http://schemas.openxmlformats.org/drawingml/2006/table">
            <a:tbl>
              <a:tblPr/>
              <a:tblGrid>
                <a:gridCol w="5013360"/>
                <a:gridCol w="2050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, is, 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ضارع البسي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, we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اضي البسي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ll be, will b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ستقبل البسي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 being, is being, are be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ضارع المستم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 being, were be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اضي المستم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s been, have be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ضارع التا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d be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اضي التا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 be, could be, may be, might be, must be, ought to b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كل فعل مساعد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535440" y="2743200"/>
            <a:ext cx="6577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o 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. المقارنة بين شيئين أو شخصين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هنا تتكون الصفة من أكثر من مقطع، كل مقطع يحتوي على أكثر من حرفين متحركين متباعدين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هذا النوع من الصفات لا يقبل         و لا        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ففي حالة المقارنة بين شيئين تسبق هذه الصفات كلمة            ثم كلمة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-5014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ddah is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more beautifu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h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Riyad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01480" indent="-5014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nch is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more difficult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th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nglis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4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5938920" y="4419720"/>
            <a:ext cx="3603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92920" y="4419720"/>
            <a:ext cx="4032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703520" y="3193920"/>
          <a:ext cx="5071680" cy="1008000"/>
        </p:xfrm>
        <a:graphic>
          <a:graphicData uri="http://schemas.openxmlformats.org/drawingml/2006/table">
            <a:tbl>
              <a:tblPr/>
              <a:tblGrid>
                <a:gridCol w="2577600"/>
                <a:gridCol w="2494080"/>
              </a:tblGrid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eautiful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جميل    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fficult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صعب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angerous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خطر  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rrect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صحيح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mportant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هم   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luent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صيح 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1447920" y="2057400"/>
            <a:ext cx="6858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Comparing Long Adjective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قارنة الصفات الطوي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033640" y="4648320"/>
            <a:ext cx="59508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h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96960" y="4648320"/>
            <a:ext cx="6865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m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aring Adjectiv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مقارنة الصفات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. المقارنة بين أكثر من شيئين أو شخصين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في حالة المقارنة بين أكثر من شيئين تسبق هذه الصفات كلم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al is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most beautifu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irl in her cla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most importa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subject in this boo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47920" y="2057400"/>
            <a:ext cx="6858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Comparing Long Adjective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قارنة الصفات الطوي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401560" y="3276720"/>
            <a:ext cx="11088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he m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aring Adjectiv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مقارنة الصفات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ملاحظــــــــــــة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-43740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el is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better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th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is brother at schoo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7400" indent="-43740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girl is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wor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ne in her cla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47920" y="2057400"/>
            <a:ext cx="6858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Comparing Long Adjective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قارنة الصفات الطوي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955800" y="2774880"/>
          <a:ext cx="7481520" cy="2455560"/>
        </p:xfrm>
        <a:graphic>
          <a:graphicData uri="http://schemas.openxmlformats.org/drawingml/2006/table">
            <a:tbl>
              <a:tblPr/>
              <a:tblGrid>
                <a:gridCol w="1496520"/>
                <a:gridCol w="1247040"/>
                <a:gridCol w="2244960"/>
                <a:gridCol w="2493000"/>
              </a:tblGrid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معنى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صف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قارنة بين أثني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قارنة بين أكثر من أثني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etter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e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سيئ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ors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or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ثير (للمعدود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ثير (لغير المعدود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c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or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o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قليل (لغير المعدود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t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les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lea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عيد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arther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arthe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aring Adjectiv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مقارنة الصفات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s……..a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مثله مثل (بالضبط)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t as….a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ليس مثله مثل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19320" y="24382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ستخدم هذا الاصطلاح حين وجود مساواة بين صفتي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i i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all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is broth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bag i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i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ba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ستخدم هذا الاصطلاح في حالة </a:t>
            </a: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عدم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وجود مساواة بين صفتي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i i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not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all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is broth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bag i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not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i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ba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95480" y="1981080"/>
            <a:ext cx="4572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as……..as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ثله مثل (بالضبط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95480" y="3962520"/>
            <a:ext cx="4572000" cy="53316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not as……..as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ليس مثله مث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verbs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ظروف [الأحوال]  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69440" indent="-469440" algn="r" rtl="1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dverb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ways modifies a ver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ظرف يصف الفعل دائ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adverbs are formed by adding         to the adjecti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عظم الظروف تكوّن بإضافة        للصف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o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slow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nic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pp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happi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efu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carefu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936400" y="3402000"/>
            <a:ext cx="31932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55520" y="4011480"/>
            <a:ext cx="31932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49528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38680" y="49528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53341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3720" y="533412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verbs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ظروف [الأحوال]  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ny kinds of adverb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هناك عدة أنواع من الظروف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dverbs of manner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xpress how an action was don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الظروف الدالة على السلوك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 :الظروف التي تعبر عن كيفية وقوع الحدث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 closed the window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carefull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soldier fought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bravel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dverbs of time</a:t>
            </a: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xpress the time when an action is or was don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ظروف الزمان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 :الظروف التي تعبر عن كيفية زمن حدوث الفعل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’m going to leave for Cairo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tomorro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at’s going to happen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nex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verbs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ظروف [الأحوال]  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dverbs of place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xpress when an action is don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ظروف </a:t>
            </a:r>
            <a:r>
              <a:rPr b="1" lang="ar-SA" sz="1400" spc="-1" strike="noStrike">
                <a:solidFill>
                  <a:srgbClr val="ffff00"/>
                </a:solidFill>
                <a:latin typeface="Arial"/>
                <a:cs typeface="Tahoma"/>
              </a:rPr>
              <a:t>المكان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 :الظروف التي تعبر عن مكان وقوع الحدث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 shall stand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he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’ve looked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everywhere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my lost pe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words that end in       can be both adjectives or adverbs.  Most of them refer to tim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بعض الكلمات التي تنتهي بـ        من الممكن أن تكون ظروف أو صفات.  معظم هذه الكلمات تدل على الوقت.    مثل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dail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newspaper is published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dail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get up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early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 catch an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earl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trai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196440" y="3706920"/>
            <a:ext cx="201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96840" y="4011480"/>
            <a:ext cx="201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787400" y="4202280"/>
          <a:ext cx="5070240" cy="1134360"/>
        </p:xfrm>
        <a:graphic>
          <a:graphicData uri="http://schemas.openxmlformats.org/drawingml/2006/table">
            <a:tbl>
              <a:tblPr/>
              <a:tblGrid>
                <a:gridCol w="2576880"/>
                <a:gridCol w="2493360"/>
              </a:tblGrid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ail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ومياً      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eekl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سبوعياً  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onthl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شهرياً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arl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سنوياً   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7:29Z</dcterms:created>
  <dc:creator>user</dc:creator>
  <dc:description/>
  <dc:language>en-US</dc:language>
  <cp:lastModifiedBy>user</cp:lastModifiedBy>
  <dcterms:modified xsi:type="dcterms:W3CDTF">2007-07-13T00:17:29Z</dcterms:modified>
  <cp:revision>1</cp:revision>
  <dc:subject/>
  <dc:title>Comparing Adjectives مقارنة الصفات</dc:title>
</cp:coreProperties>
</file>