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AE8-5187-4466-8C0B-613C191D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87F-AF2A-4E90-9748-987073EC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11E-53D1-4441-A4ED-BFB15757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6C7-A4AC-42DB-BE1F-A5FDD878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DEAD-308B-4FCC-93D2-904984B9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A38B-632A-4EEF-AB89-7868FDCB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B752-65DA-4247-B552-7A49E1EA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2D0B-3F6E-4A3D-92E4-DA4F525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7C07-E1B3-4489-A757-C10CAB2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ACE3-FFFC-4E46-8377-976BD22E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D162-7883-4975-A053-9E628E35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672-7DD6-4ECD-9C80-7DF7E30B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46DE-6082-4639-9308-AC4BEF7B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E44D-9490-4680-9272-D50AAAD2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FB7E-F9B5-4EC0-9409-481D1FF7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5720-0CF3-4751-AEEB-4D56AC32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9B6D-63BD-4901-A534-65C71ABF0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7EA-9439-408B-9F16-3692F84D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E84-278C-49D6-9BFC-5EC2AD6E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10F-0387-4F30-B082-5E37385E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983-FFF7-4143-900F-EBD27C13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F5A-2480-4557-9842-138CADF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6CF-67F0-4E0B-9745-50ABB08D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F60-A61A-4552-8DCC-DF50F64C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1034-382A-42C3-9258-FFA4B1B963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E76F-ADEF-41B5-A579-5AB8C3D39A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liv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Taif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be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pp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d visi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akkah, 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uld have s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 Ka’ab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0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537560" y="2209680"/>
            <a:ext cx="7377480" cy="398880"/>
            <a:chOff x="1537560" y="2209680"/>
            <a:chExt cx="7377480" cy="398880"/>
          </a:xfrm>
        </p:grpSpPr>
        <p:sp>
          <p:nvSpPr>
            <p:cNvPr id="104" name=""/>
            <p:cNvSpPr/>
            <p:nvPr/>
          </p:nvSpPr>
          <p:spPr>
            <a:xfrm>
              <a:off x="2667240" y="2209680"/>
              <a:ext cx="6247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if + had +</a:t>
              </a:r>
              <a:r>
                <a:rPr b="0" lang="ar-SA" sz="18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1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would have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تصريف ثالث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+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7560" y="2209680"/>
              <a:ext cx="549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cc3300"/>
                  </a:solidFill>
                  <a:latin typeface="Tahoma"/>
                </a:rPr>
                <a:t>3)</a:t>
              </a:r>
              <a:r>
                <a:rPr b="0" lang="ar-SA" sz="2000" spc="-1" strike="noStrike">
                  <a:solidFill>
                    <a:srgbClr val="cc33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257800" y="2438280"/>
            <a:ext cx="37152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3" name=""/>
          <p:cNvGraphicFramePr/>
          <p:nvPr/>
        </p:nvGraphicFramePr>
        <p:xfrm>
          <a:off x="457200" y="2270160"/>
          <a:ext cx="8229240" cy="3018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the servant: “bring me a glass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rder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he servan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bring him a glass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on said to his father: “please , give me some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son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begg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his father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give him some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doctor said to me: “Drink a lot of wate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doctor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advised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 drink a lot of water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“Do not go to the market to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 to go to the market that nigh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تعجب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ة التعجب وضع بدلاً منها كلمة تدل عليها مثل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و ضع كلم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الكلمات و الضمائر و الأفعال حسب المعنى وكما سبق في الجملة الخبري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ملاحظة: كلمات التعجب إما حرف استفهام استعمل ككلمة تعجب مثل:                   وتعرفها بوجود علامة تعجب في نهاية الجمل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أو كلمة تعجب بذاتها مثل:                               و تعرفها بوجود علامة التعجب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61680" y="236232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8880" y="236232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5627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las, Hurrah, 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44956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76520" y="3429000"/>
          <a:ext cx="7086600" cy="909720"/>
        </p:xfrm>
        <a:graphic>
          <a:graphicData uri="http://schemas.openxmlformats.org/drawingml/2006/table">
            <a:tbl>
              <a:tblPr/>
              <a:tblGrid>
                <a:gridCol w="3543480"/>
                <a:gridCol w="3543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regret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ندم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nger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غضب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joy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بفرح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dmiration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إعجاب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sadness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بحزن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5105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ow, w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2270160"/>
          <a:ext cx="8229240" cy="172044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Alas! I will not find my mone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sorrow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not find his money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: “How foolish I have be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</a:t>
                      </a:r>
                      <a:r>
                        <a:rPr b="0" lang="en-US" sz="16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with regret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had been foolish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clama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تعج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ries and Nationalities</a:t>
            </a:r>
            <a:br>
              <a:rPr sz="2800"/>
            </a:b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بلدان و الجنسيات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في اللغة العربية عادة ما نضيف حرف ”ي“ لاسم البلد و ذلك لتكوين الجنسية فنقول مثلا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السعودية          :      سعود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أما في اللغة الإنجليزية فهناك خمس حروف محتملة للإضافة و هي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, n, ian, ish, 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ليس هناك قاعدة ثابتة لهذه الحروف.  وهذه بعض الأمثلة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14520" y="3732120"/>
          <a:ext cx="3095640" cy="2374920"/>
        </p:xfrm>
        <a:graphic>
          <a:graphicData uri="http://schemas.openxmlformats.org/drawingml/2006/table">
            <a:tbl>
              <a:tblPr/>
              <a:tblGrid>
                <a:gridCol w="1509840"/>
                <a:gridCol w="15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aud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man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ge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by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lest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lestin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ri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410080" y="3733920"/>
          <a:ext cx="3162600" cy="2444760"/>
        </p:xfrm>
        <a:graphic>
          <a:graphicData uri="http://schemas.openxmlformats.org/drawingml/2006/table">
            <a:tbl>
              <a:tblPr/>
              <a:tblGrid>
                <a:gridCol w="1581120"/>
                <a:gridCol w="158148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ation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it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rke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urkis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i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ba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bane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zer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wi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nditional “if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”لو“ الشرطية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668680"/>
            <a:ext cx="769608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يستخدم هذا التركيب في الحالة التي تكون فيها نتيجة الفعل حقيقة دائمة و ثابت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bo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ater, it becomes steam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(لو أننا غلينا الماء، فأنه يصبح بخارا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و هذه حقيقة ثابتة و ليست مقيدة بوقت معين لذا جاءت كلمة                  في المضارع و ليست في المستقب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766520" y="2209680"/>
            <a:ext cx="6310080" cy="398880"/>
            <a:chOff x="1766520" y="2209680"/>
            <a:chExt cx="6310080" cy="398880"/>
          </a:xfrm>
        </p:grpSpPr>
        <p:grpSp>
          <p:nvGrpSpPr>
            <p:cNvPr id="113" name=""/>
            <p:cNvGrpSpPr/>
            <p:nvPr/>
          </p:nvGrpSpPr>
          <p:grpSpPr>
            <a:xfrm>
              <a:off x="1766520" y="2209680"/>
              <a:ext cx="6310080" cy="398880"/>
              <a:chOff x="1766520" y="2209680"/>
              <a:chExt cx="6310080" cy="39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2712240" y="2209680"/>
                <a:ext cx="5364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present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66520" y="2209680"/>
                <a:ext cx="54936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4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181480" y="243828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8960" y="4191120"/>
            <a:ext cx="6920280" cy="398880"/>
            <a:chOff x="1758960" y="4191120"/>
            <a:chExt cx="6920280" cy="398880"/>
          </a:xfrm>
        </p:grpSpPr>
        <p:grpSp>
          <p:nvGrpSpPr>
            <p:cNvPr id="118" name=""/>
            <p:cNvGrpSpPr/>
            <p:nvPr/>
          </p:nvGrpSpPr>
          <p:grpSpPr>
            <a:xfrm>
              <a:off x="1758960" y="4191120"/>
              <a:ext cx="6920280" cy="398880"/>
              <a:chOff x="1758960" y="4191120"/>
              <a:chExt cx="6920280" cy="398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716200" y="4191120"/>
                <a:ext cx="59630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f +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present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مضارع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           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instructions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تعليمات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758960" y="4191120"/>
                <a:ext cx="564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5</a:t>
                </a:r>
                <a:r>
                  <a:rPr b="0" lang="en-US" sz="2000" spc="-1" strike="noStrike">
                    <a:solidFill>
                      <a:srgbClr val="cc3300"/>
                    </a:solidFill>
                    <a:latin typeface="Tahoma"/>
                  </a:rPr>
                  <a:t>)</a:t>
                </a:r>
                <a:r>
                  <a:rPr b="0" lang="ar-SA" sz="2000" spc="-1" strike="noStrike">
                    <a:solidFill>
                      <a:srgbClr val="cc3300"/>
                    </a:solidFill>
                    <a:latin typeface="Tahoma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181480" y="4419360"/>
              <a:ext cx="91440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990720" y="46483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the radio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it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   Or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urn the radio of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it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oo lou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Or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n’t drive a ca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f you 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nder 1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0760" y="3429000"/>
            <a:ext cx="9061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57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co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هذا النوع من الجمل يسمى أيضاً الكلام الغير مباش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irect 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four kinds of direct and Indirect Speech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أربعة أنواع من الكلام المباشر و غير المباشر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tatemen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جملة الخبر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Ques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السؤا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omman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الطلب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Exclam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 التعج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* لتحويل جملة خبرية من مباشر                 إلى كلام منقول                  نتبع الخطوات التالية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الاسم أو الضمير ثم فعل القو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ضع أداة الربط         و يمكننا الاستغناء عنها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ضمائر حسب المعنى و أهم هذه الضمائر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, sh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s, 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i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الأزمنة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- نحول بعض الكلمات إن وجدت كما يلي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الآن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حينئ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st nigh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night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a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ester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day befor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orr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following da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هنا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3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97320" y="28954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42920" y="243828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4680" y="24382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2666880"/>
            <a:ext cx="5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371600" y="3505320"/>
            <a:ext cx="3429000" cy="2361960"/>
            <a:chOff x="1371600" y="3505320"/>
            <a:chExt cx="3429000" cy="2361960"/>
          </a:xfrm>
        </p:grpSpPr>
        <p:sp>
          <p:nvSpPr>
            <p:cNvPr id="142" name=""/>
            <p:cNvSpPr/>
            <p:nvPr/>
          </p:nvSpPr>
          <p:spPr>
            <a:xfrm>
              <a:off x="1371600" y="350532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7339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5053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3400" y="3733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419112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9680" y="4419720"/>
              <a:ext cx="762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48006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50292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8280" y="52578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38280" y="548640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56386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38280" y="5867280"/>
              <a:ext cx="1295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جملة الخبرية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70160"/>
          <a:ext cx="8229240" cy="38001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ve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n Riyad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said that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they we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pp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id: "I have not been in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i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ot been to the school library recent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said to me: "I shall see you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tol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he would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هناك (.) بين جملتين لشخص متكلم واحد نضع بدلاً منها عبارة:                           والتي تعني أضاف:     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said to him: “We shall see you tomorrow.  We shall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tol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at 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e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im the next 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and added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hey 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isit Ahm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قو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says: “I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e says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ill cook the food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say: “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 say tha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are playing football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2936880" y="434340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nd added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2960" y="510552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say, s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* لتحويل سؤال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الفعل           يحدد زمن السؤال ، وهي كما ي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ضارع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t Perf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ماضي تا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إذا كان السؤال يحتوي على أداة سؤال تستخدم نفسها كأداة رب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تم تحويل السؤال إلى جملة خبرية و هو بتقديم الفاعل على الفعل المساعد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- يلاحظ تغيير بعض الضمائر حسب معنى الجمل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9520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9204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3505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8098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96120" y="304812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as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457200" y="2270160"/>
          <a:ext cx="8229240" cy="311436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is your na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nam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 are you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 teacher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hy I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t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is your boo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ook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ستخدم      كأداة ربط للسؤال الذي لا يحتوي على أداة سؤال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your school very larg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 asked m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was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larg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أو            احذفها و حول الفعل إلى زمن الماضي البسيط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o you li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I liv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he go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 asked hi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choo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7694280" y="388620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i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58960" y="449568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7240" y="44956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94" name=""/>
          <p:cNvGraphicFramePr/>
          <p:nvPr/>
        </p:nvGraphicFramePr>
        <p:xfrm>
          <a:off x="457200" y="2270160"/>
          <a:ext cx="8229240" cy="2444400"/>
        </p:xfrm>
        <a:graphic>
          <a:graphicData uri="http://schemas.openxmlformats.org/drawingml/2006/table">
            <a:tbl>
              <a:tblPr/>
              <a:tblGrid>
                <a:gridCol w="4114800"/>
                <a:gridCol w="4114440"/>
              </a:tblGrid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rect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باشر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irect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غير مباشر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 السؤال يبدأ أو يحتوي على            احذفها و حول الفعل إلى زمن الماضي البسيط (تصريف ثالث +          ).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 did you go yesterd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am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her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 had gone the day befo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d Ahmed buy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li asked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f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hmed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b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new ca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ذا كانت كلمة السؤال                      مضارع حينئذ لا تغير أزمنة الجملة إنما التغيير يكون فقط في الضمائر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is your English teache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ey ask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o m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glish teacher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are your mark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”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 asks m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at my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s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r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estion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سؤال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32800" y="2971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d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89400" y="29718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h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388620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sk, as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orted Speech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كلام المنقو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لتحويل جملة طلبية من مباشر                 إلى كلام منقول                  نتبع الخطوات التالية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نستخدم ( أمر                     ) إذا كان الكلام يقصد به الأم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رجاء                   ) إذا كان الكلام يقصد به الرجاء و التوس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نصح                     ) إذا كان الكلام يقصد به النصيحة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و نستخدم ( أخبر                     ) إذا كان الكلام موجه من شخص إلى شخص يساويه في المرتبة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الأقواس المفتوحة و ضع كلمة        قبل الفع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احذف كلمتي                     من الجملة إن وجدتا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غير بعض الكلمات و الضمائر حسب المعنى وكما سب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mand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طلب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61680" y="2743200"/>
            <a:ext cx="74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Dir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8880" y="274320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Re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28280" y="327672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or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47720" y="358128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beg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46280" y="3886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dvi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3760" y="419112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to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5029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5334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Please, 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8:46Z</dcterms:created>
  <dc:creator>user</dc:creator>
  <dc:description/>
  <dc:language>en-US</dc:language>
  <cp:lastModifiedBy>user</cp:lastModifiedBy>
  <dcterms:modified xsi:type="dcterms:W3CDTF">2007-07-13T00:18:47Z</dcterms:modified>
  <cp:revision>1</cp:revision>
  <dc:subject/>
  <dc:title>Conditional “if” ”لو“ الشرطية</dc:title>
</cp:coreProperties>
</file>