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34D-670C-4DF0-A697-6831B04C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32D6-A93C-4D60-860D-E82E801C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BBC0-3097-4D3C-9E4C-C604932E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3BF-146D-41ED-A10A-80FC6DE7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5D74-C15D-40F5-851D-C5A51A81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2D3B-0AFA-4FE3-8C64-716F90A3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9495-AFEB-422D-AF46-60C69BED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DCB6-6940-42A8-AF0E-C2B4234D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5AA6-4DDC-4858-B2CC-4B23BFA3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D7A5-7C1B-486D-865A-A764D438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2DA4-D5E6-4120-A043-E3C6EE2B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785-4CA9-4BD0-9A3D-D00F2EF7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9A7A-5937-4CF0-8765-0F19A0E9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469A-EBB0-4E50-9317-7AE9EDA9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7C92-C380-4CA0-BF18-F644F43C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C52B-C3AB-4809-A9ED-484637ABF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C673-B6EC-4A65-93BF-DE2ED5B0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E37A-AC25-4F4D-A409-FC471035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494-8661-431D-8977-B3B117F6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F3A-5F4F-477C-A545-3E864140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D7C6-0518-479C-8F21-BDCF1406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EEF-5CF9-48C0-90F5-20E70391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6B9B-66B9-4971-B50C-CCB76472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BAE9-B0E3-40EA-93D7-B784851C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B4B9-8319-4670-A275-AEDD97039FF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4F8C-059A-4CEF-94EC-6442E98F16E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liv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aif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be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visi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akkah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se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Ka’ab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0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537560" y="2209680"/>
            <a:ext cx="7377480" cy="398880"/>
            <a:chOff x="1537560" y="2209680"/>
            <a:chExt cx="7377480" cy="398880"/>
          </a:xfrm>
        </p:grpSpPr>
        <p:sp>
          <p:nvSpPr>
            <p:cNvPr id="104" name=""/>
            <p:cNvSpPr/>
            <p:nvPr/>
          </p:nvSpPr>
          <p:spPr>
            <a:xfrm>
              <a:off x="2667240" y="2209680"/>
              <a:ext cx="6247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f + had +</a:t>
              </a:r>
              <a:r>
                <a:rPr b="0" lang="ar-SA" sz="18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would have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+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37560" y="2209680"/>
              <a:ext cx="549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3)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257800" y="2438280"/>
            <a:ext cx="37152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3" name=""/>
          <p:cNvGraphicFramePr/>
          <p:nvPr/>
        </p:nvGraphicFramePr>
        <p:xfrm>
          <a:off x="457200" y="2270160"/>
          <a:ext cx="8229240" cy="30189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the servant: “bring me a glass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order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he servan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bring him a glass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on said to his father: “please , give me some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son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begg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his father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give him some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doctor said to me: “Drink a lot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doctor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advis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drink a lot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“Do not go to the market to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to go to the market that 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تعجب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ة التعجب وضع بدلاً منها كلمة تدل عليها مثل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و ضع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الكلمات و الضمائر و الأفعال حسب المعنى وكما سبق في الجملة الخبر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ملاحظة: كلمات التعجب إما حرف استفهام استعمل ككلمة تعجب مثل:                   وتعرفها بوجود علامة تعجب في نهاية الجمل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أو كلمة تعجب بذاتها مثل:                               و تعرفها بوجود علامة التعجب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61680" y="236232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8880" y="236232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55627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las, Hurrah, O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44956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6520" y="3429000"/>
          <a:ext cx="7086600" cy="90972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regre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ندم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nger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غضب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jo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فرح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dmiratio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إعجاب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adness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بحزن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371600" y="5105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ow, w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2270160"/>
          <a:ext cx="8229240" cy="17204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Alas! I will not find my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sorrow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not find his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How foolish I have be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regret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had been foolish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ries and Nationalities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بلدان و الجنسيات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اللغة العربية عادة ما نضيف حرف ”ي“ لاسم البلد و ذلك لتكوين الجنسية فنقول مثلا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سعودية          :      سعود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ما في اللغة الإنجليزية فهناك خمس حروف محتملة للإضافة و هي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, n, ian, ish, 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ليس هناك قاعدة ثابتة لهذه الحروف.  وهذه بعض الأمثلة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14520" y="3732120"/>
          <a:ext cx="3095640" cy="2374920"/>
        </p:xfrm>
        <a:graphic>
          <a:graphicData uri="http://schemas.openxmlformats.org/drawingml/2006/table">
            <a:tbl>
              <a:tblPr/>
              <a:tblGrid>
                <a:gridCol w="1509840"/>
                <a:gridCol w="15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udi Arab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u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ma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e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ge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by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st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lestin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410080" y="3733920"/>
          <a:ext cx="3162600" cy="2444760"/>
        </p:xfrm>
        <a:graphic>
          <a:graphicData uri="http://schemas.openxmlformats.org/drawingml/2006/table">
            <a:tbl>
              <a:tblPr/>
              <a:tblGrid>
                <a:gridCol w="1581120"/>
                <a:gridCol w="15814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t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it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k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urk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i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ban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ba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en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tzer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wi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2668680"/>
            <a:ext cx="76960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يستخدم هذا التركيب في الحالة التي تكون فيها نتيجة الفعل حقيقة دائمة و ثابت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boi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ater, it becomes stea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(لو أننا غلينا الماء، فأنه يصبح بخارا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هذه حقيقة ثابتة و ليست مقيدة بوقت معين لذا جاءت كلمة                  في المضارع و ليست في المستقب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66520" y="2209680"/>
            <a:ext cx="6310080" cy="398880"/>
            <a:chOff x="1766520" y="2209680"/>
            <a:chExt cx="6310080" cy="398880"/>
          </a:xfrm>
        </p:grpSpPr>
        <p:grpSp>
          <p:nvGrpSpPr>
            <p:cNvPr id="113" name=""/>
            <p:cNvGrpSpPr/>
            <p:nvPr/>
          </p:nvGrpSpPr>
          <p:grpSpPr>
            <a:xfrm>
              <a:off x="1766520" y="2209680"/>
              <a:ext cx="6310080" cy="398880"/>
              <a:chOff x="1766520" y="2209680"/>
              <a:chExt cx="6310080" cy="398880"/>
            </a:xfrm>
          </p:grpSpPr>
          <p:sp>
            <p:nvSpPr>
              <p:cNvPr id="114" name=""/>
              <p:cNvSpPr/>
              <p:nvPr/>
            </p:nvSpPr>
            <p:spPr>
              <a:xfrm>
                <a:off x="2712240" y="2209680"/>
                <a:ext cx="5364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present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66520" y="2209680"/>
                <a:ext cx="549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4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181480" y="243828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8960" y="4191120"/>
            <a:ext cx="6920280" cy="398880"/>
            <a:chOff x="1758960" y="4191120"/>
            <a:chExt cx="6920280" cy="398880"/>
          </a:xfrm>
        </p:grpSpPr>
        <p:grpSp>
          <p:nvGrpSpPr>
            <p:cNvPr id="118" name=""/>
            <p:cNvGrpSpPr/>
            <p:nvPr/>
          </p:nvGrpSpPr>
          <p:grpSpPr>
            <a:xfrm>
              <a:off x="1758960" y="4191120"/>
              <a:ext cx="6920280" cy="398880"/>
              <a:chOff x="1758960" y="4191120"/>
              <a:chExt cx="6920280" cy="398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716200" y="4191120"/>
                <a:ext cx="59630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nstructions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تعليمات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758960" y="4191120"/>
                <a:ext cx="564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5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181480" y="441936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990720" y="46483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 radio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it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Or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the radio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it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Or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0760" y="3429000"/>
            <a:ext cx="9061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co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ا النوع من الجمل يسمى أيضاً الكلام الغير مباش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direct 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four kinds of direct and Indirect Speec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أربعة أنواع من الكلام المباشر و غير المباش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tatemen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جملة الخبر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السؤا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mmand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الطلب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xclama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التعج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* لتحويل جملة خبرية من مباشر                 إلى كلام منقول                  نتبع الخطوات التالية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الاسم أو الضمير ثم فعل القو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أداة الربط         و يمكننا الاستغناء عنها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ضمائر حسب المعنى و أهم هذه الضمائر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, sh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, 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أزمنة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بعض الكلمات إن وجدت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الآ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حينئ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nigh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night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ester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day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following 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3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97320" y="289548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42920" y="24382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4680" y="243828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2666880"/>
            <a:ext cx="5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71600" y="3505320"/>
            <a:ext cx="3429000" cy="2361960"/>
            <a:chOff x="1371600" y="3505320"/>
            <a:chExt cx="3429000" cy="2361960"/>
          </a:xfrm>
        </p:grpSpPr>
        <p:sp>
          <p:nvSpPr>
            <p:cNvPr id="142" name=""/>
            <p:cNvSpPr/>
            <p:nvPr/>
          </p:nvSpPr>
          <p:spPr>
            <a:xfrm>
              <a:off x="1371600" y="35053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880" y="37339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35053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37339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14600" y="41911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9680" y="441972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8280" y="48006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50292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8280" y="52578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38280" y="54864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56386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38280" y="58672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2270160"/>
          <a:ext cx="8229240" cy="38001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ve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said that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they we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id: "I have not been in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ot been to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"I shall see you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هناك (.) بين جملتين لشخص متكلم واحد نضع بدلاً منها عبارة:                           والتي تعني أضاف: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said to him: “We shall see you tomorrow.  We shall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tol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m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and adde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قو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ys: “I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ys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say: “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e say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2936880" y="43434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nd added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2960" y="510552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say, s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* لتحويل سؤال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الفعل           يحدد زمن السؤال ، وهي كما ي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إذا كان السؤال يحتوي على أداة سؤال تستخدم نفسها كأداة رب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تم تحويل السؤال إلى جملة خبرية و هو بتقديم الفاعل على الفعل المساعد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لاحظ تغيير بعض الضمائر حسب معنى الجمل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9520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9204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505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809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96120" y="3048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sk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457200" y="2270160"/>
          <a:ext cx="8229240" cy="31143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your na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am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 are you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teacher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hy I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your boo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كأداة ربط للسؤال الذي لا يحتوي على أداة سؤال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your school very larg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larg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أو            احذفها و حول الفعل إلى زمن الماضي البسيط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o you li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I 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he go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 aske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n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769428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58960" y="449568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7240" y="44956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457200" y="2270160"/>
          <a:ext cx="8229240" cy="244440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    احذفها و حول الفعل إلى زمن الماضي البسيط (تصريف ثالث +          )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id you go yester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m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 had gone the day befo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 Ahmed buy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ed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b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سؤا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is your English teache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ask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o 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teacher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your mark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s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at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s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32800" y="29718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89400" y="29718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h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0" y="388620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sk, 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طلبية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نستخدم ( أمر                     ) إذا كان الكلام يقصد به الأم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رجاء                   ) إذا كان الكلام يقصد به الرجاء و التوس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نصح                     ) إذا كان الكلام يقصد به النصيح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أخبر                     ) إذا كان الكلام موجه من شخص إلى شخص يساويه في المرتب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المفتوحة و ضع كلمة        قبل الفع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تي                     من الجملة إن وجدتا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بعض الكلمات و الضمائر حسب المعنى وكما سب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6168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888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28280" y="32767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orde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47720" y="358128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gg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46280" y="3886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advi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3760" y="41911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to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5029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5334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Please, 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8:46Z</dcterms:created>
  <dc:creator>user</dc:creator>
  <dc:description/>
  <dc:language>en-US</dc:language>
  <cp:lastModifiedBy>user</cp:lastModifiedBy>
  <dcterms:modified xsi:type="dcterms:W3CDTF">2007-07-13T00:18:47Z</dcterms:modified>
  <cp:revision>1</cp:revision>
  <dc:subject/>
  <dc:title>Conditional “if” ”لو“ الشرطية</dc:title>
</cp:coreProperties>
</file>